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cashreg.wav" ContentType="audio/x-wav"/>
  <Override PartName="/ppt/media/voltage.wav" ContentType="audio/x-wav"/>
  <Override PartName="/ppt/media/image3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explode.wav" ContentType="audio/x-wav"/>
  <Override PartName="/ppt/media/suction.wav" ContentType="audio/x-wav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C760-BCC8-499C-8BDE-F98D0B24B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BF57-2117-4045-886D-13D494A5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2065-22A6-46AD-8BE4-801E0A689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CF93-BA68-491D-8D38-BA34375C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552B-0E48-416C-A1E7-260B2DFE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3E3F-D285-4D5B-A0CD-0ABCA5DA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C8ED-C6AB-48AB-A885-C7CB20BB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9718-2C09-42B7-A305-7B87D7C5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1C2E-09BC-4C8A-A7F8-FA4C0D8C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DA3F-A6C3-4CD1-8746-FE49B0D4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600B-5FFD-464E-A727-E62BFFB7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0FC7-477C-4F37-AD5F-17699A8E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DDF6-81A5-49DD-A0D6-81EEA223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F2E6-9302-442F-8EFC-B7252D8C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FDA2-BA79-402E-90C1-A87323C1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763A-9C2A-4B3C-959C-0D323A77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255E-24AE-485E-A672-5A7A90C33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DC50-0C6D-4636-AFF4-9752076F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0BDB-E908-40F7-8B33-5CED75A4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2DE2-240F-4D6E-AA6F-A43FBBD5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3F33-8E6E-4931-80BD-D804B1FB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AE32-50CE-43DC-9D6E-E6E9CDEB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CF54-85C0-4D24-A542-71F59239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1F00-CAC1-40FE-A348-A01AB77E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F742-D61D-4B72-93A4-DF955AC6328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8CEB-C068-4C70-B041-2F7CC69C54D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audio" Target="../media/suction.wav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audio" Target="../media/voltage.wav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00200" y="2438280"/>
            <a:ext cx="6043680" cy="1757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Unit 12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Solving 2-Step Equations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09880" y="4419720"/>
            <a:ext cx="159408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400800" cy="762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arm-up: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761760" y="2514600"/>
            <a:ext cx="74674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18 + 4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27 - (-3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9(2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/-4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1724040" y="32320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4787" y="8979"/>
                </a:moveTo>
                <a:lnTo>
                  <a:pt x="4787" y="897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28840" y="2009880"/>
            <a:ext cx="4268520" cy="1731960"/>
          </a:xfrm>
          <a:custGeom>
            <a:avLst/>
            <a:gdLst/>
            <a:ahLst/>
            <a:rect l="l" t="t" r="r" b="b"/>
            <a:pathLst>
              <a:path w="11857" h="4813">
                <a:moveTo>
                  <a:pt x="4018" y="6375"/>
                </a:moveTo>
                <a:cubicBezTo>
                  <a:pt x="4018" y="6338"/>
                  <a:pt x="4020" y="6758"/>
                  <a:pt x="4018" y="6796"/>
                </a:cubicBezTo>
                <a:cubicBezTo>
                  <a:pt x="4008" y="6950"/>
                  <a:pt x="3999" y="7118"/>
                  <a:pt x="3969" y="7268"/>
                </a:cubicBezTo>
                <a:cubicBezTo>
                  <a:pt x="3969" y="7260"/>
                  <a:pt x="3969" y="7251"/>
                  <a:pt x="3969" y="7243"/>
                </a:cubicBezTo>
              </a:path>
              <a:path w="11857" h="4813">
                <a:moveTo>
                  <a:pt x="4366" y="6400"/>
                </a:moveTo>
                <a:cubicBezTo>
                  <a:pt x="4397" y="6549"/>
                  <a:pt x="4406" y="6717"/>
                  <a:pt x="4390" y="6871"/>
                </a:cubicBezTo>
                <a:cubicBezTo>
                  <a:pt x="4382" y="6912"/>
                  <a:pt x="4374" y="6954"/>
                  <a:pt x="4366" y="6995"/>
                </a:cubicBezTo>
              </a:path>
              <a:path w="11857" h="4813">
                <a:moveTo>
                  <a:pt x="4911" y="6276"/>
                </a:moveTo>
                <a:cubicBezTo>
                  <a:pt x="4858" y="6361"/>
                  <a:pt x="4790" y="6436"/>
                  <a:pt x="4738" y="6524"/>
                </a:cubicBezTo>
                <a:cubicBezTo>
                  <a:pt x="4730" y="6540"/>
                  <a:pt x="4721" y="6557"/>
                  <a:pt x="4713" y="6573"/>
                </a:cubicBezTo>
                <a:cubicBezTo>
                  <a:pt x="4802" y="6603"/>
                  <a:pt x="4959" y="6630"/>
                  <a:pt x="5011" y="6722"/>
                </a:cubicBezTo>
                <a:cubicBezTo>
                  <a:pt x="5055" y="6800"/>
                  <a:pt x="4973" y="6892"/>
                  <a:pt x="4936" y="6945"/>
                </a:cubicBezTo>
                <a:cubicBezTo>
                  <a:pt x="4832" y="6871"/>
                  <a:pt x="4854" y="6793"/>
                  <a:pt x="4887" y="6672"/>
                </a:cubicBezTo>
                <a:cubicBezTo>
                  <a:pt x="4898" y="6630"/>
                  <a:pt x="4930" y="6475"/>
                  <a:pt x="4961" y="6449"/>
                </a:cubicBezTo>
                <a:cubicBezTo>
                  <a:pt x="4969" y="6449"/>
                  <a:pt x="4978" y="6449"/>
                  <a:pt x="4986" y="6449"/>
                </a:cubicBezTo>
              </a:path>
              <a:path w="11857" h="4813">
                <a:moveTo>
                  <a:pt x="5507" y="5904"/>
                </a:moveTo>
                <a:cubicBezTo>
                  <a:pt x="5507" y="6146"/>
                  <a:pt x="5505" y="6382"/>
                  <a:pt x="5482" y="6623"/>
                </a:cubicBezTo>
                <a:cubicBezTo>
                  <a:pt x="5468" y="6766"/>
                  <a:pt x="5442" y="6903"/>
                  <a:pt x="5432" y="7045"/>
                </a:cubicBezTo>
              </a:path>
              <a:path w="11857" h="4813">
                <a:moveTo>
                  <a:pt x="6697" y="6325"/>
                </a:moveTo>
                <a:cubicBezTo>
                  <a:pt x="6666" y="6315"/>
                  <a:pt x="6658" y="6307"/>
                  <a:pt x="6648" y="6276"/>
                </a:cubicBezTo>
                <a:cubicBezTo>
                  <a:pt x="6618" y="6393"/>
                  <a:pt x="6616" y="6541"/>
                  <a:pt x="6598" y="6672"/>
                </a:cubicBezTo>
                <a:cubicBezTo>
                  <a:pt x="6586" y="6765"/>
                  <a:pt x="6548" y="6989"/>
                  <a:pt x="6548" y="6896"/>
                </a:cubicBezTo>
              </a:path>
              <a:path w="11857" h="4813">
                <a:moveTo>
                  <a:pt x="6921" y="6325"/>
                </a:moveTo>
                <a:cubicBezTo>
                  <a:pt x="6921" y="6429"/>
                  <a:pt x="6905" y="6521"/>
                  <a:pt x="6896" y="6623"/>
                </a:cubicBezTo>
                <a:cubicBezTo>
                  <a:pt x="6963" y="6593"/>
                  <a:pt x="7088" y="6569"/>
                  <a:pt x="7144" y="6524"/>
                </a:cubicBezTo>
                <a:cubicBezTo>
                  <a:pt x="7144" y="6516"/>
                  <a:pt x="7144" y="6507"/>
                  <a:pt x="7144" y="6499"/>
                </a:cubicBezTo>
              </a:path>
              <a:path w="11857" h="4813">
                <a:moveTo>
                  <a:pt x="7169" y="6251"/>
                </a:moveTo>
                <a:cubicBezTo>
                  <a:pt x="7147" y="6380"/>
                  <a:pt x="7128" y="6515"/>
                  <a:pt x="7119" y="6648"/>
                </a:cubicBezTo>
                <a:cubicBezTo>
                  <a:pt x="7119" y="6732"/>
                  <a:pt x="7126" y="6752"/>
                  <a:pt x="7094" y="6796"/>
                </a:cubicBezTo>
              </a:path>
              <a:path w="11857" h="4813">
                <a:moveTo>
                  <a:pt x="7392" y="6152"/>
                </a:moveTo>
                <a:cubicBezTo>
                  <a:pt x="7392" y="6420"/>
                  <a:pt x="7380" y="6660"/>
                  <a:pt x="7317" y="6921"/>
                </a:cubicBezTo>
                <a:cubicBezTo>
                  <a:pt x="7298" y="6978"/>
                  <a:pt x="7290" y="6985"/>
                  <a:pt x="7293" y="7020"/>
                </a:cubicBezTo>
              </a:path>
              <a:path w="11857" h="4813">
                <a:moveTo>
                  <a:pt x="9376" y="5705"/>
                </a:moveTo>
                <a:cubicBezTo>
                  <a:pt x="9362" y="5861"/>
                  <a:pt x="9355" y="6021"/>
                  <a:pt x="9327" y="6176"/>
                </a:cubicBezTo>
                <a:cubicBezTo>
                  <a:pt x="9306" y="6259"/>
                  <a:pt x="9298" y="6274"/>
                  <a:pt x="9302" y="6325"/>
                </a:cubicBezTo>
              </a:path>
              <a:path w="11857" h="4813">
                <a:moveTo>
                  <a:pt x="9773" y="5581"/>
                </a:moveTo>
                <a:cubicBezTo>
                  <a:pt x="9726" y="5634"/>
                  <a:pt x="9594" y="5766"/>
                  <a:pt x="9649" y="5854"/>
                </a:cubicBezTo>
                <a:cubicBezTo>
                  <a:pt x="9708" y="5948"/>
                  <a:pt x="9947" y="5914"/>
                  <a:pt x="9971" y="6052"/>
                </a:cubicBezTo>
                <a:cubicBezTo>
                  <a:pt x="10001" y="6225"/>
                  <a:pt x="9795" y="6216"/>
                  <a:pt x="9699" y="6201"/>
                </a:cubicBezTo>
                <a:cubicBezTo>
                  <a:pt x="9686" y="6047"/>
                  <a:pt x="9766" y="5954"/>
                  <a:pt x="9872" y="5829"/>
                </a:cubicBezTo>
                <a:cubicBezTo>
                  <a:pt x="9911" y="5790"/>
                  <a:pt x="9928" y="5758"/>
                  <a:pt x="9922" y="5804"/>
                </a:cubicBezTo>
              </a:path>
              <a:path w="11857" h="4813">
                <a:moveTo>
                  <a:pt x="9079" y="6772"/>
                </a:moveTo>
                <a:cubicBezTo>
                  <a:pt x="9175" y="6723"/>
                  <a:pt x="9206" y="6707"/>
                  <a:pt x="9277" y="6697"/>
                </a:cubicBezTo>
              </a:path>
              <a:path w="11857" h="4813">
                <a:moveTo>
                  <a:pt x="9947" y="6598"/>
                </a:moveTo>
                <a:cubicBezTo>
                  <a:pt x="9901" y="6632"/>
                  <a:pt x="9884" y="6702"/>
                  <a:pt x="9872" y="6772"/>
                </a:cubicBezTo>
                <a:cubicBezTo>
                  <a:pt x="10049" y="6759"/>
                  <a:pt x="10096" y="6721"/>
                  <a:pt x="10220" y="6598"/>
                </a:cubicBezTo>
              </a:path>
              <a:path w="11857" h="4813">
                <a:moveTo>
                  <a:pt x="10220" y="6400"/>
                </a:moveTo>
                <a:cubicBezTo>
                  <a:pt x="10162" y="6438"/>
                  <a:pt x="10139" y="6632"/>
                  <a:pt x="10120" y="6722"/>
                </a:cubicBezTo>
                <a:cubicBezTo>
                  <a:pt x="10100" y="6823"/>
                  <a:pt x="10103" y="6843"/>
                  <a:pt x="10071" y="6896"/>
                </a:cubicBezTo>
              </a:path>
              <a:path w="11857" h="4813">
                <a:moveTo>
                  <a:pt x="9153" y="7268"/>
                </a:moveTo>
                <a:cubicBezTo>
                  <a:pt x="9462" y="7152"/>
                  <a:pt x="9774" y="7045"/>
                  <a:pt x="10096" y="6970"/>
                </a:cubicBezTo>
                <a:cubicBezTo>
                  <a:pt x="10264" y="6931"/>
                  <a:pt x="10422" y="6905"/>
                  <a:pt x="10592" y="6896"/>
                </a:cubicBezTo>
              </a:path>
              <a:path w="11857" h="4813">
                <a:moveTo>
                  <a:pt x="9674" y="7392"/>
                </a:moveTo>
                <a:cubicBezTo>
                  <a:pt x="9712" y="7526"/>
                  <a:pt x="9606" y="7741"/>
                  <a:pt x="9575" y="7888"/>
                </a:cubicBezTo>
                <a:cubicBezTo>
                  <a:pt x="9555" y="7981"/>
                  <a:pt x="9526" y="8099"/>
                  <a:pt x="9500" y="8111"/>
                </a:cubicBezTo>
              </a:path>
              <a:path w="11857" h="4813">
                <a:moveTo>
                  <a:pt x="9922" y="7441"/>
                </a:moveTo>
                <a:cubicBezTo>
                  <a:pt x="9972" y="7524"/>
                  <a:pt x="9947" y="7582"/>
                  <a:pt x="9897" y="7665"/>
                </a:cubicBezTo>
                <a:cubicBezTo>
                  <a:pt x="9851" y="7734"/>
                  <a:pt x="9838" y="7754"/>
                  <a:pt x="9798" y="7789"/>
                </a:cubicBezTo>
                <a:cubicBezTo>
                  <a:pt x="9938" y="7731"/>
                  <a:pt x="10066" y="7695"/>
                  <a:pt x="10220" y="7689"/>
                </a:cubicBezTo>
                <a:cubicBezTo>
                  <a:pt x="10261" y="7689"/>
                  <a:pt x="10269" y="7689"/>
                  <a:pt x="10294" y="7689"/>
                </a:cubicBezTo>
              </a:path>
              <a:path w="11857" h="4813">
                <a:moveTo>
                  <a:pt x="10368" y="7169"/>
                </a:moveTo>
                <a:cubicBezTo>
                  <a:pt x="10302" y="7370"/>
                  <a:pt x="10276" y="7579"/>
                  <a:pt x="10244" y="7789"/>
                </a:cubicBezTo>
                <a:cubicBezTo>
                  <a:pt x="10231" y="7875"/>
                  <a:pt x="10209" y="7954"/>
                  <a:pt x="10195" y="8037"/>
                </a:cubicBezTo>
              </a:path>
              <a:path w="11857" h="4813">
                <a:moveTo>
                  <a:pt x="9004" y="6077"/>
                </a:moveTo>
                <a:cubicBezTo>
                  <a:pt x="9027" y="6100"/>
                  <a:pt x="9035" y="6104"/>
                  <a:pt x="9029" y="6127"/>
                </a:cubicBezTo>
                <a:cubicBezTo>
                  <a:pt x="8878" y="6127"/>
                  <a:pt x="8725" y="6117"/>
                  <a:pt x="8582" y="6152"/>
                </a:cubicBezTo>
                <a:cubicBezTo>
                  <a:pt x="8535" y="6164"/>
                  <a:pt x="8474" y="6193"/>
                  <a:pt x="8434" y="6201"/>
                </a:cubicBezTo>
                <a:cubicBezTo>
                  <a:pt x="8258" y="6238"/>
                  <a:pt x="8028" y="6209"/>
                  <a:pt x="7863" y="6226"/>
                </a:cubicBezTo>
                <a:cubicBezTo>
                  <a:pt x="7676" y="6246"/>
                  <a:pt x="7474" y="6235"/>
                  <a:pt x="7293" y="6251"/>
                </a:cubicBezTo>
                <a:cubicBezTo>
                  <a:pt x="7195" y="6260"/>
                  <a:pt x="7118" y="6311"/>
                  <a:pt x="7020" y="6325"/>
                </a:cubicBezTo>
                <a:cubicBezTo>
                  <a:pt x="6928" y="6339"/>
                  <a:pt x="6900" y="6354"/>
                  <a:pt x="6821" y="6400"/>
                </a:cubicBezTo>
                <a:cubicBezTo>
                  <a:pt x="6742" y="6446"/>
                  <a:pt x="6670" y="6497"/>
                  <a:pt x="6598" y="6548"/>
                </a:cubicBezTo>
                <a:cubicBezTo>
                  <a:pt x="6564" y="6572"/>
                  <a:pt x="6510" y="6593"/>
                  <a:pt x="6474" y="6623"/>
                </a:cubicBezTo>
                <a:cubicBezTo>
                  <a:pt x="6429" y="6661"/>
                  <a:pt x="6399" y="6668"/>
                  <a:pt x="6350" y="6697"/>
                </a:cubicBezTo>
                <a:cubicBezTo>
                  <a:pt x="6299" y="6727"/>
                  <a:pt x="6253" y="6766"/>
                  <a:pt x="6201" y="6796"/>
                </a:cubicBezTo>
                <a:cubicBezTo>
                  <a:pt x="6129" y="6837"/>
                  <a:pt x="6089" y="6873"/>
                  <a:pt x="6028" y="6921"/>
                </a:cubicBezTo>
                <a:cubicBezTo>
                  <a:pt x="5947" y="6984"/>
                  <a:pt x="5858" y="7035"/>
                  <a:pt x="5779" y="7094"/>
                </a:cubicBezTo>
                <a:cubicBezTo>
                  <a:pt x="5748" y="7117"/>
                  <a:pt x="5721" y="7127"/>
                  <a:pt x="5705" y="7144"/>
                </a:cubicBezTo>
                <a:cubicBezTo>
                  <a:pt x="5682" y="7170"/>
                  <a:pt x="5673" y="7207"/>
                  <a:pt x="5631" y="7243"/>
                </a:cubicBezTo>
                <a:cubicBezTo>
                  <a:pt x="5623" y="7251"/>
                  <a:pt x="5614" y="7260"/>
                  <a:pt x="5606" y="7268"/>
                </a:cubicBezTo>
              </a:path>
              <a:path w="11857" h="4813">
                <a:moveTo>
                  <a:pt x="5730" y="6896"/>
                </a:moveTo>
                <a:cubicBezTo>
                  <a:pt x="5730" y="6976"/>
                  <a:pt x="5714" y="7071"/>
                  <a:pt x="5680" y="7144"/>
                </a:cubicBezTo>
                <a:cubicBezTo>
                  <a:pt x="5652" y="7205"/>
                  <a:pt x="5619" y="7230"/>
                  <a:pt x="5606" y="7293"/>
                </a:cubicBezTo>
                <a:cubicBezTo>
                  <a:pt x="5692" y="7307"/>
                  <a:pt x="5765" y="7337"/>
                  <a:pt x="5854" y="7342"/>
                </a:cubicBezTo>
                <a:cubicBezTo>
                  <a:pt x="5879" y="7342"/>
                  <a:pt x="5887" y="7342"/>
                  <a:pt x="5904" y="7342"/>
                </a:cubicBezTo>
              </a:path>
              <a:path w="11857" h="4813">
                <a:moveTo>
                  <a:pt x="8855" y="7640"/>
                </a:moveTo>
                <a:cubicBezTo>
                  <a:pt x="8786" y="7640"/>
                  <a:pt x="8967" y="7665"/>
                  <a:pt x="8979" y="7665"/>
                </a:cubicBezTo>
                <a:cubicBezTo>
                  <a:pt x="9037" y="7665"/>
                  <a:pt x="9046" y="7665"/>
                  <a:pt x="9079" y="7665"/>
                </a:cubicBezTo>
              </a:path>
              <a:path w="11857" h="4813">
                <a:moveTo>
                  <a:pt x="8855" y="8384"/>
                </a:moveTo>
                <a:cubicBezTo>
                  <a:pt x="8963" y="8401"/>
                  <a:pt x="9069" y="8410"/>
                  <a:pt x="9178" y="8434"/>
                </a:cubicBezTo>
                <a:cubicBezTo>
                  <a:pt x="9344" y="8470"/>
                  <a:pt x="9483" y="8465"/>
                  <a:pt x="9649" y="8458"/>
                </a:cubicBezTo>
                <a:cubicBezTo>
                  <a:pt x="9819" y="8451"/>
                  <a:pt x="9939" y="8390"/>
                  <a:pt x="10096" y="8359"/>
                </a:cubicBezTo>
                <a:cubicBezTo>
                  <a:pt x="10208" y="8337"/>
                  <a:pt x="10306" y="8323"/>
                  <a:pt x="10418" y="8285"/>
                </a:cubicBezTo>
                <a:cubicBezTo>
                  <a:pt x="10494" y="8260"/>
                  <a:pt x="10666" y="8201"/>
                  <a:pt x="10716" y="8136"/>
                </a:cubicBezTo>
                <a:cubicBezTo>
                  <a:pt x="10775" y="8060"/>
                  <a:pt x="10787" y="7903"/>
                  <a:pt x="10790" y="7813"/>
                </a:cubicBezTo>
                <a:cubicBezTo>
                  <a:pt x="10793" y="7705"/>
                  <a:pt x="10770" y="7593"/>
                  <a:pt x="10740" y="7491"/>
                </a:cubicBezTo>
                <a:cubicBezTo>
                  <a:pt x="10717" y="7414"/>
                  <a:pt x="10675" y="7324"/>
                  <a:pt x="10616" y="7268"/>
                </a:cubicBezTo>
                <a:cubicBezTo>
                  <a:pt x="10568" y="7222"/>
                  <a:pt x="10495" y="7196"/>
                  <a:pt x="10443" y="7169"/>
                </a:cubicBezTo>
                <a:cubicBezTo>
                  <a:pt x="10371" y="7132"/>
                  <a:pt x="10300" y="7105"/>
                  <a:pt x="10220" y="7094"/>
                </a:cubicBezTo>
                <a:cubicBezTo>
                  <a:pt x="10116" y="7079"/>
                  <a:pt x="10001" y="7072"/>
                  <a:pt x="9897" y="7069"/>
                </a:cubicBezTo>
                <a:cubicBezTo>
                  <a:pt x="9671" y="7062"/>
                  <a:pt x="9447" y="7074"/>
                  <a:pt x="9227" y="7094"/>
                </a:cubicBezTo>
                <a:cubicBezTo>
                  <a:pt x="9108" y="7105"/>
                  <a:pt x="8996" y="7116"/>
                  <a:pt x="8880" y="7144"/>
                </a:cubicBezTo>
                <a:cubicBezTo>
                  <a:pt x="8786" y="7167"/>
                  <a:pt x="8734" y="7193"/>
                  <a:pt x="8657" y="7243"/>
                </a:cubicBezTo>
                <a:cubicBezTo>
                  <a:pt x="8584" y="7291"/>
                  <a:pt x="8515" y="7348"/>
                  <a:pt x="8458" y="7417"/>
                </a:cubicBezTo>
                <a:cubicBezTo>
                  <a:pt x="8386" y="7505"/>
                  <a:pt x="8386" y="7542"/>
                  <a:pt x="8359" y="7640"/>
                </a:cubicBezTo>
                <a:cubicBezTo>
                  <a:pt x="8327" y="7754"/>
                  <a:pt x="8372" y="7849"/>
                  <a:pt x="8409" y="7962"/>
                </a:cubicBezTo>
                <a:cubicBezTo>
                  <a:pt x="8434" y="8039"/>
                  <a:pt x="8481" y="8100"/>
                  <a:pt x="8533" y="8161"/>
                </a:cubicBezTo>
                <a:cubicBezTo>
                  <a:pt x="8593" y="8231"/>
                  <a:pt x="8616" y="8245"/>
                  <a:pt x="8706" y="8285"/>
                </a:cubicBezTo>
                <a:cubicBezTo>
                  <a:pt x="8755" y="8306"/>
                  <a:pt x="8803" y="8326"/>
                  <a:pt x="8855" y="8334"/>
                </a:cubicBezTo>
                <a:cubicBezTo>
                  <a:pt x="8933" y="8345"/>
                  <a:pt x="9021" y="8312"/>
                  <a:pt x="9103" y="8310"/>
                </a:cubicBezTo>
                <a:cubicBezTo>
                  <a:pt x="9162" y="8308"/>
                  <a:pt x="9197" y="8299"/>
                  <a:pt x="9252" y="8285"/>
                </a:cubicBezTo>
              </a:path>
              <a:path w="11857" h="4813">
                <a:moveTo>
                  <a:pt x="9674" y="9203"/>
                </a:moveTo>
                <a:cubicBezTo>
                  <a:pt x="9692" y="9149"/>
                  <a:pt x="9765" y="9192"/>
                  <a:pt x="9823" y="9178"/>
                </a:cubicBezTo>
                <a:cubicBezTo>
                  <a:pt x="9863" y="9158"/>
                  <a:pt x="9869" y="9149"/>
                  <a:pt x="9897" y="9153"/>
                </a:cubicBezTo>
              </a:path>
              <a:path w="11857" h="4813">
                <a:moveTo>
                  <a:pt x="10368" y="8930"/>
                </a:moveTo>
                <a:cubicBezTo>
                  <a:pt x="10478" y="8912"/>
                  <a:pt x="10540" y="8891"/>
                  <a:pt x="10616" y="9004"/>
                </a:cubicBezTo>
                <a:cubicBezTo>
                  <a:pt x="10718" y="9155"/>
                  <a:pt x="10514" y="9252"/>
                  <a:pt x="10418" y="9302"/>
                </a:cubicBezTo>
                <a:cubicBezTo>
                  <a:pt x="10328" y="9346"/>
                  <a:pt x="10306" y="9366"/>
                  <a:pt x="10244" y="9327"/>
                </a:cubicBezTo>
                <a:cubicBezTo>
                  <a:pt x="10268" y="9230"/>
                  <a:pt x="10346" y="9146"/>
                  <a:pt x="10468" y="9178"/>
                </a:cubicBezTo>
                <a:cubicBezTo>
                  <a:pt x="10595" y="9212"/>
                  <a:pt x="10616" y="9291"/>
                  <a:pt x="10616" y="9401"/>
                </a:cubicBezTo>
              </a:path>
              <a:path w="11857" h="4813">
                <a:moveTo>
                  <a:pt x="10740" y="8880"/>
                </a:moveTo>
                <a:cubicBezTo>
                  <a:pt x="10851" y="8880"/>
                  <a:pt x="10952" y="8858"/>
                  <a:pt x="11063" y="8855"/>
                </a:cubicBezTo>
                <a:cubicBezTo>
                  <a:pt x="11160" y="8852"/>
                  <a:pt x="11181" y="8848"/>
                  <a:pt x="11162" y="8930"/>
                </a:cubicBezTo>
                <a:cubicBezTo>
                  <a:pt x="11129" y="9071"/>
                  <a:pt x="11101" y="9245"/>
                  <a:pt x="11038" y="9376"/>
                </a:cubicBezTo>
                <a:cubicBezTo>
                  <a:pt x="11030" y="9384"/>
                  <a:pt x="11021" y="9393"/>
                  <a:pt x="11013" y="9401"/>
                </a:cubicBezTo>
              </a:path>
              <a:path w="11857" h="4813">
                <a:moveTo>
                  <a:pt x="11633" y="8930"/>
                </a:moveTo>
                <a:cubicBezTo>
                  <a:pt x="11633" y="8864"/>
                  <a:pt x="11633" y="9013"/>
                  <a:pt x="11633" y="9079"/>
                </a:cubicBezTo>
                <a:cubicBezTo>
                  <a:pt x="11633" y="9136"/>
                  <a:pt x="11606" y="9285"/>
                  <a:pt x="11658" y="9302"/>
                </a:cubicBezTo>
              </a:path>
              <a:path w="11857" h="4813">
                <a:moveTo>
                  <a:pt x="11460" y="9128"/>
                </a:moveTo>
                <a:cubicBezTo>
                  <a:pt x="11478" y="9110"/>
                  <a:pt x="11613" y="9128"/>
                  <a:pt x="11683" y="9128"/>
                </a:cubicBezTo>
                <a:cubicBezTo>
                  <a:pt x="11735" y="9128"/>
                  <a:pt x="11818" y="9110"/>
                  <a:pt x="11832" y="9153"/>
                </a:cubicBezTo>
              </a:path>
              <a:path w="11857" h="4813">
                <a:moveTo>
                  <a:pt x="12204" y="8905"/>
                </a:moveTo>
                <a:cubicBezTo>
                  <a:pt x="12240" y="8868"/>
                  <a:pt x="12328" y="8776"/>
                  <a:pt x="12378" y="8781"/>
                </a:cubicBezTo>
                <a:cubicBezTo>
                  <a:pt x="12461" y="8789"/>
                  <a:pt x="12484" y="8891"/>
                  <a:pt x="12452" y="8954"/>
                </a:cubicBezTo>
                <a:cubicBezTo>
                  <a:pt x="12434" y="8990"/>
                  <a:pt x="12334" y="9048"/>
                  <a:pt x="12303" y="9054"/>
                </a:cubicBezTo>
                <a:cubicBezTo>
                  <a:pt x="12278" y="9054"/>
                  <a:pt x="12270" y="9054"/>
                  <a:pt x="12303" y="9054"/>
                </a:cubicBezTo>
                <a:cubicBezTo>
                  <a:pt x="12379" y="9069"/>
                  <a:pt x="12435" y="9088"/>
                  <a:pt x="12477" y="9153"/>
                </a:cubicBezTo>
                <a:cubicBezTo>
                  <a:pt x="12501" y="9201"/>
                  <a:pt x="12509" y="9215"/>
                  <a:pt x="12502" y="9252"/>
                </a:cubicBezTo>
                <a:cubicBezTo>
                  <a:pt x="12397" y="9293"/>
                  <a:pt x="12273" y="9376"/>
                  <a:pt x="12154" y="9351"/>
                </a:cubicBezTo>
                <a:cubicBezTo>
                  <a:pt x="12123" y="9344"/>
                  <a:pt x="12111" y="9321"/>
                  <a:pt x="12105" y="9302"/>
                </a:cubicBezTo>
              </a:path>
              <a:path w="11857" h="4813">
                <a:moveTo>
                  <a:pt x="14039" y="8161"/>
                </a:moveTo>
                <a:cubicBezTo>
                  <a:pt x="14053" y="8120"/>
                  <a:pt x="14088" y="8078"/>
                  <a:pt x="14163" y="8062"/>
                </a:cubicBezTo>
                <a:cubicBezTo>
                  <a:pt x="14322" y="8028"/>
                  <a:pt x="14440" y="8188"/>
                  <a:pt x="14362" y="8334"/>
                </a:cubicBezTo>
                <a:cubicBezTo>
                  <a:pt x="14273" y="8500"/>
                  <a:pt x="14003" y="8570"/>
                  <a:pt x="13841" y="8483"/>
                </a:cubicBezTo>
                <a:cubicBezTo>
                  <a:pt x="13833" y="8467"/>
                  <a:pt x="13824" y="8450"/>
                  <a:pt x="13816" y="8434"/>
                </a:cubicBezTo>
                <a:cubicBezTo>
                  <a:pt x="13963" y="8339"/>
                  <a:pt x="14079" y="8359"/>
                  <a:pt x="14263" y="8359"/>
                </a:cubicBezTo>
                <a:cubicBezTo>
                  <a:pt x="14355" y="8359"/>
                  <a:pt x="14381" y="8361"/>
                  <a:pt x="14436" y="8334"/>
                </a:cubicBezTo>
              </a:path>
              <a:path w="11857" h="4813">
                <a:moveTo>
                  <a:pt x="14585" y="7938"/>
                </a:moveTo>
                <a:cubicBezTo>
                  <a:pt x="14681" y="7938"/>
                  <a:pt x="14764" y="7938"/>
                  <a:pt x="14858" y="7913"/>
                </a:cubicBezTo>
                <a:cubicBezTo>
                  <a:pt x="14915" y="7894"/>
                  <a:pt x="14922" y="7885"/>
                  <a:pt x="14957" y="7888"/>
                </a:cubicBezTo>
                <a:cubicBezTo>
                  <a:pt x="14957" y="8015"/>
                  <a:pt x="14940" y="8136"/>
                  <a:pt x="14908" y="8260"/>
                </a:cubicBezTo>
                <a:cubicBezTo>
                  <a:pt x="14900" y="8285"/>
                  <a:pt x="14891" y="8309"/>
                  <a:pt x="14883" y="8334"/>
                </a:cubicBezTo>
              </a:path>
              <a:path w="11857" h="4813">
                <a:moveTo>
                  <a:pt x="13618" y="8930"/>
                </a:moveTo>
                <a:cubicBezTo>
                  <a:pt x="13784" y="8896"/>
                  <a:pt x="13947" y="8860"/>
                  <a:pt x="14114" y="8830"/>
                </a:cubicBezTo>
              </a:path>
              <a:path w="11857" h="4813">
                <a:moveTo>
                  <a:pt x="14709" y="8533"/>
                </a:moveTo>
                <a:cubicBezTo>
                  <a:pt x="14810" y="8516"/>
                  <a:pt x="14900" y="8469"/>
                  <a:pt x="15007" y="8483"/>
                </a:cubicBezTo>
                <a:cubicBezTo>
                  <a:pt x="15213" y="8510"/>
                  <a:pt x="14906" y="8663"/>
                  <a:pt x="14858" y="8682"/>
                </a:cubicBezTo>
                <a:cubicBezTo>
                  <a:pt x="14945" y="8682"/>
                  <a:pt x="15129" y="8637"/>
                  <a:pt x="15180" y="8731"/>
                </a:cubicBezTo>
                <a:cubicBezTo>
                  <a:pt x="15254" y="8869"/>
                  <a:pt x="14951" y="8988"/>
                  <a:pt x="14858" y="8979"/>
                </a:cubicBezTo>
                <a:cubicBezTo>
                  <a:pt x="14825" y="8963"/>
                  <a:pt x="14792" y="8946"/>
                  <a:pt x="14759" y="8930"/>
                </a:cubicBezTo>
              </a:path>
              <a:path w="11857" h="4813">
                <a:moveTo>
                  <a:pt x="13866" y="9302"/>
                </a:moveTo>
                <a:cubicBezTo>
                  <a:pt x="14312" y="9200"/>
                  <a:pt x="14769" y="9097"/>
                  <a:pt x="15230" y="9103"/>
                </a:cubicBezTo>
                <a:cubicBezTo>
                  <a:pt x="15354" y="9121"/>
                  <a:pt x="15362" y="9129"/>
                  <a:pt x="15429" y="9128"/>
                </a:cubicBezTo>
              </a:path>
              <a:path w="11857" h="4813">
                <a:moveTo>
                  <a:pt x="14089" y="9451"/>
                </a:moveTo>
                <a:cubicBezTo>
                  <a:pt x="14250" y="9436"/>
                  <a:pt x="14405" y="9369"/>
                  <a:pt x="14536" y="9500"/>
                </a:cubicBezTo>
                <a:cubicBezTo>
                  <a:pt x="14721" y="9685"/>
                  <a:pt x="14366" y="9859"/>
                  <a:pt x="14238" y="9897"/>
                </a:cubicBezTo>
                <a:cubicBezTo>
                  <a:pt x="14132" y="9928"/>
                  <a:pt x="14024" y="9922"/>
                  <a:pt x="13915" y="9922"/>
                </a:cubicBezTo>
                <a:cubicBezTo>
                  <a:pt x="14097" y="9846"/>
                  <a:pt x="14196" y="9855"/>
                  <a:pt x="14387" y="9897"/>
                </a:cubicBezTo>
                <a:cubicBezTo>
                  <a:pt x="14458" y="9913"/>
                  <a:pt x="14476" y="9922"/>
                  <a:pt x="14536" y="9922"/>
                </a:cubicBezTo>
              </a:path>
              <a:path w="11857" h="4813">
                <a:moveTo>
                  <a:pt x="14709" y="9451"/>
                </a:moveTo>
                <a:cubicBezTo>
                  <a:pt x="14709" y="9522"/>
                  <a:pt x="14685" y="9628"/>
                  <a:pt x="14759" y="9674"/>
                </a:cubicBezTo>
                <a:cubicBezTo>
                  <a:pt x="14952" y="9794"/>
                  <a:pt x="15099" y="9673"/>
                  <a:pt x="15230" y="9550"/>
                </a:cubicBezTo>
              </a:path>
              <a:path w="11857" h="4813">
                <a:moveTo>
                  <a:pt x="15106" y="9277"/>
                </a:moveTo>
                <a:cubicBezTo>
                  <a:pt x="15106" y="9457"/>
                  <a:pt x="15123" y="9660"/>
                  <a:pt x="15081" y="9823"/>
                </a:cubicBezTo>
                <a:cubicBezTo>
                  <a:pt x="15081" y="9831"/>
                  <a:pt x="15081" y="9839"/>
                  <a:pt x="15081" y="9847"/>
                </a:cubicBezTo>
              </a:path>
              <a:path w="11857" h="4813">
                <a:moveTo>
                  <a:pt x="13618" y="8409"/>
                </a:moveTo>
                <a:cubicBezTo>
                  <a:pt x="13561" y="8365"/>
                  <a:pt x="13493" y="8320"/>
                  <a:pt x="13395" y="8310"/>
                </a:cubicBezTo>
                <a:cubicBezTo>
                  <a:pt x="13199" y="8291"/>
                  <a:pt x="13020" y="8284"/>
                  <a:pt x="12824" y="8310"/>
                </a:cubicBezTo>
                <a:cubicBezTo>
                  <a:pt x="12615" y="8338"/>
                  <a:pt x="12407" y="8378"/>
                  <a:pt x="12204" y="8434"/>
                </a:cubicBezTo>
                <a:cubicBezTo>
                  <a:pt x="12018" y="8485"/>
                  <a:pt x="11846" y="8499"/>
                  <a:pt x="11658" y="8533"/>
                </a:cubicBezTo>
                <a:cubicBezTo>
                  <a:pt x="11501" y="8561"/>
                  <a:pt x="11361" y="8609"/>
                  <a:pt x="11212" y="8657"/>
                </a:cubicBezTo>
                <a:cubicBezTo>
                  <a:pt x="11066" y="8705"/>
                  <a:pt x="10913" y="8748"/>
                  <a:pt x="10765" y="8781"/>
                </a:cubicBezTo>
              </a:path>
              <a:path w="11857" h="4813">
                <a:moveTo>
                  <a:pt x="10691" y="8558"/>
                </a:moveTo>
                <a:cubicBezTo>
                  <a:pt x="10683" y="8591"/>
                  <a:pt x="10629" y="8779"/>
                  <a:pt x="10666" y="8806"/>
                </a:cubicBezTo>
                <a:cubicBezTo>
                  <a:pt x="10778" y="8887"/>
                  <a:pt x="11012" y="8810"/>
                  <a:pt x="11137" y="8806"/>
                </a:cubicBezTo>
                <a:cubicBezTo>
                  <a:pt x="11179" y="8806"/>
                  <a:pt x="11187" y="8806"/>
                  <a:pt x="11212" y="8806"/>
                </a:cubicBezTo>
              </a:path>
              <a:path w="11857" h="4813">
                <a:moveTo>
                  <a:pt x="13568" y="9649"/>
                </a:moveTo>
                <a:cubicBezTo>
                  <a:pt x="13629" y="9661"/>
                  <a:pt x="13675" y="9674"/>
                  <a:pt x="13742" y="9674"/>
                </a:cubicBezTo>
              </a:path>
              <a:path w="11857" h="4813">
                <a:moveTo>
                  <a:pt x="13519" y="10244"/>
                </a:moveTo>
                <a:cubicBezTo>
                  <a:pt x="13681" y="10301"/>
                  <a:pt x="13816" y="10345"/>
                  <a:pt x="13990" y="10368"/>
                </a:cubicBezTo>
                <a:cubicBezTo>
                  <a:pt x="14264" y="10405"/>
                  <a:pt x="14534" y="10401"/>
                  <a:pt x="14808" y="10368"/>
                </a:cubicBezTo>
                <a:cubicBezTo>
                  <a:pt x="15025" y="10342"/>
                  <a:pt x="15260" y="10275"/>
                  <a:pt x="15453" y="10170"/>
                </a:cubicBezTo>
                <a:cubicBezTo>
                  <a:pt x="15628" y="10075"/>
                  <a:pt x="15692" y="9981"/>
                  <a:pt x="15776" y="9823"/>
                </a:cubicBezTo>
                <a:cubicBezTo>
                  <a:pt x="15834" y="9714"/>
                  <a:pt x="15860" y="9607"/>
                  <a:pt x="15776" y="9500"/>
                </a:cubicBezTo>
                <a:cubicBezTo>
                  <a:pt x="15699" y="9401"/>
                  <a:pt x="15587" y="9313"/>
                  <a:pt x="15478" y="9252"/>
                </a:cubicBezTo>
                <a:cubicBezTo>
                  <a:pt x="15358" y="9185"/>
                  <a:pt x="15215" y="9163"/>
                  <a:pt x="15081" y="9153"/>
                </a:cubicBezTo>
                <a:cubicBezTo>
                  <a:pt x="14928" y="9142"/>
                  <a:pt x="14764" y="9109"/>
                  <a:pt x="14610" y="9128"/>
                </a:cubicBezTo>
                <a:cubicBezTo>
                  <a:pt x="14421" y="9151"/>
                  <a:pt x="14248" y="9174"/>
                  <a:pt x="14064" y="9227"/>
                </a:cubicBezTo>
                <a:cubicBezTo>
                  <a:pt x="13852" y="9288"/>
                  <a:pt x="13647" y="9337"/>
                  <a:pt x="13469" y="9475"/>
                </a:cubicBezTo>
                <a:cubicBezTo>
                  <a:pt x="13354" y="9564"/>
                  <a:pt x="13256" y="9718"/>
                  <a:pt x="13196" y="9847"/>
                </a:cubicBezTo>
                <a:cubicBezTo>
                  <a:pt x="13138" y="9971"/>
                  <a:pt x="13129" y="10096"/>
                  <a:pt x="13146" y="10220"/>
                </a:cubicBezTo>
                <a:cubicBezTo>
                  <a:pt x="13170" y="10398"/>
                  <a:pt x="13334" y="10390"/>
                  <a:pt x="13469" y="10393"/>
                </a:cubicBezTo>
                <a:cubicBezTo>
                  <a:pt x="13699" y="10398"/>
                  <a:pt x="13912" y="10367"/>
                  <a:pt x="14139" y="10344"/>
                </a:cubicBezTo>
                <a:cubicBezTo>
                  <a:pt x="14180" y="10340"/>
                  <a:pt x="14222" y="10346"/>
                  <a:pt x="14263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4000" y="3705120"/>
            <a:ext cx="704880" cy="563760"/>
          </a:xfrm>
          <a:custGeom>
            <a:avLst/>
            <a:gdLst/>
            <a:ahLst/>
            <a:rect l="l" t="t" r="r" b="b"/>
            <a:pathLst>
              <a:path w="1960" h="1564">
                <a:moveTo>
                  <a:pt x="6697" y="10889"/>
                </a:moveTo>
                <a:cubicBezTo>
                  <a:pt x="6751" y="10876"/>
                  <a:pt x="6767" y="10846"/>
                  <a:pt x="6821" y="10889"/>
                </a:cubicBezTo>
                <a:cubicBezTo>
                  <a:pt x="6844" y="10912"/>
                  <a:pt x="6852" y="10916"/>
                  <a:pt x="6846" y="10939"/>
                </a:cubicBezTo>
              </a:path>
              <a:path w="1960" h="1564">
                <a:moveTo>
                  <a:pt x="6648" y="11162"/>
                </a:moveTo>
                <a:cubicBezTo>
                  <a:pt x="6729" y="11162"/>
                  <a:pt x="6790" y="11155"/>
                  <a:pt x="6871" y="11137"/>
                </a:cubicBezTo>
              </a:path>
              <a:path w="1960" h="1564">
                <a:moveTo>
                  <a:pt x="7739" y="10840"/>
                </a:moveTo>
                <a:cubicBezTo>
                  <a:pt x="7760" y="10965"/>
                  <a:pt x="7770" y="11006"/>
                  <a:pt x="7764" y="11137"/>
                </a:cubicBezTo>
                <a:cubicBezTo>
                  <a:pt x="7761" y="11201"/>
                  <a:pt x="7693" y="11429"/>
                  <a:pt x="7764" y="11336"/>
                </a:cubicBezTo>
              </a:path>
              <a:path w="1960" h="1564">
                <a:moveTo>
                  <a:pt x="8334" y="10790"/>
                </a:moveTo>
                <a:cubicBezTo>
                  <a:pt x="8256" y="10790"/>
                  <a:pt x="8216" y="10838"/>
                  <a:pt x="8161" y="10889"/>
                </a:cubicBezTo>
                <a:cubicBezTo>
                  <a:pt x="8133" y="10917"/>
                  <a:pt x="8124" y="10931"/>
                  <a:pt x="8136" y="10964"/>
                </a:cubicBezTo>
                <a:cubicBezTo>
                  <a:pt x="8239" y="11032"/>
                  <a:pt x="8376" y="11123"/>
                  <a:pt x="8434" y="11237"/>
                </a:cubicBezTo>
                <a:cubicBezTo>
                  <a:pt x="8456" y="11327"/>
                  <a:pt x="8464" y="11351"/>
                  <a:pt x="8458" y="11410"/>
                </a:cubicBezTo>
                <a:cubicBezTo>
                  <a:pt x="8390" y="11424"/>
                  <a:pt x="8322" y="11446"/>
                  <a:pt x="8260" y="11385"/>
                </a:cubicBezTo>
                <a:cubicBezTo>
                  <a:pt x="8179" y="11305"/>
                  <a:pt x="8311" y="11212"/>
                  <a:pt x="8359" y="11162"/>
                </a:cubicBezTo>
                <a:cubicBezTo>
                  <a:pt x="8436" y="11083"/>
                  <a:pt x="8485" y="11035"/>
                  <a:pt x="8533" y="10939"/>
                </a:cubicBezTo>
                <a:cubicBezTo>
                  <a:pt x="8516" y="10873"/>
                  <a:pt x="8463" y="10877"/>
                  <a:pt x="8409" y="10840"/>
                </a:cubicBezTo>
                <a:cubicBezTo>
                  <a:pt x="8386" y="10817"/>
                  <a:pt x="8378" y="10806"/>
                  <a:pt x="8384" y="10840"/>
                </a:cubicBezTo>
              </a:path>
              <a:path w="1960" h="1564">
                <a:moveTo>
                  <a:pt x="7293" y="11038"/>
                </a:moveTo>
                <a:cubicBezTo>
                  <a:pt x="7332" y="11048"/>
                  <a:pt x="7347" y="11063"/>
                  <a:pt x="7392" y="11063"/>
                </a:cubicBezTo>
                <a:cubicBezTo>
                  <a:pt x="7434" y="11063"/>
                  <a:pt x="7430" y="11053"/>
                  <a:pt x="7441" y="11088"/>
                </a:cubicBezTo>
              </a:path>
              <a:path w="1960" h="1564">
                <a:moveTo>
                  <a:pt x="7218" y="11509"/>
                </a:moveTo>
                <a:cubicBezTo>
                  <a:pt x="7201" y="11542"/>
                  <a:pt x="7192" y="11529"/>
                  <a:pt x="7218" y="11559"/>
                </a:cubicBezTo>
                <a:cubicBezTo>
                  <a:pt x="7268" y="11618"/>
                  <a:pt x="7333" y="11614"/>
                  <a:pt x="7392" y="11658"/>
                </a:cubicBezTo>
                <a:cubicBezTo>
                  <a:pt x="7469" y="11715"/>
                  <a:pt x="7519" y="11710"/>
                  <a:pt x="7615" y="11733"/>
                </a:cubicBezTo>
                <a:cubicBezTo>
                  <a:pt x="7694" y="11752"/>
                  <a:pt x="7803" y="11750"/>
                  <a:pt x="7888" y="11733"/>
                </a:cubicBezTo>
                <a:cubicBezTo>
                  <a:pt x="7982" y="11715"/>
                  <a:pt x="8072" y="11666"/>
                  <a:pt x="8161" y="11633"/>
                </a:cubicBezTo>
                <a:cubicBezTo>
                  <a:pt x="8286" y="11587"/>
                  <a:pt x="8331" y="11542"/>
                  <a:pt x="8434" y="11460"/>
                </a:cubicBezTo>
                <a:cubicBezTo>
                  <a:pt x="8524" y="11389"/>
                  <a:pt x="8590" y="11283"/>
                  <a:pt x="8607" y="11162"/>
                </a:cubicBezTo>
                <a:cubicBezTo>
                  <a:pt x="8624" y="11042"/>
                  <a:pt x="8595" y="10929"/>
                  <a:pt x="8582" y="10815"/>
                </a:cubicBezTo>
                <a:cubicBezTo>
                  <a:pt x="8573" y="10738"/>
                  <a:pt x="8582" y="10664"/>
                  <a:pt x="8558" y="10592"/>
                </a:cubicBezTo>
                <a:cubicBezTo>
                  <a:pt x="8528" y="10503"/>
                  <a:pt x="8531" y="10469"/>
                  <a:pt x="8483" y="10393"/>
                </a:cubicBezTo>
                <a:cubicBezTo>
                  <a:pt x="8439" y="10323"/>
                  <a:pt x="8405" y="10308"/>
                  <a:pt x="8310" y="10294"/>
                </a:cubicBezTo>
                <a:cubicBezTo>
                  <a:pt x="8192" y="10277"/>
                  <a:pt x="8075" y="10303"/>
                  <a:pt x="7962" y="10319"/>
                </a:cubicBezTo>
                <a:cubicBezTo>
                  <a:pt x="7894" y="10328"/>
                  <a:pt x="7833" y="10341"/>
                  <a:pt x="7764" y="10344"/>
                </a:cubicBezTo>
                <a:cubicBezTo>
                  <a:pt x="7712" y="10347"/>
                  <a:pt x="7641" y="10355"/>
                  <a:pt x="7590" y="10368"/>
                </a:cubicBezTo>
                <a:cubicBezTo>
                  <a:pt x="7539" y="10381"/>
                  <a:pt x="7484" y="10409"/>
                  <a:pt x="7441" y="10443"/>
                </a:cubicBezTo>
                <a:cubicBezTo>
                  <a:pt x="7404" y="10472"/>
                  <a:pt x="7375" y="10489"/>
                  <a:pt x="7342" y="10517"/>
                </a:cubicBezTo>
                <a:cubicBezTo>
                  <a:pt x="7302" y="10551"/>
                  <a:pt x="7270" y="10598"/>
                  <a:pt x="7243" y="10641"/>
                </a:cubicBezTo>
                <a:cubicBezTo>
                  <a:pt x="7200" y="10711"/>
                  <a:pt x="7175" y="10793"/>
                  <a:pt x="7144" y="10864"/>
                </a:cubicBezTo>
                <a:cubicBezTo>
                  <a:pt x="7114" y="10935"/>
                  <a:pt x="7097" y="10987"/>
                  <a:pt x="7094" y="11063"/>
                </a:cubicBezTo>
                <a:cubicBezTo>
                  <a:pt x="7087" y="11222"/>
                  <a:pt x="7094" y="11383"/>
                  <a:pt x="7119" y="11534"/>
                </a:cubicBezTo>
                <a:cubicBezTo>
                  <a:pt x="7127" y="11579"/>
                  <a:pt x="7139" y="11648"/>
                  <a:pt x="7144" y="11683"/>
                </a:cubicBezTo>
                <a:cubicBezTo>
                  <a:pt x="7153" y="11749"/>
                  <a:pt x="7140" y="11761"/>
                  <a:pt x="7193" y="11807"/>
                </a:cubicBezTo>
                <a:cubicBezTo>
                  <a:pt x="7224" y="11834"/>
                  <a:pt x="7272" y="11852"/>
                  <a:pt x="7317" y="11857"/>
                </a:cubicBezTo>
                <a:cubicBezTo>
                  <a:pt x="7341" y="11860"/>
                  <a:pt x="7368" y="11857"/>
                  <a:pt x="7392" y="118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14720" y="4348080"/>
            <a:ext cx="1009440" cy="536760"/>
          </a:xfrm>
          <a:custGeom>
            <a:avLst/>
            <a:gdLst/>
            <a:ahLst/>
            <a:rect l="l" t="t" r="r" b="b"/>
            <a:pathLst>
              <a:path w="2803" h="1489">
                <a:moveTo>
                  <a:pt x="6300" y="12626"/>
                </a:moveTo>
                <a:cubicBezTo>
                  <a:pt x="6345" y="12658"/>
                  <a:pt x="6390" y="12672"/>
                  <a:pt x="6449" y="12675"/>
                </a:cubicBezTo>
                <a:cubicBezTo>
                  <a:pt x="6491" y="12675"/>
                  <a:pt x="6499" y="12675"/>
                  <a:pt x="6524" y="12675"/>
                </a:cubicBezTo>
              </a:path>
              <a:path w="2803" h="1489">
                <a:moveTo>
                  <a:pt x="6152" y="12898"/>
                </a:moveTo>
                <a:cubicBezTo>
                  <a:pt x="6284" y="12898"/>
                  <a:pt x="6416" y="12898"/>
                  <a:pt x="6548" y="12898"/>
                </a:cubicBezTo>
              </a:path>
              <a:path w="2803" h="1489">
                <a:moveTo>
                  <a:pt x="7863" y="12576"/>
                </a:moveTo>
                <a:cubicBezTo>
                  <a:pt x="7809" y="12558"/>
                  <a:pt x="7854" y="12514"/>
                  <a:pt x="7888" y="12477"/>
                </a:cubicBezTo>
                <a:cubicBezTo>
                  <a:pt x="7908" y="12454"/>
                  <a:pt x="7957" y="12408"/>
                  <a:pt x="7987" y="12402"/>
                </a:cubicBezTo>
                <a:cubicBezTo>
                  <a:pt x="8049" y="12390"/>
                  <a:pt x="8097" y="12378"/>
                  <a:pt x="8161" y="12378"/>
                </a:cubicBezTo>
                <a:cubicBezTo>
                  <a:pt x="8236" y="12378"/>
                  <a:pt x="8277" y="12375"/>
                  <a:pt x="8334" y="12427"/>
                </a:cubicBezTo>
                <a:cubicBezTo>
                  <a:pt x="8368" y="12458"/>
                  <a:pt x="8421" y="12526"/>
                  <a:pt x="8409" y="12576"/>
                </a:cubicBezTo>
                <a:cubicBezTo>
                  <a:pt x="8398" y="12624"/>
                  <a:pt x="8270" y="12680"/>
                  <a:pt x="8235" y="12700"/>
                </a:cubicBezTo>
                <a:cubicBezTo>
                  <a:pt x="8175" y="12734"/>
                  <a:pt x="8059" y="12773"/>
                  <a:pt x="8012" y="12824"/>
                </a:cubicBezTo>
                <a:cubicBezTo>
                  <a:pt x="7967" y="12872"/>
                  <a:pt x="7921" y="12911"/>
                  <a:pt x="7888" y="12973"/>
                </a:cubicBezTo>
                <a:cubicBezTo>
                  <a:pt x="7858" y="13029"/>
                  <a:pt x="7829" y="13094"/>
                  <a:pt x="7813" y="13146"/>
                </a:cubicBezTo>
                <a:cubicBezTo>
                  <a:pt x="7813" y="13154"/>
                  <a:pt x="7813" y="13163"/>
                  <a:pt x="7813" y="13171"/>
                </a:cubicBezTo>
                <a:cubicBezTo>
                  <a:pt x="7825" y="13125"/>
                  <a:pt x="7844" y="13080"/>
                  <a:pt x="7888" y="13047"/>
                </a:cubicBezTo>
                <a:cubicBezTo>
                  <a:pt x="7909" y="13031"/>
                  <a:pt x="8042" y="12976"/>
                  <a:pt x="8062" y="12998"/>
                </a:cubicBezTo>
                <a:cubicBezTo>
                  <a:pt x="8085" y="13024"/>
                  <a:pt x="8098" y="13128"/>
                  <a:pt x="8161" y="13146"/>
                </a:cubicBezTo>
                <a:cubicBezTo>
                  <a:pt x="8231" y="13166"/>
                  <a:pt x="8295" y="13128"/>
                  <a:pt x="8359" y="13122"/>
                </a:cubicBezTo>
                <a:cubicBezTo>
                  <a:pt x="8402" y="13118"/>
                  <a:pt x="8369" y="13110"/>
                  <a:pt x="8409" y="13097"/>
                </a:cubicBezTo>
              </a:path>
              <a:path w="2803" h="1489">
                <a:moveTo>
                  <a:pt x="7342" y="12799"/>
                </a:moveTo>
                <a:cubicBezTo>
                  <a:pt x="7455" y="12799"/>
                  <a:pt x="7595" y="12822"/>
                  <a:pt x="7689" y="12774"/>
                </a:cubicBezTo>
              </a:path>
              <a:path w="2803" h="1489">
                <a:moveTo>
                  <a:pt x="7119" y="13345"/>
                </a:moveTo>
                <a:cubicBezTo>
                  <a:pt x="7157" y="13364"/>
                  <a:pt x="7274" y="13446"/>
                  <a:pt x="7342" y="13469"/>
                </a:cubicBezTo>
                <a:cubicBezTo>
                  <a:pt x="7490" y="13520"/>
                  <a:pt x="7656" y="13558"/>
                  <a:pt x="7813" y="13568"/>
                </a:cubicBezTo>
                <a:cubicBezTo>
                  <a:pt x="8054" y="13583"/>
                  <a:pt x="8322" y="13587"/>
                  <a:pt x="8558" y="13543"/>
                </a:cubicBezTo>
                <a:cubicBezTo>
                  <a:pt x="8696" y="13517"/>
                  <a:pt x="8784" y="13439"/>
                  <a:pt x="8855" y="13320"/>
                </a:cubicBezTo>
                <a:cubicBezTo>
                  <a:pt x="8928" y="13197"/>
                  <a:pt x="8950" y="13063"/>
                  <a:pt x="8954" y="12923"/>
                </a:cubicBezTo>
                <a:cubicBezTo>
                  <a:pt x="8958" y="12769"/>
                  <a:pt x="8908" y="12642"/>
                  <a:pt x="8855" y="12502"/>
                </a:cubicBezTo>
                <a:cubicBezTo>
                  <a:pt x="8819" y="12408"/>
                  <a:pt x="8799" y="12375"/>
                  <a:pt x="8731" y="12303"/>
                </a:cubicBezTo>
                <a:cubicBezTo>
                  <a:pt x="8686" y="12255"/>
                  <a:pt x="8571" y="12171"/>
                  <a:pt x="8508" y="12154"/>
                </a:cubicBezTo>
                <a:cubicBezTo>
                  <a:pt x="8369" y="12116"/>
                  <a:pt x="8228" y="12125"/>
                  <a:pt x="8086" y="12105"/>
                </a:cubicBezTo>
                <a:cubicBezTo>
                  <a:pt x="7947" y="12086"/>
                  <a:pt x="7849" y="12093"/>
                  <a:pt x="7714" y="12105"/>
                </a:cubicBezTo>
                <a:cubicBezTo>
                  <a:pt x="7596" y="12116"/>
                  <a:pt x="7481" y="12121"/>
                  <a:pt x="7367" y="12154"/>
                </a:cubicBezTo>
                <a:cubicBezTo>
                  <a:pt x="7257" y="12186"/>
                  <a:pt x="7178" y="12223"/>
                  <a:pt x="7094" y="12303"/>
                </a:cubicBezTo>
                <a:cubicBezTo>
                  <a:pt x="7023" y="12371"/>
                  <a:pt x="6936" y="12476"/>
                  <a:pt x="6921" y="12576"/>
                </a:cubicBezTo>
                <a:cubicBezTo>
                  <a:pt x="6909" y="12652"/>
                  <a:pt x="6899" y="12830"/>
                  <a:pt x="6945" y="12898"/>
                </a:cubicBezTo>
                <a:cubicBezTo>
                  <a:pt x="7032" y="13029"/>
                  <a:pt x="7138" y="13144"/>
                  <a:pt x="7268" y="13221"/>
                </a:cubicBezTo>
                <a:cubicBezTo>
                  <a:pt x="7324" y="13259"/>
                  <a:pt x="7327" y="13276"/>
                  <a:pt x="7367" y="132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ep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o addition or subtraction by doing the opposi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o multiplication or division by doing the opposi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09480" y="3809880"/>
          <a:ext cx="180036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9880"/>
                    <a:ext cx="18003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5486400" y="3657600"/>
          <a:ext cx="173340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3657600"/>
                    <a:ext cx="17334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762120" y="5029200"/>
          <a:ext cx="165096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5029200"/>
                    <a:ext cx="16509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5638680" y="5029200"/>
          <a:ext cx="1600200" cy="954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38680" y="5029200"/>
                    <a:ext cx="16002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600840" y="220680"/>
            <a:ext cx="63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:  Students will solve 2-step equations with integ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70280" y="660240"/>
            <a:ext cx="544680" cy="403560"/>
          </a:xfrm>
          <a:custGeom>
            <a:avLst/>
            <a:gdLst/>
            <a:ahLst/>
            <a:rect l="l" t="t" r="r" b="b"/>
            <a:pathLst>
              <a:path w="1514" h="1117">
                <a:moveTo>
                  <a:pt x="12973" y="2257"/>
                </a:moveTo>
                <a:cubicBezTo>
                  <a:pt x="13039" y="2257"/>
                  <a:pt x="13081" y="2248"/>
                  <a:pt x="13146" y="2232"/>
                </a:cubicBezTo>
                <a:cubicBezTo>
                  <a:pt x="13222" y="2213"/>
                  <a:pt x="13270" y="2208"/>
                  <a:pt x="13345" y="2208"/>
                </a:cubicBezTo>
              </a:path>
              <a:path w="1514" h="1117">
                <a:moveTo>
                  <a:pt x="13643" y="1960"/>
                </a:moveTo>
                <a:cubicBezTo>
                  <a:pt x="13712" y="1932"/>
                  <a:pt x="13788" y="1891"/>
                  <a:pt x="13866" y="1860"/>
                </a:cubicBezTo>
                <a:cubicBezTo>
                  <a:pt x="13882" y="1852"/>
                  <a:pt x="13899" y="1844"/>
                  <a:pt x="13915" y="1836"/>
                </a:cubicBezTo>
                <a:cubicBezTo>
                  <a:pt x="13980" y="1899"/>
                  <a:pt x="14017" y="1964"/>
                  <a:pt x="13965" y="2059"/>
                </a:cubicBezTo>
                <a:cubicBezTo>
                  <a:pt x="13876" y="2221"/>
                  <a:pt x="13698" y="2350"/>
                  <a:pt x="13568" y="2480"/>
                </a:cubicBezTo>
                <a:cubicBezTo>
                  <a:pt x="13530" y="2519"/>
                  <a:pt x="13528" y="2536"/>
                  <a:pt x="13494" y="2530"/>
                </a:cubicBezTo>
                <a:cubicBezTo>
                  <a:pt x="13604" y="2516"/>
                  <a:pt x="13698" y="2483"/>
                  <a:pt x="13816" y="2480"/>
                </a:cubicBezTo>
                <a:cubicBezTo>
                  <a:pt x="13897" y="2478"/>
                  <a:pt x="13883" y="2491"/>
                  <a:pt x="13940" y="2505"/>
                </a:cubicBezTo>
              </a:path>
              <a:path w="1514" h="1117">
                <a:moveTo>
                  <a:pt x="14114" y="2356"/>
                </a:moveTo>
                <a:cubicBezTo>
                  <a:pt x="14183" y="2400"/>
                  <a:pt x="14288" y="2440"/>
                  <a:pt x="14337" y="2505"/>
                </a:cubicBezTo>
                <a:cubicBezTo>
                  <a:pt x="14358" y="2533"/>
                  <a:pt x="14337" y="2530"/>
                  <a:pt x="14387" y="2530"/>
                </a:cubicBezTo>
              </a:path>
              <a:path w="1514" h="1117">
                <a:moveTo>
                  <a:pt x="14486" y="2208"/>
                </a:moveTo>
                <a:cubicBezTo>
                  <a:pt x="14438" y="2373"/>
                  <a:pt x="14424" y="2543"/>
                  <a:pt x="14362" y="2704"/>
                </a:cubicBezTo>
                <a:cubicBezTo>
                  <a:pt x="14330" y="2788"/>
                  <a:pt x="14296" y="2869"/>
                  <a:pt x="14263" y="29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48160" y="768240"/>
            <a:ext cx="135000" cy="115920"/>
          </a:xfrm>
          <a:custGeom>
            <a:avLst/>
            <a:gdLst/>
            <a:ahLst/>
            <a:rect l="l" t="t" r="r" b="b"/>
            <a:pathLst>
              <a:path w="373" h="324">
                <a:moveTo>
                  <a:pt x="15032" y="2183"/>
                </a:moveTo>
                <a:cubicBezTo>
                  <a:pt x="15032" y="2158"/>
                  <a:pt x="15032" y="2150"/>
                  <a:pt x="15032" y="2133"/>
                </a:cubicBezTo>
                <a:cubicBezTo>
                  <a:pt x="15032" y="2241"/>
                  <a:pt x="15032" y="2348"/>
                  <a:pt x="15032" y="2456"/>
                </a:cubicBezTo>
              </a:path>
              <a:path w="373" h="324">
                <a:moveTo>
                  <a:pt x="14858" y="2332"/>
                </a:moveTo>
                <a:cubicBezTo>
                  <a:pt x="14952" y="2316"/>
                  <a:pt x="15065" y="2303"/>
                  <a:pt x="15156" y="2282"/>
                </a:cubicBezTo>
                <a:cubicBezTo>
                  <a:pt x="15196" y="2262"/>
                  <a:pt x="15202" y="2253"/>
                  <a:pt x="15230" y="22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16720" y="642960"/>
            <a:ext cx="125280" cy="258840"/>
          </a:xfrm>
          <a:custGeom>
            <a:avLst/>
            <a:gdLst/>
            <a:ahLst/>
            <a:rect l="l" t="t" r="r" b="b"/>
            <a:pathLst>
              <a:path w="348" h="720">
                <a:moveTo>
                  <a:pt x="15602" y="1960"/>
                </a:moveTo>
                <a:cubicBezTo>
                  <a:pt x="15602" y="2023"/>
                  <a:pt x="15575" y="2141"/>
                  <a:pt x="15627" y="2158"/>
                </a:cubicBezTo>
                <a:cubicBezTo>
                  <a:pt x="15735" y="2194"/>
                  <a:pt x="15796" y="2165"/>
                  <a:pt x="15900" y="2158"/>
                </a:cubicBezTo>
                <a:cubicBezTo>
                  <a:pt x="15916" y="2158"/>
                  <a:pt x="15933" y="2158"/>
                  <a:pt x="15949" y="2158"/>
                </a:cubicBezTo>
              </a:path>
              <a:path w="348" h="720">
                <a:moveTo>
                  <a:pt x="15949" y="1786"/>
                </a:moveTo>
                <a:cubicBezTo>
                  <a:pt x="15949" y="1913"/>
                  <a:pt x="15928" y="2031"/>
                  <a:pt x="15925" y="2158"/>
                </a:cubicBezTo>
                <a:cubicBezTo>
                  <a:pt x="15923" y="2274"/>
                  <a:pt x="15925" y="2389"/>
                  <a:pt x="15925" y="25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65920" y="768240"/>
            <a:ext cx="115920" cy="61920"/>
          </a:xfrm>
          <a:custGeom>
            <a:avLst/>
            <a:gdLst/>
            <a:ahLst/>
            <a:rect l="l" t="t" r="r" b="b"/>
            <a:pathLst>
              <a:path w="323" h="175">
                <a:moveTo>
                  <a:pt x="16570" y="2133"/>
                </a:moveTo>
                <a:cubicBezTo>
                  <a:pt x="16631" y="2145"/>
                  <a:pt x="16677" y="2158"/>
                  <a:pt x="16743" y="2158"/>
                </a:cubicBezTo>
                <a:cubicBezTo>
                  <a:pt x="16751" y="2158"/>
                  <a:pt x="16760" y="2158"/>
                  <a:pt x="16768" y="2158"/>
                </a:cubicBezTo>
              </a:path>
              <a:path w="323" h="175">
                <a:moveTo>
                  <a:pt x="16669" y="2307"/>
                </a:moveTo>
                <a:cubicBezTo>
                  <a:pt x="16743" y="2307"/>
                  <a:pt x="16818" y="2307"/>
                  <a:pt x="16892" y="23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276960" y="669960"/>
            <a:ext cx="9720" cy="250920"/>
          </a:xfrm>
          <a:custGeom>
            <a:avLst/>
            <a:gdLst/>
            <a:ahLst/>
            <a:rect l="l" t="t" r="r" b="b"/>
            <a:pathLst>
              <a:path w="25" h="696">
                <a:moveTo>
                  <a:pt x="17438" y="1860"/>
                </a:moveTo>
                <a:cubicBezTo>
                  <a:pt x="17461" y="1955"/>
                  <a:pt x="17462" y="2047"/>
                  <a:pt x="17462" y="2158"/>
                </a:cubicBezTo>
                <a:cubicBezTo>
                  <a:pt x="17462" y="2290"/>
                  <a:pt x="17462" y="2423"/>
                  <a:pt x="17462" y="25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29240" y="669960"/>
            <a:ext cx="108000" cy="258840"/>
          </a:xfrm>
          <a:custGeom>
            <a:avLst/>
            <a:gdLst/>
            <a:ahLst/>
            <a:rect l="l" t="t" r="r" b="b"/>
            <a:pathLst>
              <a:path w="299" h="721">
                <a:moveTo>
                  <a:pt x="17884" y="1935"/>
                </a:moveTo>
                <a:cubicBezTo>
                  <a:pt x="17884" y="2003"/>
                  <a:pt x="17874" y="2045"/>
                  <a:pt x="17859" y="2108"/>
                </a:cubicBezTo>
                <a:cubicBezTo>
                  <a:pt x="17859" y="2116"/>
                  <a:pt x="17859" y="2125"/>
                  <a:pt x="17859" y="2133"/>
                </a:cubicBezTo>
                <a:cubicBezTo>
                  <a:pt x="17932" y="2148"/>
                  <a:pt x="18007" y="2173"/>
                  <a:pt x="18083" y="2183"/>
                </a:cubicBezTo>
                <a:cubicBezTo>
                  <a:pt x="18099" y="2183"/>
                  <a:pt x="18116" y="2183"/>
                  <a:pt x="18132" y="2183"/>
                </a:cubicBezTo>
              </a:path>
              <a:path w="299" h="721">
                <a:moveTo>
                  <a:pt x="18157" y="1860"/>
                </a:moveTo>
                <a:cubicBezTo>
                  <a:pt x="18157" y="1946"/>
                  <a:pt x="18138" y="2023"/>
                  <a:pt x="18132" y="2108"/>
                </a:cubicBezTo>
                <a:cubicBezTo>
                  <a:pt x="18121" y="2259"/>
                  <a:pt x="18141" y="2418"/>
                  <a:pt x="18107" y="2555"/>
                </a:cubicBezTo>
                <a:cubicBezTo>
                  <a:pt x="18107" y="2563"/>
                  <a:pt x="18107" y="2572"/>
                  <a:pt x="18107" y="25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60720" y="677880"/>
            <a:ext cx="1027080" cy="341280"/>
          </a:xfrm>
          <a:custGeom>
            <a:avLst/>
            <a:gdLst/>
            <a:ahLst/>
            <a:rect l="l" t="t" r="r" b="b"/>
            <a:pathLst>
              <a:path w="2853" h="944">
                <a:moveTo>
                  <a:pt x="6003" y="2332"/>
                </a:moveTo>
                <a:cubicBezTo>
                  <a:pt x="6102" y="2332"/>
                  <a:pt x="6201" y="2332"/>
                  <a:pt x="6300" y="2332"/>
                </a:cubicBezTo>
              </a:path>
              <a:path w="2853" h="944">
                <a:moveTo>
                  <a:pt x="6598" y="2059"/>
                </a:moveTo>
                <a:cubicBezTo>
                  <a:pt x="6613" y="2029"/>
                  <a:pt x="6652" y="1929"/>
                  <a:pt x="6697" y="1935"/>
                </a:cubicBezTo>
                <a:cubicBezTo>
                  <a:pt x="6751" y="1943"/>
                  <a:pt x="6808" y="1977"/>
                  <a:pt x="6821" y="2034"/>
                </a:cubicBezTo>
                <a:cubicBezTo>
                  <a:pt x="6846" y="2142"/>
                  <a:pt x="6752" y="2211"/>
                  <a:pt x="6697" y="2282"/>
                </a:cubicBezTo>
                <a:cubicBezTo>
                  <a:pt x="6653" y="2339"/>
                  <a:pt x="6586" y="2396"/>
                  <a:pt x="6548" y="2456"/>
                </a:cubicBezTo>
                <a:cubicBezTo>
                  <a:pt x="6515" y="2508"/>
                  <a:pt x="6512" y="2492"/>
                  <a:pt x="6499" y="2530"/>
                </a:cubicBezTo>
                <a:cubicBezTo>
                  <a:pt x="6573" y="2518"/>
                  <a:pt x="6648" y="2491"/>
                  <a:pt x="6722" y="2480"/>
                </a:cubicBezTo>
                <a:cubicBezTo>
                  <a:pt x="6770" y="2473"/>
                  <a:pt x="6809" y="2469"/>
                  <a:pt x="6821" y="2505"/>
                </a:cubicBezTo>
              </a:path>
              <a:path w="2853" h="944">
                <a:moveTo>
                  <a:pt x="6921" y="2282"/>
                </a:moveTo>
                <a:cubicBezTo>
                  <a:pt x="6959" y="2302"/>
                  <a:pt x="7006" y="2367"/>
                  <a:pt x="7045" y="2406"/>
                </a:cubicBezTo>
                <a:cubicBezTo>
                  <a:pt x="7082" y="2444"/>
                  <a:pt x="7105" y="2414"/>
                  <a:pt x="7119" y="2456"/>
                </a:cubicBezTo>
              </a:path>
              <a:path w="2853" h="944">
                <a:moveTo>
                  <a:pt x="7218" y="2158"/>
                </a:moveTo>
                <a:cubicBezTo>
                  <a:pt x="7218" y="2279"/>
                  <a:pt x="7205" y="2387"/>
                  <a:pt x="7193" y="2505"/>
                </a:cubicBezTo>
                <a:cubicBezTo>
                  <a:pt x="7183" y="2600"/>
                  <a:pt x="7184" y="2697"/>
                  <a:pt x="7193" y="2778"/>
                </a:cubicBezTo>
                <a:cubicBezTo>
                  <a:pt x="7193" y="2795"/>
                  <a:pt x="7193" y="2811"/>
                  <a:pt x="7193" y="2828"/>
                </a:cubicBezTo>
              </a:path>
              <a:path w="2853" h="944">
                <a:moveTo>
                  <a:pt x="7665" y="2257"/>
                </a:moveTo>
                <a:cubicBezTo>
                  <a:pt x="7718" y="2246"/>
                  <a:pt x="7780" y="2191"/>
                  <a:pt x="7838" y="2208"/>
                </a:cubicBezTo>
                <a:cubicBezTo>
                  <a:pt x="7846" y="2216"/>
                  <a:pt x="7855" y="2224"/>
                  <a:pt x="7863" y="2232"/>
                </a:cubicBezTo>
              </a:path>
              <a:path w="2853" h="944">
                <a:moveTo>
                  <a:pt x="7689" y="2381"/>
                </a:moveTo>
                <a:cubicBezTo>
                  <a:pt x="7747" y="2381"/>
                  <a:pt x="7805" y="2381"/>
                  <a:pt x="7863" y="2381"/>
                </a:cubicBezTo>
                <a:cubicBezTo>
                  <a:pt x="7863" y="2356"/>
                  <a:pt x="7863" y="2348"/>
                  <a:pt x="7888" y="2356"/>
                </a:cubicBezTo>
              </a:path>
              <a:path w="2853" h="944">
                <a:moveTo>
                  <a:pt x="8186" y="1885"/>
                </a:moveTo>
                <a:cubicBezTo>
                  <a:pt x="8194" y="1979"/>
                  <a:pt x="8190" y="2091"/>
                  <a:pt x="8210" y="2183"/>
                </a:cubicBezTo>
                <a:cubicBezTo>
                  <a:pt x="8224" y="2245"/>
                  <a:pt x="8235" y="2288"/>
                  <a:pt x="8235" y="2356"/>
                </a:cubicBezTo>
                <a:cubicBezTo>
                  <a:pt x="8235" y="2364"/>
                  <a:pt x="8235" y="2373"/>
                  <a:pt x="8235" y="2381"/>
                </a:cubicBezTo>
              </a:path>
              <a:path w="2853" h="944">
                <a:moveTo>
                  <a:pt x="8632" y="1960"/>
                </a:moveTo>
                <a:cubicBezTo>
                  <a:pt x="8574" y="2017"/>
                  <a:pt x="8515" y="2053"/>
                  <a:pt x="8508" y="2133"/>
                </a:cubicBezTo>
                <a:cubicBezTo>
                  <a:pt x="8502" y="2209"/>
                  <a:pt x="8514" y="2270"/>
                  <a:pt x="8533" y="2332"/>
                </a:cubicBezTo>
                <a:cubicBezTo>
                  <a:pt x="8542" y="2360"/>
                  <a:pt x="8568" y="2377"/>
                  <a:pt x="8607" y="2381"/>
                </a:cubicBezTo>
                <a:cubicBezTo>
                  <a:pt x="8664" y="2387"/>
                  <a:pt x="8663" y="2359"/>
                  <a:pt x="8706" y="2332"/>
                </a:cubicBezTo>
                <a:cubicBezTo>
                  <a:pt x="8758" y="2298"/>
                  <a:pt x="8810" y="2292"/>
                  <a:pt x="8830" y="2232"/>
                </a:cubicBezTo>
                <a:cubicBezTo>
                  <a:pt x="8842" y="2195"/>
                  <a:pt x="8855" y="2177"/>
                  <a:pt x="8855" y="2133"/>
                </a:cubicBezTo>
                <a:cubicBezTo>
                  <a:pt x="8855" y="2093"/>
                  <a:pt x="8815" y="2042"/>
                  <a:pt x="8781" y="2034"/>
                </a:cubicBezTo>
                <a:cubicBezTo>
                  <a:pt x="8750" y="2027"/>
                  <a:pt x="8711" y="1985"/>
                  <a:pt x="8706" y="1984"/>
                </a:cubicBezTo>
                <a:cubicBezTo>
                  <a:pt x="8690" y="1984"/>
                  <a:pt x="8673" y="1984"/>
                  <a:pt x="8657" y="19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87840" y="561960"/>
            <a:ext cx="642960" cy="19080"/>
          </a:xfrm>
          <a:custGeom>
            <a:avLst/>
            <a:gdLst/>
            <a:ahLst/>
            <a:rect l="l" t="t" r="r" b="b"/>
            <a:pathLst>
              <a:path w="1787" h="50">
                <a:moveTo>
                  <a:pt x="10269" y="1563"/>
                </a:moveTo>
                <a:cubicBezTo>
                  <a:pt x="10302" y="1579"/>
                  <a:pt x="10283" y="1582"/>
                  <a:pt x="10319" y="1588"/>
                </a:cubicBezTo>
                <a:cubicBezTo>
                  <a:pt x="10424" y="1604"/>
                  <a:pt x="10550" y="1553"/>
                  <a:pt x="10641" y="1563"/>
                </a:cubicBezTo>
                <a:cubicBezTo>
                  <a:pt x="10682" y="1568"/>
                  <a:pt x="10699" y="1588"/>
                  <a:pt x="10740" y="1588"/>
                </a:cubicBezTo>
                <a:cubicBezTo>
                  <a:pt x="10823" y="1588"/>
                  <a:pt x="10887" y="1576"/>
                  <a:pt x="10964" y="1563"/>
                </a:cubicBezTo>
                <a:cubicBezTo>
                  <a:pt x="11029" y="1552"/>
                  <a:pt x="11063" y="1578"/>
                  <a:pt x="11112" y="1588"/>
                </a:cubicBezTo>
                <a:cubicBezTo>
                  <a:pt x="11166" y="1599"/>
                  <a:pt x="11233" y="1604"/>
                  <a:pt x="11286" y="1612"/>
                </a:cubicBezTo>
                <a:cubicBezTo>
                  <a:pt x="11503" y="1645"/>
                  <a:pt x="11787" y="1550"/>
                  <a:pt x="11981" y="1588"/>
                </a:cubicBezTo>
                <a:cubicBezTo>
                  <a:pt x="12020" y="1596"/>
                  <a:pt x="11993" y="1598"/>
                  <a:pt x="12030" y="16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53040" y="625320"/>
            <a:ext cx="1339920" cy="749520"/>
          </a:xfrm>
          <a:custGeom>
            <a:avLst/>
            <a:gdLst/>
            <a:ahLst/>
            <a:rect l="l" t="t" r="r" b="b"/>
            <a:pathLst>
              <a:path w="3722" h="2085">
                <a:moveTo>
                  <a:pt x="15056" y="2704"/>
                </a:moveTo>
                <a:cubicBezTo>
                  <a:pt x="15056" y="2679"/>
                  <a:pt x="15056" y="2671"/>
                  <a:pt x="15056" y="2654"/>
                </a:cubicBezTo>
                <a:cubicBezTo>
                  <a:pt x="15122" y="2654"/>
                  <a:pt x="15189" y="2654"/>
                  <a:pt x="15255" y="2654"/>
                </a:cubicBezTo>
              </a:path>
              <a:path w="3722" h="2085">
                <a:moveTo>
                  <a:pt x="15627" y="2604"/>
                </a:moveTo>
                <a:cubicBezTo>
                  <a:pt x="15635" y="2604"/>
                  <a:pt x="15644" y="2604"/>
                  <a:pt x="15652" y="2604"/>
                </a:cubicBezTo>
                <a:cubicBezTo>
                  <a:pt x="15652" y="2664"/>
                  <a:pt x="15643" y="2719"/>
                  <a:pt x="15726" y="2704"/>
                </a:cubicBezTo>
                <a:cubicBezTo>
                  <a:pt x="15789" y="2692"/>
                  <a:pt x="15814" y="2679"/>
                  <a:pt x="15875" y="2679"/>
                </a:cubicBezTo>
              </a:path>
              <a:path w="3722" h="2085">
                <a:moveTo>
                  <a:pt x="15925" y="2505"/>
                </a:moveTo>
                <a:cubicBezTo>
                  <a:pt x="15881" y="2564"/>
                  <a:pt x="15922" y="2628"/>
                  <a:pt x="15925" y="2704"/>
                </a:cubicBezTo>
                <a:cubicBezTo>
                  <a:pt x="15928" y="2769"/>
                  <a:pt x="15923" y="2766"/>
                  <a:pt x="15949" y="2828"/>
                </a:cubicBezTo>
              </a:path>
              <a:path w="3722" h="2085">
                <a:moveTo>
                  <a:pt x="15974" y="2704"/>
                </a:moveTo>
                <a:cubicBezTo>
                  <a:pt x="15930" y="2737"/>
                  <a:pt x="15933" y="2734"/>
                  <a:pt x="15900" y="2778"/>
                </a:cubicBezTo>
              </a:path>
              <a:path w="3722" h="2085">
                <a:moveTo>
                  <a:pt x="16073" y="3051"/>
                </a:moveTo>
                <a:cubicBezTo>
                  <a:pt x="16025" y="3051"/>
                  <a:pt x="15995" y="3010"/>
                  <a:pt x="15949" y="3026"/>
                </a:cubicBezTo>
                <a:cubicBezTo>
                  <a:pt x="15915" y="3037"/>
                  <a:pt x="15826" y="3069"/>
                  <a:pt x="15801" y="3101"/>
                </a:cubicBezTo>
                <a:cubicBezTo>
                  <a:pt x="15796" y="3108"/>
                  <a:pt x="15757" y="3185"/>
                  <a:pt x="15776" y="3200"/>
                </a:cubicBezTo>
                <a:cubicBezTo>
                  <a:pt x="15804" y="3223"/>
                  <a:pt x="15911" y="3240"/>
                  <a:pt x="15949" y="3225"/>
                </a:cubicBezTo>
                <a:cubicBezTo>
                  <a:pt x="15965" y="3219"/>
                  <a:pt x="16069" y="3180"/>
                  <a:pt x="16073" y="3175"/>
                </a:cubicBezTo>
                <a:cubicBezTo>
                  <a:pt x="16082" y="3164"/>
                  <a:pt x="16094" y="3091"/>
                  <a:pt x="16098" y="3076"/>
                </a:cubicBezTo>
                <a:cubicBezTo>
                  <a:pt x="16047" y="3069"/>
                  <a:pt x="16025" y="3051"/>
                  <a:pt x="15974" y="3051"/>
                </a:cubicBezTo>
              </a:path>
              <a:path w="3722" h="2085">
                <a:moveTo>
                  <a:pt x="14982" y="2158"/>
                </a:moveTo>
                <a:cubicBezTo>
                  <a:pt x="15062" y="2225"/>
                  <a:pt x="15149" y="2322"/>
                  <a:pt x="15230" y="2406"/>
                </a:cubicBezTo>
                <a:cubicBezTo>
                  <a:pt x="15349" y="2528"/>
                  <a:pt x="15490" y="2675"/>
                  <a:pt x="15627" y="2778"/>
                </a:cubicBezTo>
                <a:cubicBezTo>
                  <a:pt x="15742" y="2864"/>
                  <a:pt x="15882" y="2919"/>
                  <a:pt x="15999" y="3001"/>
                </a:cubicBezTo>
                <a:cubicBezTo>
                  <a:pt x="16012" y="3010"/>
                  <a:pt x="16109" y="3096"/>
                  <a:pt x="16123" y="3076"/>
                </a:cubicBezTo>
                <a:cubicBezTo>
                  <a:pt x="16166" y="3076"/>
                  <a:pt x="16169" y="3059"/>
                  <a:pt x="16123" y="3001"/>
                </a:cubicBezTo>
              </a:path>
              <a:path w="3722" h="2085">
                <a:moveTo>
                  <a:pt x="15925" y="1786"/>
                </a:moveTo>
                <a:cubicBezTo>
                  <a:pt x="15925" y="1761"/>
                  <a:pt x="15925" y="1753"/>
                  <a:pt x="15925" y="1736"/>
                </a:cubicBezTo>
                <a:cubicBezTo>
                  <a:pt x="15884" y="1875"/>
                  <a:pt x="15836" y="2015"/>
                  <a:pt x="15801" y="2158"/>
                </a:cubicBezTo>
                <a:cubicBezTo>
                  <a:pt x="15733" y="2438"/>
                  <a:pt x="15658" y="2708"/>
                  <a:pt x="15553" y="2977"/>
                </a:cubicBezTo>
                <a:cubicBezTo>
                  <a:pt x="15510" y="3088"/>
                  <a:pt x="15417" y="3196"/>
                  <a:pt x="15379" y="3299"/>
                </a:cubicBezTo>
                <a:cubicBezTo>
                  <a:pt x="15366" y="3334"/>
                  <a:pt x="15367" y="3365"/>
                  <a:pt x="15354" y="3398"/>
                </a:cubicBezTo>
              </a:path>
              <a:path w="3722" h="2085">
                <a:moveTo>
                  <a:pt x="14312" y="3398"/>
                </a:moveTo>
                <a:cubicBezTo>
                  <a:pt x="14351" y="3385"/>
                  <a:pt x="14431" y="3395"/>
                  <a:pt x="14486" y="3373"/>
                </a:cubicBezTo>
                <a:cubicBezTo>
                  <a:pt x="14486" y="3365"/>
                  <a:pt x="14486" y="3357"/>
                  <a:pt x="14486" y="3349"/>
                </a:cubicBezTo>
              </a:path>
              <a:path w="3722" h="2085">
                <a:moveTo>
                  <a:pt x="14585" y="3200"/>
                </a:moveTo>
                <a:cubicBezTo>
                  <a:pt x="14552" y="3167"/>
                  <a:pt x="14584" y="3130"/>
                  <a:pt x="14635" y="3101"/>
                </a:cubicBezTo>
                <a:cubicBezTo>
                  <a:pt x="14678" y="3077"/>
                  <a:pt x="14756" y="3024"/>
                  <a:pt x="14808" y="3051"/>
                </a:cubicBezTo>
                <a:cubicBezTo>
                  <a:pt x="14913" y="3104"/>
                  <a:pt x="14883" y="3215"/>
                  <a:pt x="14858" y="3299"/>
                </a:cubicBezTo>
                <a:cubicBezTo>
                  <a:pt x="14825" y="3410"/>
                  <a:pt x="14735" y="3510"/>
                  <a:pt x="14660" y="3597"/>
                </a:cubicBezTo>
                <a:cubicBezTo>
                  <a:pt x="14621" y="3635"/>
                  <a:pt x="14619" y="3652"/>
                  <a:pt x="14585" y="3646"/>
                </a:cubicBezTo>
                <a:cubicBezTo>
                  <a:pt x="14663" y="3630"/>
                  <a:pt x="14756" y="3615"/>
                  <a:pt x="14833" y="3597"/>
                </a:cubicBezTo>
                <a:cubicBezTo>
                  <a:pt x="14902" y="3580"/>
                  <a:pt x="14890" y="3597"/>
                  <a:pt x="14957" y="3597"/>
                </a:cubicBezTo>
                <a:cubicBezTo>
                  <a:pt x="14965" y="3597"/>
                  <a:pt x="14974" y="3597"/>
                  <a:pt x="14982" y="3597"/>
                </a:cubicBezTo>
              </a:path>
              <a:path w="3722" h="2085">
                <a:moveTo>
                  <a:pt x="15131" y="3423"/>
                </a:moveTo>
                <a:cubicBezTo>
                  <a:pt x="15192" y="3443"/>
                  <a:pt x="15294" y="3488"/>
                  <a:pt x="15354" y="3522"/>
                </a:cubicBezTo>
                <a:cubicBezTo>
                  <a:pt x="15389" y="3542"/>
                  <a:pt x="15412" y="3567"/>
                  <a:pt x="15453" y="3572"/>
                </a:cubicBezTo>
                <a:cubicBezTo>
                  <a:pt x="15461" y="3572"/>
                  <a:pt x="15470" y="3572"/>
                  <a:pt x="15478" y="3572"/>
                </a:cubicBezTo>
              </a:path>
              <a:path w="3722" h="2085">
                <a:moveTo>
                  <a:pt x="15503" y="3299"/>
                </a:moveTo>
                <a:cubicBezTo>
                  <a:pt x="15482" y="3340"/>
                  <a:pt x="15503" y="3404"/>
                  <a:pt x="15503" y="3473"/>
                </a:cubicBezTo>
                <a:cubicBezTo>
                  <a:pt x="15503" y="3579"/>
                  <a:pt x="15485" y="3668"/>
                  <a:pt x="15478" y="3770"/>
                </a:cubicBezTo>
                <a:cubicBezTo>
                  <a:pt x="15475" y="3812"/>
                  <a:pt x="15470" y="3809"/>
                  <a:pt x="15503" y="3820"/>
                </a:cubicBezTo>
              </a:path>
              <a:path w="3722" h="2085">
                <a:moveTo>
                  <a:pt x="16470" y="3249"/>
                </a:moveTo>
                <a:cubicBezTo>
                  <a:pt x="16553" y="3249"/>
                  <a:pt x="16635" y="3249"/>
                  <a:pt x="16718" y="3249"/>
                </a:cubicBezTo>
              </a:path>
              <a:path w="3722" h="2085">
                <a:moveTo>
                  <a:pt x="16520" y="3423"/>
                </a:moveTo>
                <a:cubicBezTo>
                  <a:pt x="16575" y="3423"/>
                  <a:pt x="16614" y="3402"/>
                  <a:pt x="16669" y="3398"/>
                </a:cubicBezTo>
                <a:cubicBezTo>
                  <a:pt x="16693" y="3396"/>
                  <a:pt x="16719" y="3398"/>
                  <a:pt x="16743" y="3398"/>
                </a:cubicBezTo>
              </a:path>
              <a:path w="3722" h="2085">
                <a:moveTo>
                  <a:pt x="17115" y="2704"/>
                </a:moveTo>
                <a:cubicBezTo>
                  <a:pt x="17148" y="2704"/>
                  <a:pt x="17181" y="2704"/>
                  <a:pt x="17214" y="2704"/>
                </a:cubicBezTo>
              </a:path>
              <a:path w="3722" h="2085">
                <a:moveTo>
                  <a:pt x="17810" y="2480"/>
                </a:moveTo>
                <a:cubicBezTo>
                  <a:pt x="17810" y="2430"/>
                  <a:pt x="17768" y="2531"/>
                  <a:pt x="17760" y="2555"/>
                </a:cubicBezTo>
                <a:cubicBezTo>
                  <a:pt x="17760" y="2563"/>
                  <a:pt x="17760" y="2572"/>
                  <a:pt x="17760" y="2580"/>
                </a:cubicBezTo>
                <a:cubicBezTo>
                  <a:pt x="17825" y="2580"/>
                  <a:pt x="17869" y="2567"/>
                  <a:pt x="17934" y="2555"/>
                </a:cubicBezTo>
                <a:cubicBezTo>
                  <a:pt x="17959" y="2555"/>
                  <a:pt x="17967" y="2555"/>
                  <a:pt x="17983" y="2555"/>
                </a:cubicBezTo>
              </a:path>
              <a:path w="3722" h="2085">
                <a:moveTo>
                  <a:pt x="18008" y="2406"/>
                </a:moveTo>
                <a:cubicBezTo>
                  <a:pt x="18008" y="2503"/>
                  <a:pt x="18019" y="2589"/>
                  <a:pt x="18033" y="2679"/>
                </a:cubicBezTo>
                <a:cubicBezTo>
                  <a:pt x="18033" y="2720"/>
                  <a:pt x="18033" y="2728"/>
                  <a:pt x="18033" y="2753"/>
                </a:cubicBezTo>
              </a:path>
              <a:path w="3722" h="2085">
                <a:moveTo>
                  <a:pt x="17115" y="3150"/>
                </a:moveTo>
                <a:cubicBezTo>
                  <a:pt x="17115" y="3230"/>
                  <a:pt x="17124" y="3321"/>
                  <a:pt x="17140" y="3398"/>
                </a:cubicBezTo>
                <a:cubicBezTo>
                  <a:pt x="17153" y="3460"/>
                  <a:pt x="17165" y="3522"/>
                  <a:pt x="17190" y="3572"/>
                </a:cubicBezTo>
              </a:path>
              <a:path w="3722" h="2085">
                <a:moveTo>
                  <a:pt x="17711" y="3125"/>
                </a:moveTo>
                <a:cubicBezTo>
                  <a:pt x="17620" y="3182"/>
                  <a:pt x="17582" y="3239"/>
                  <a:pt x="17562" y="3349"/>
                </a:cubicBezTo>
                <a:cubicBezTo>
                  <a:pt x="17542" y="3461"/>
                  <a:pt x="17576" y="3491"/>
                  <a:pt x="17661" y="3547"/>
                </a:cubicBezTo>
                <a:cubicBezTo>
                  <a:pt x="17774" y="3621"/>
                  <a:pt x="17843" y="3557"/>
                  <a:pt x="17959" y="3497"/>
                </a:cubicBezTo>
                <a:cubicBezTo>
                  <a:pt x="18038" y="3456"/>
                  <a:pt x="18052" y="3406"/>
                  <a:pt x="18008" y="3324"/>
                </a:cubicBezTo>
                <a:cubicBezTo>
                  <a:pt x="17982" y="3276"/>
                  <a:pt x="17935" y="3220"/>
                  <a:pt x="17884" y="3200"/>
                </a:cubicBezTo>
                <a:cubicBezTo>
                  <a:pt x="17858" y="3190"/>
                  <a:pt x="17838" y="3182"/>
                  <a:pt x="17810" y="31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03840" y="973080"/>
            <a:ext cx="1866960" cy="63720"/>
          </a:xfrm>
          <a:custGeom>
            <a:avLst/>
            <a:gdLst/>
            <a:ahLst/>
            <a:rect l="l" t="t" r="r" b="b"/>
            <a:pathLst>
              <a:path w="5185" h="174">
                <a:moveTo>
                  <a:pt x="13345" y="2753"/>
                </a:moveTo>
                <a:cubicBezTo>
                  <a:pt x="13428" y="2758"/>
                  <a:pt x="13513" y="2773"/>
                  <a:pt x="13593" y="2778"/>
                </a:cubicBezTo>
                <a:cubicBezTo>
                  <a:pt x="13745" y="2788"/>
                  <a:pt x="13897" y="2762"/>
                  <a:pt x="14039" y="2753"/>
                </a:cubicBezTo>
                <a:cubicBezTo>
                  <a:pt x="14122" y="2748"/>
                  <a:pt x="14225" y="2734"/>
                  <a:pt x="14312" y="2729"/>
                </a:cubicBezTo>
                <a:cubicBezTo>
                  <a:pt x="14373" y="2725"/>
                  <a:pt x="14431" y="2709"/>
                  <a:pt x="14486" y="2704"/>
                </a:cubicBezTo>
                <a:cubicBezTo>
                  <a:pt x="14605" y="2693"/>
                  <a:pt x="14723" y="2720"/>
                  <a:pt x="14833" y="2729"/>
                </a:cubicBezTo>
                <a:cubicBezTo>
                  <a:pt x="14938" y="2737"/>
                  <a:pt x="15031" y="2731"/>
                  <a:pt x="15131" y="2753"/>
                </a:cubicBezTo>
                <a:cubicBezTo>
                  <a:pt x="15205" y="2769"/>
                  <a:pt x="15280" y="2788"/>
                  <a:pt x="15354" y="2803"/>
                </a:cubicBezTo>
                <a:cubicBezTo>
                  <a:pt x="15412" y="2815"/>
                  <a:pt x="15471" y="2814"/>
                  <a:pt x="15528" y="2828"/>
                </a:cubicBezTo>
                <a:cubicBezTo>
                  <a:pt x="15604" y="2847"/>
                  <a:pt x="15676" y="2851"/>
                  <a:pt x="15751" y="2853"/>
                </a:cubicBezTo>
                <a:cubicBezTo>
                  <a:pt x="16363" y="2867"/>
                  <a:pt x="16981" y="2842"/>
                  <a:pt x="17587" y="2877"/>
                </a:cubicBezTo>
                <a:cubicBezTo>
                  <a:pt x="17788" y="2888"/>
                  <a:pt x="17985" y="2865"/>
                  <a:pt x="18182" y="2853"/>
                </a:cubicBezTo>
                <a:cubicBezTo>
                  <a:pt x="18297" y="2846"/>
                  <a:pt x="18414" y="2853"/>
                  <a:pt x="18529" y="28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05000" y="696960"/>
            <a:ext cx="474840" cy="581040"/>
          </a:xfrm>
          <a:custGeom>
            <a:avLst/>
            <a:gdLst/>
            <a:ahLst/>
            <a:rect l="l" t="t" r="r" b="b"/>
            <a:pathLst>
              <a:path w="1315" h="1613">
                <a:moveTo>
                  <a:pt x="6127" y="2877"/>
                </a:moveTo>
                <a:cubicBezTo>
                  <a:pt x="6222" y="2893"/>
                  <a:pt x="6300" y="2902"/>
                  <a:pt x="6400" y="2902"/>
                </a:cubicBezTo>
                <a:cubicBezTo>
                  <a:pt x="6584" y="2902"/>
                  <a:pt x="6763" y="2866"/>
                  <a:pt x="6945" y="2853"/>
                </a:cubicBezTo>
                <a:cubicBezTo>
                  <a:pt x="7056" y="2845"/>
                  <a:pt x="7184" y="2848"/>
                  <a:pt x="7293" y="2828"/>
                </a:cubicBezTo>
                <a:cubicBezTo>
                  <a:pt x="7353" y="2817"/>
                  <a:pt x="7381" y="2803"/>
                  <a:pt x="7441" y="2803"/>
                </a:cubicBezTo>
              </a:path>
              <a:path w="1315" h="1613">
                <a:moveTo>
                  <a:pt x="6672" y="3200"/>
                </a:moveTo>
                <a:cubicBezTo>
                  <a:pt x="6632" y="3186"/>
                  <a:pt x="6642" y="3159"/>
                  <a:pt x="6672" y="3125"/>
                </a:cubicBezTo>
                <a:cubicBezTo>
                  <a:pt x="6694" y="3100"/>
                  <a:pt x="6766" y="3079"/>
                  <a:pt x="6796" y="3076"/>
                </a:cubicBezTo>
                <a:cubicBezTo>
                  <a:pt x="6834" y="3072"/>
                  <a:pt x="6862" y="3085"/>
                  <a:pt x="6871" y="3125"/>
                </a:cubicBezTo>
                <a:cubicBezTo>
                  <a:pt x="6884" y="3184"/>
                  <a:pt x="6856" y="3253"/>
                  <a:pt x="6821" y="3299"/>
                </a:cubicBezTo>
                <a:cubicBezTo>
                  <a:pt x="6770" y="3366"/>
                  <a:pt x="6671" y="3412"/>
                  <a:pt x="6648" y="3497"/>
                </a:cubicBezTo>
                <a:cubicBezTo>
                  <a:pt x="6648" y="3514"/>
                  <a:pt x="6648" y="3530"/>
                  <a:pt x="6648" y="3547"/>
                </a:cubicBezTo>
                <a:cubicBezTo>
                  <a:pt x="6666" y="3455"/>
                  <a:pt x="6678" y="3496"/>
                  <a:pt x="6747" y="3473"/>
                </a:cubicBezTo>
                <a:cubicBezTo>
                  <a:pt x="6830" y="3445"/>
                  <a:pt x="6840" y="3468"/>
                  <a:pt x="6921" y="3473"/>
                </a:cubicBezTo>
                <a:cubicBezTo>
                  <a:pt x="6937" y="3473"/>
                  <a:pt x="6954" y="3473"/>
                  <a:pt x="6970" y="3473"/>
                </a:cubicBezTo>
              </a:path>
              <a:path w="1315" h="1613">
                <a:moveTo>
                  <a:pt x="6201" y="3373"/>
                </a:moveTo>
                <a:cubicBezTo>
                  <a:pt x="6263" y="3373"/>
                  <a:pt x="6315" y="3359"/>
                  <a:pt x="6375" y="3349"/>
                </a:cubicBezTo>
              </a:path>
              <a:path w="1315" h="1613">
                <a:moveTo>
                  <a:pt x="6648" y="2009"/>
                </a:moveTo>
                <a:cubicBezTo>
                  <a:pt x="6648" y="1915"/>
                  <a:pt x="6648" y="2010"/>
                  <a:pt x="6648" y="2059"/>
                </a:cubicBezTo>
                <a:cubicBezTo>
                  <a:pt x="6648" y="2224"/>
                  <a:pt x="6646" y="2417"/>
                  <a:pt x="6672" y="2580"/>
                </a:cubicBezTo>
                <a:cubicBezTo>
                  <a:pt x="6687" y="2675"/>
                  <a:pt x="6717" y="2757"/>
                  <a:pt x="6722" y="2853"/>
                </a:cubicBezTo>
                <a:cubicBezTo>
                  <a:pt x="6726" y="2929"/>
                  <a:pt x="6720" y="2979"/>
                  <a:pt x="6747" y="3051"/>
                </a:cubicBezTo>
                <a:cubicBezTo>
                  <a:pt x="6743" y="3051"/>
                  <a:pt x="6724" y="2962"/>
                  <a:pt x="6697" y="2803"/>
                </a:cubicBezTo>
                <a:cubicBezTo>
                  <a:pt x="6662" y="2597"/>
                  <a:pt x="6672" y="2392"/>
                  <a:pt x="6672" y="2183"/>
                </a:cubicBezTo>
                <a:cubicBezTo>
                  <a:pt x="6672" y="2163"/>
                  <a:pt x="6672" y="1938"/>
                  <a:pt x="6672" y="1984"/>
                </a:cubicBezTo>
                <a:cubicBezTo>
                  <a:pt x="6672" y="2189"/>
                  <a:pt x="6698" y="2400"/>
                  <a:pt x="6722" y="2604"/>
                </a:cubicBezTo>
                <a:cubicBezTo>
                  <a:pt x="6746" y="2795"/>
                  <a:pt x="6753" y="2853"/>
                  <a:pt x="6772" y="2977"/>
                </a:cubicBezTo>
                <a:cubicBezTo>
                  <a:pt x="6777" y="3061"/>
                  <a:pt x="6832" y="3301"/>
                  <a:pt x="6796" y="3225"/>
                </a:cubicBezTo>
                <a:cubicBezTo>
                  <a:pt x="6749" y="3126"/>
                  <a:pt x="6751" y="2903"/>
                  <a:pt x="6747" y="2803"/>
                </a:cubicBezTo>
                <a:cubicBezTo>
                  <a:pt x="6736" y="2537"/>
                  <a:pt x="6748" y="2270"/>
                  <a:pt x="6722" y="2009"/>
                </a:cubicBezTo>
                <a:cubicBezTo>
                  <a:pt x="6722" y="1984"/>
                  <a:pt x="6722" y="1960"/>
                  <a:pt x="6722" y="1935"/>
                </a:cubicBezTo>
                <a:cubicBezTo>
                  <a:pt x="6761" y="2080"/>
                  <a:pt x="6777" y="2228"/>
                  <a:pt x="6796" y="2381"/>
                </a:cubicBezTo>
                <a:cubicBezTo>
                  <a:pt x="6829" y="2651"/>
                  <a:pt x="6841" y="2928"/>
                  <a:pt x="6846" y="3200"/>
                </a:cubicBezTo>
                <a:cubicBezTo>
                  <a:pt x="6847" y="3258"/>
                  <a:pt x="6846" y="3266"/>
                  <a:pt x="6846" y="3324"/>
                </a:cubicBezTo>
                <a:cubicBezTo>
                  <a:pt x="6785" y="3113"/>
                  <a:pt x="6810" y="2922"/>
                  <a:pt x="6796" y="2704"/>
                </a:cubicBezTo>
                <a:cubicBezTo>
                  <a:pt x="6781" y="2470"/>
                  <a:pt x="6764" y="2240"/>
                  <a:pt x="6722" y="2009"/>
                </a:cubicBezTo>
                <a:cubicBezTo>
                  <a:pt x="6722" y="1893"/>
                  <a:pt x="6733" y="1959"/>
                  <a:pt x="6747" y="2059"/>
                </a:cubicBezTo>
                <a:cubicBezTo>
                  <a:pt x="6796" y="2402"/>
                  <a:pt x="6805" y="2733"/>
                  <a:pt x="6796" y="3076"/>
                </a:cubicBezTo>
                <a:cubicBezTo>
                  <a:pt x="6796" y="3091"/>
                  <a:pt x="6796" y="3470"/>
                  <a:pt x="6796" y="3423"/>
                </a:cubicBezTo>
                <a:cubicBezTo>
                  <a:pt x="6796" y="3168"/>
                  <a:pt x="6787" y="2908"/>
                  <a:pt x="6772" y="2654"/>
                </a:cubicBezTo>
                <a:cubicBezTo>
                  <a:pt x="6760" y="2461"/>
                  <a:pt x="6747" y="2277"/>
                  <a:pt x="6747" y="2084"/>
                </a:cubicBezTo>
                <a:cubicBezTo>
                  <a:pt x="6747" y="2076"/>
                  <a:pt x="6747" y="2067"/>
                  <a:pt x="6747" y="20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28960" y="901800"/>
            <a:ext cx="376200" cy="312480"/>
          </a:xfrm>
          <a:custGeom>
            <a:avLst/>
            <a:gdLst/>
            <a:ahLst/>
            <a:rect l="l" t="t" r="r" b="b"/>
            <a:pathLst>
              <a:path w="1043" h="869">
                <a:moveTo>
                  <a:pt x="8161" y="2604"/>
                </a:moveTo>
                <a:cubicBezTo>
                  <a:pt x="8094" y="2604"/>
                  <a:pt x="8198" y="2604"/>
                  <a:pt x="8210" y="2604"/>
                </a:cubicBezTo>
                <a:cubicBezTo>
                  <a:pt x="8400" y="2604"/>
                  <a:pt x="8606" y="2614"/>
                  <a:pt x="8781" y="2580"/>
                </a:cubicBezTo>
                <a:cubicBezTo>
                  <a:pt x="8822" y="2580"/>
                  <a:pt x="8830" y="2580"/>
                  <a:pt x="8855" y="2580"/>
                </a:cubicBezTo>
              </a:path>
              <a:path w="1043" h="869">
                <a:moveTo>
                  <a:pt x="8310" y="3001"/>
                </a:moveTo>
                <a:cubicBezTo>
                  <a:pt x="8334" y="3001"/>
                  <a:pt x="8343" y="3001"/>
                  <a:pt x="8359" y="3001"/>
                </a:cubicBezTo>
              </a:path>
              <a:path w="1043" h="869">
                <a:moveTo>
                  <a:pt x="8657" y="2828"/>
                </a:moveTo>
                <a:cubicBezTo>
                  <a:pt x="8657" y="2772"/>
                  <a:pt x="8677" y="2794"/>
                  <a:pt x="8682" y="2753"/>
                </a:cubicBezTo>
                <a:cubicBezTo>
                  <a:pt x="8682" y="2745"/>
                  <a:pt x="8682" y="2737"/>
                  <a:pt x="8682" y="2729"/>
                </a:cubicBezTo>
                <a:cubicBezTo>
                  <a:pt x="8741" y="2720"/>
                  <a:pt x="8760" y="2688"/>
                  <a:pt x="8806" y="2729"/>
                </a:cubicBezTo>
                <a:cubicBezTo>
                  <a:pt x="8853" y="2771"/>
                  <a:pt x="8815" y="2834"/>
                  <a:pt x="8781" y="2877"/>
                </a:cubicBezTo>
                <a:cubicBezTo>
                  <a:pt x="8734" y="2937"/>
                  <a:pt x="8671" y="2996"/>
                  <a:pt x="8632" y="3051"/>
                </a:cubicBezTo>
                <a:cubicBezTo>
                  <a:pt x="8601" y="3095"/>
                  <a:pt x="8566" y="3115"/>
                  <a:pt x="8558" y="3175"/>
                </a:cubicBezTo>
                <a:cubicBezTo>
                  <a:pt x="8549" y="3241"/>
                  <a:pt x="8533" y="3307"/>
                  <a:pt x="8533" y="3373"/>
                </a:cubicBezTo>
                <a:cubicBezTo>
                  <a:pt x="8562" y="3354"/>
                  <a:pt x="8611" y="3271"/>
                  <a:pt x="8657" y="3225"/>
                </a:cubicBezTo>
                <a:cubicBezTo>
                  <a:pt x="8682" y="3200"/>
                  <a:pt x="8690" y="3192"/>
                  <a:pt x="8706" y="3175"/>
                </a:cubicBezTo>
                <a:cubicBezTo>
                  <a:pt x="8749" y="3232"/>
                  <a:pt x="8754" y="3255"/>
                  <a:pt x="8830" y="3274"/>
                </a:cubicBezTo>
              </a:path>
              <a:path w="1043" h="869">
                <a:moveTo>
                  <a:pt x="8334" y="2704"/>
                </a:moveTo>
                <a:cubicBezTo>
                  <a:pt x="8298" y="2676"/>
                  <a:pt x="8296" y="2687"/>
                  <a:pt x="8285" y="2654"/>
                </a:cubicBezTo>
                <a:cubicBezTo>
                  <a:pt x="8311" y="2649"/>
                  <a:pt x="8418" y="2617"/>
                  <a:pt x="8434" y="2604"/>
                </a:cubicBezTo>
                <a:cubicBezTo>
                  <a:pt x="8463" y="2580"/>
                  <a:pt x="8520" y="2560"/>
                  <a:pt x="8582" y="2555"/>
                </a:cubicBezTo>
                <a:cubicBezTo>
                  <a:pt x="8628" y="2551"/>
                  <a:pt x="8656" y="2514"/>
                  <a:pt x="8706" y="2505"/>
                </a:cubicBezTo>
                <a:cubicBezTo>
                  <a:pt x="8824" y="2484"/>
                  <a:pt x="9002" y="2496"/>
                  <a:pt x="9103" y="2530"/>
                </a:cubicBezTo>
                <a:cubicBezTo>
                  <a:pt x="9122" y="2536"/>
                  <a:pt x="9158" y="2530"/>
                  <a:pt x="9178" y="25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03680" y="1724040"/>
            <a:ext cx="1188720" cy="374760"/>
          </a:xfrm>
          <a:custGeom>
            <a:avLst/>
            <a:gdLst/>
            <a:ahLst/>
            <a:rect l="l" t="t" r="r" b="b"/>
            <a:pathLst>
              <a:path w="3300" h="1043">
                <a:moveTo>
                  <a:pt x="7938" y="4787"/>
                </a:moveTo>
                <a:cubicBezTo>
                  <a:pt x="7916" y="4965"/>
                  <a:pt x="7847" y="5132"/>
                  <a:pt x="7813" y="5308"/>
                </a:cubicBezTo>
                <a:cubicBezTo>
                  <a:pt x="7768" y="5541"/>
                  <a:pt x="7794" y="5692"/>
                  <a:pt x="8012" y="5804"/>
                </a:cubicBezTo>
                <a:cubicBezTo>
                  <a:pt x="8063" y="5830"/>
                  <a:pt x="8087" y="5829"/>
                  <a:pt x="8136" y="5829"/>
                </a:cubicBezTo>
              </a:path>
              <a:path w="3300" h="1043">
                <a:moveTo>
                  <a:pt x="8334" y="5308"/>
                </a:moveTo>
                <a:cubicBezTo>
                  <a:pt x="8364" y="5396"/>
                  <a:pt x="8412" y="5483"/>
                  <a:pt x="8434" y="5581"/>
                </a:cubicBezTo>
                <a:cubicBezTo>
                  <a:pt x="8434" y="5589"/>
                  <a:pt x="8434" y="5598"/>
                  <a:pt x="8434" y="5606"/>
                </a:cubicBezTo>
              </a:path>
              <a:path w="3300" h="1043">
                <a:moveTo>
                  <a:pt x="8161" y="5085"/>
                </a:moveTo>
                <a:lnTo>
                  <a:pt x="8161" y="5085"/>
                </a:lnTo>
              </a:path>
              <a:path w="3300" h="1043">
                <a:moveTo>
                  <a:pt x="8582" y="5432"/>
                </a:moveTo>
                <a:cubicBezTo>
                  <a:pt x="8620" y="5474"/>
                  <a:pt x="8682" y="5586"/>
                  <a:pt x="8682" y="5556"/>
                </a:cubicBezTo>
                <a:cubicBezTo>
                  <a:pt x="8664" y="5502"/>
                  <a:pt x="8575" y="5369"/>
                  <a:pt x="8657" y="5308"/>
                </a:cubicBezTo>
                <a:cubicBezTo>
                  <a:pt x="8804" y="5199"/>
                  <a:pt x="8911" y="5395"/>
                  <a:pt x="8930" y="5507"/>
                </a:cubicBezTo>
                <a:cubicBezTo>
                  <a:pt x="8930" y="5575"/>
                  <a:pt x="8933" y="5594"/>
                  <a:pt x="8905" y="5631"/>
                </a:cubicBezTo>
              </a:path>
              <a:path w="3300" h="1043">
                <a:moveTo>
                  <a:pt x="8880" y="5308"/>
                </a:moveTo>
                <a:cubicBezTo>
                  <a:pt x="9017" y="5390"/>
                  <a:pt x="9104" y="5509"/>
                  <a:pt x="9227" y="5606"/>
                </a:cubicBezTo>
                <a:cubicBezTo>
                  <a:pt x="9244" y="5614"/>
                  <a:pt x="9260" y="5623"/>
                  <a:pt x="9277" y="5631"/>
                </a:cubicBezTo>
                <a:cubicBezTo>
                  <a:pt x="9305" y="5539"/>
                  <a:pt x="9302" y="5457"/>
                  <a:pt x="9302" y="5358"/>
                </a:cubicBezTo>
              </a:path>
              <a:path w="3300" h="1043">
                <a:moveTo>
                  <a:pt x="9525" y="5358"/>
                </a:moveTo>
                <a:cubicBezTo>
                  <a:pt x="9579" y="5331"/>
                  <a:pt x="9599" y="5319"/>
                  <a:pt x="9624" y="5283"/>
                </a:cubicBezTo>
                <a:cubicBezTo>
                  <a:pt x="9598" y="5207"/>
                  <a:pt x="9514" y="5350"/>
                  <a:pt x="9500" y="5383"/>
                </a:cubicBezTo>
                <a:cubicBezTo>
                  <a:pt x="9445" y="5514"/>
                  <a:pt x="9503" y="5705"/>
                  <a:pt x="9674" y="5631"/>
                </a:cubicBezTo>
                <a:cubicBezTo>
                  <a:pt x="9776" y="5554"/>
                  <a:pt x="9810" y="5526"/>
                  <a:pt x="9823" y="5432"/>
                </a:cubicBezTo>
              </a:path>
              <a:path w="3300" h="1043">
                <a:moveTo>
                  <a:pt x="9823" y="5432"/>
                </a:moveTo>
                <a:cubicBezTo>
                  <a:pt x="9848" y="5510"/>
                  <a:pt x="9858" y="5538"/>
                  <a:pt x="9897" y="5581"/>
                </a:cubicBezTo>
                <a:cubicBezTo>
                  <a:pt x="9897" y="5490"/>
                  <a:pt x="9897" y="5399"/>
                  <a:pt x="9897" y="5308"/>
                </a:cubicBezTo>
                <a:cubicBezTo>
                  <a:pt x="10023" y="5276"/>
                  <a:pt x="10163" y="5249"/>
                  <a:pt x="10294" y="5234"/>
                </a:cubicBezTo>
                <a:cubicBezTo>
                  <a:pt x="10319" y="5234"/>
                  <a:pt x="10343" y="5234"/>
                  <a:pt x="10368" y="5234"/>
                </a:cubicBezTo>
                <a:cubicBezTo>
                  <a:pt x="10425" y="5149"/>
                  <a:pt x="10258" y="5275"/>
                  <a:pt x="10244" y="5283"/>
                </a:cubicBezTo>
                <a:cubicBezTo>
                  <a:pt x="10130" y="5348"/>
                  <a:pt x="10260" y="5341"/>
                  <a:pt x="10344" y="5358"/>
                </a:cubicBezTo>
                <a:cubicBezTo>
                  <a:pt x="10470" y="5383"/>
                  <a:pt x="10497" y="5388"/>
                  <a:pt x="10567" y="5482"/>
                </a:cubicBezTo>
                <a:cubicBezTo>
                  <a:pt x="10479" y="5583"/>
                  <a:pt x="10400" y="5573"/>
                  <a:pt x="10269" y="5556"/>
                </a:cubicBezTo>
              </a:path>
              <a:path w="3300" h="1043">
                <a:moveTo>
                  <a:pt x="10691" y="5333"/>
                </a:moveTo>
                <a:cubicBezTo>
                  <a:pt x="10761" y="5333"/>
                  <a:pt x="10867" y="5352"/>
                  <a:pt x="10914" y="5283"/>
                </a:cubicBezTo>
                <a:cubicBezTo>
                  <a:pt x="10914" y="5259"/>
                  <a:pt x="10914" y="5250"/>
                  <a:pt x="10914" y="5234"/>
                </a:cubicBezTo>
                <a:cubicBezTo>
                  <a:pt x="10822" y="5211"/>
                  <a:pt x="10662" y="5176"/>
                  <a:pt x="10616" y="5308"/>
                </a:cubicBezTo>
                <a:cubicBezTo>
                  <a:pt x="10555" y="5486"/>
                  <a:pt x="10741" y="5602"/>
                  <a:pt x="10889" y="5581"/>
                </a:cubicBezTo>
                <a:cubicBezTo>
                  <a:pt x="10955" y="5564"/>
                  <a:pt x="11022" y="5548"/>
                  <a:pt x="11088" y="55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49800" y="1751040"/>
            <a:ext cx="1573200" cy="446040"/>
          </a:xfrm>
          <a:custGeom>
            <a:avLst/>
            <a:gdLst/>
            <a:ahLst/>
            <a:rect l="l" t="t" r="r" b="b"/>
            <a:pathLst>
              <a:path w="4367" h="1241">
                <a:moveTo>
                  <a:pt x="12030" y="5259"/>
                </a:moveTo>
                <a:cubicBezTo>
                  <a:pt x="11916" y="5259"/>
                  <a:pt x="11841" y="5278"/>
                  <a:pt x="11807" y="5407"/>
                </a:cubicBezTo>
                <a:cubicBezTo>
                  <a:pt x="11758" y="5592"/>
                  <a:pt x="11927" y="5673"/>
                  <a:pt x="12080" y="5606"/>
                </a:cubicBezTo>
                <a:cubicBezTo>
                  <a:pt x="12239" y="5536"/>
                  <a:pt x="12249" y="5369"/>
                  <a:pt x="12080" y="5333"/>
                </a:cubicBezTo>
                <a:cubicBezTo>
                  <a:pt x="12055" y="5333"/>
                  <a:pt x="12030" y="5333"/>
                  <a:pt x="12005" y="5333"/>
                </a:cubicBezTo>
              </a:path>
              <a:path w="4367" h="1241">
                <a:moveTo>
                  <a:pt x="12378" y="5407"/>
                </a:moveTo>
                <a:cubicBezTo>
                  <a:pt x="12499" y="5620"/>
                  <a:pt x="12602" y="5828"/>
                  <a:pt x="12700" y="6052"/>
                </a:cubicBezTo>
                <a:cubicBezTo>
                  <a:pt x="12720" y="6093"/>
                  <a:pt x="12729" y="6120"/>
                  <a:pt x="12725" y="6077"/>
                </a:cubicBezTo>
                <a:cubicBezTo>
                  <a:pt x="12585" y="5911"/>
                  <a:pt x="12468" y="5726"/>
                  <a:pt x="12427" y="5507"/>
                </a:cubicBezTo>
                <a:cubicBezTo>
                  <a:pt x="12383" y="5270"/>
                  <a:pt x="12658" y="5212"/>
                  <a:pt x="12799" y="5358"/>
                </a:cubicBezTo>
                <a:cubicBezTo>
                  <a:pt x="12816" y="5391"/>
                  <a:pt x="12832" y="5424"/>
                  <a:pt x="12849" y="5457"/>
                </a:cubicBezTo>
                <a:cubicBezTo>
                  <a:pt x="12728" y="5644"/>
                  <a:pt x="12647" y="5624"/>
                  <a:pt x="12427" y="5606"/>
                </a:cubicBezTo>
              </a:path>
              <a:path w="4367" h="1241">
                <a:moveTo>
                  <a:pt x="12898" y="5432"/>
                </a:moveTo>
                <a:cubicBezTo>
                  <a:pt x="12970" y="5432"/>
                  <a:pt x="12997" y="5475"/>
                  <a:pt x="13072" y="5432"/>
                </a:cubicBezTo>
                <a:cubicBezTo>
                  <a:pt x="13121" y="5405"/>
                  <a:pt x="13119" y="5370"/>
                  <a:pt x="13146" y="5333"/>
                </a:cubicBezTo>
                <a:cubicBezTo>
                  <a:pt x="13054" y="5317"/>
                  <a:pt x="12953" y="5298"/>
                  <a:pt x="12874" y="5383"/>
                </a:cubicBezTo>
                <a:cubicBezTo>
                  <a:pt x="12771" y="5494"/>
                  <a:pt x="12823" y="5699"/>
                  <a:pt x="12998" y="5680"/>
                </a:cubicBezTo>
                <a:cubicBezTo>
                  <a:pt x="13171" y="5661"/>
                  <a:pt x="13204" y="5480"/>
                  <a:pt x="13246" y="5358"/>
                </a:cubicBezTo>
                <a:cubicBezTo>
                  <a:pt x="13275" y="5275"/>
                  <a:pt x="13276" y="5529"/>
                  <a:pt x="13320" y="5606"/>
                </a:cubicBezTo>
                <a:cubicBezTo>
                  <a:pt x="13320" y="5505"/>
                  <a:pt x="13290" y="5346"/>
                  <a:pt x="13395" y="5283"/>
                </a:cubicBezTo>
                <a:cubicBezTo>
                  <a:pt x="13461" y="5283"/>
                  <a:pt x="13494" y="5283"/>
                  <a:pt x="13543" y="5283"/>
                </a:cubicBezTo>
              </a:path>
              <a:path w="4367" h="1241">
                <a:moveTo>
                  <a:pt x="13990" y="5283"/>
                </a:moveTo>
                <a:cubicBezTo>
                  <a:pt x="13903" y="5227"/>
                  <a:pt x="13789" y="5236"/>
                  <a:pt x="13742" y="5358"/>
                </a:cubicBezTo>
                <a:cubicBezTo>
                  <a:pt x="13693" y="5484"/>
                  <a:pt x="13809" y="5535"/>
                  <a:pt x="13891" y="5457"/>
                </a:cubicBezTo>
                <a:cubicBezTo>
                  <a:pt x="13933" y="5394"/>
                  <a:pt x="13949" y="5382"/>
                  <a:pt x="13940" y="5333"/>
                </a:cubicBezTo>
                <a:cubicBezTo>
                  <a:pt x="13976" y="5440"/>
                  <a:pt x="14064" y="5510"/>
                  <a:pt x="14188" y="5482"/>
                </a:cubicBezTo>
                <a:cubicBezTo>
                  <a:pt x="14379" y="5439"/>
                  <a:pt x="14404" y="5255"/>
                  <a:pt x="14337" y="5110"/>
                </a:cubicBezTo>
                <a:cubicBezTo>
                  <a:pt x="14298" y="5050"/>
                  <a:pt x="14295" y="5038"/>
                  <a:pt x="14263" y="5011"/>
                </a:cubicBezTo>
                <a:cubicBezTo>
                  <a:pt x="14263" y="5130"/>
                  <a:pt x="14350" y="5259"/>
                  <a:pt x="14412" y="5358"/>
                </a:cubicBezTo>
                <a:cubicBezTo>
                  <a:pt x="14440" y="5402"/>
                  <a:pt x="14504" y="5508"/>
                  <a:pt x="14536" y="5531"/>
                </a:cubicBezTo>
              </a:path>
              <a:path w="4367" h="1241">
                <a:moveTo>
                  <a:pt x="14114" y="5308"/>
                </a:moveTo>
                <a:cubicBezTo>
                  <a:pt x="14264" y="5296"/>
                  <a:pt x="14407" y="5283"/>
                  <a:pt x="14560" y="5283"/>
                </a:cubicBezTo>
                <a:cubicBezTo>
                  <a:pt x="14657" y="5283"/>
                  <a:pt x="14853" y="5435"/>
                  <a:pt x="14759" y="5457"/>
                </a:cubicBezTo>
                <a:cubicBezTo>
                  <a:pt x="14693" y="5457"/>
                  <a:pt x="14626" y="5457"/>
                  <a:pt x="14560" y="5457"/>
                </a:cubicBezTo>
              </a:path>
              <a:path w="4367" h="1241">
                <a:moveTo>
                  <a:pt x="14684" y="5085"/>
                </a:moveTo>
                <a:cubicBezTo>
                  <a:pt x="14684" y="5093"/>
                  <a:pt x="14684" y="5102"/>
                  <a:pt x="14684" y="5110"/>
                </a:cubicBezTo>
              </a:path>
              <a:path w="4367" h="1241">
                <a:moveTo>
                  <a:pt x="15230" y="5283"/>
                </a:moveTo>
                <a:cubicBezTo>
                  <a:pt x="15215" y="5328"/>
                  <a:pt x="15137" y="5393"/>
                  <a:pt x="15106" y="5457"/>
                </a:cubicBezTo>
                <a:cubicBezTo>
                  <a:pt x="15083" y="5524"/>
                  <a:pt x="15072" y="5542"/>
                  <a:pt x="15106" y="5581"/>
                </a:cubicBezTo>
                <a:cubicBezTo>
                  <a:pt x="15180" y="5587"/>
                  <a:pt x="15375" y="5572"/>
                  <a:pt x="15329" y="5432"/>
                </a:cubicBezTo>
                <a:cubicBezTo>
                  <a:pt x="15307" y="5366"/>
                  <a:pt x="15185" y="5351"/>
                  <a:pt x="15131" y="5333"/>
                </a:cubicBezTo>
              </a:path>
              <a:path w="4367" h="1241">
                <a:moveTo>
                  <a:pt x="15354" y="5432"/>
                </a:moveTo>
                <a:cubicBezTo>
                  <a:pt x="15417" y="5495"/>
                  <a:pt x="15434" y="5504"/>
                  <a:pt x="15453" y="5556"/>
                </a:cubicBezTo>
                <a:cubicBezTo>
                  <a:pt x="15453" y="5485"/>
                  <a:pt x="15429" y="5365"/>
                  <a:pt x="15478" y="5308"/>
                </a:cubicBezTo>
                <a:cubicBezTo>
                  <a:pt x="15581" y="5189"/>
                  <a:pt x="15702" y="5314"/>
                  <a:pt x="15751" y="5407"/>
                </a:cubicBezTo>
                <a:cubicBezTo>
                  <a:pt x="15773" y="5472"/>
                  <a:pt x="15781" y="5487"/>
                  <a:pt x="15776" y="5531"/>
                </a:cubicBezTo>
              </a:path>
              <a:path w="4367" h="1241">
                <a:moveTo>
                  <a:pt x="15627" y="4862"/>
                </a:moveTo>
                <a:cubicBezTo>
                  <a:pt x="15841" y="4963"/>
                  <a:pt x="16004" y="5105"/>
                  <a:pt x="16098" y="5333"/>
                </a:cubicBezTo>
                <a:cubicBezTo>
                  <a:pt x="16173" y="5516"/>
                  <a:pt x="16205" y="5711"/>
                  <a:pt x="16098" y="5879"/>
                </a:cubicBezTo>
                <a:cubicBezTo>
                  <a:pt x="16090" y="5887"/>
                  <a:pt x="16081" y="5896"/>
                  <a:pt x="16073" y="59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769080" y="61920"/>
            <a:ext cx="820800" cy="492120"/>
          </a:xfrm>
          <a:custGeom>
            <a:avLst/>
            <a:gdLst/>
            <a:ahLst/>
            <a:rect l="l" t="t" r="r" b="b"/>
            <a:pathLst>
              <a:path w="2283" h="1365">
                <a:moveTo>
                  <a:pt x="19149" y="546"/>
                </a:moveTo>
                <a:cubicBezTo>
                  <a:pt x="19149" y="644"/>
                  <a:pt x="19186" y="682"/>
                  <a:pt x="19224" y="769"/>
                </a:cubicBezTo>
                <a:cubicBezTo>
                  <a:pt x="19254" y="838"/>
                  <a:pt x="19276" y="884"/>
                  <a:pt x="19323" y="943"/>
                </a:cubicBezTo>
              </a:path>
              <a:path w="2283" h="1365">
                <a:moveTo>
                  <a:pt x="19348" y="521"/>
                </a:moveTo>
                <a:cubicBezTo>
                  <a:pt x="19348" y="625"/>
                  <a:pt x="19325" y="743"/>
                  <a:pt x="19298" y="843"/>
                </a:cubicBezTo>
                <a:cubicBezTo>
                  <a:pt x="19253" y="1009"/>
                  <a:pt x="19208" y="1166"/>
                  <a:pt x="19199" y="1339"/>
                </a:cubicBezTo>
                <a:cubicBezTo>
                  <a:pt x="19197" y="1381"/>
                  <a:pt x="19190" y="1378"/>
                  <a:pt x="19224" y="1389"/>
                </a:cubicBezTo>
              </a:path>
              <a:path w="2283" h="1365">
                <a:moveTo>
                  <a:pt x="19521" y="819"/>
                </a:moveTo>
                <a:cubicBezTo>
                  <a:pt x="19521" y="811"/>
                  <a:pt x="19521" y="802"/>
                  <a:pt x="19521" y="794"/>
                </a:cubicBezTo>
                <a:cubicBezTo>
                  <a:pt x="19582" y="794"/>
                  <a:pt x="19634" y="773"/>
                  <a:pt x="19695" y="769"/>
                </a:cubicBezTo>
                <a:cubicBezTo>
                  <a:pt x="19703" y="769"/>
                  <a:pt x="19712" y="769"/>
                  <a:pt x="19720" y="769"/>
                </a:cubicBezTo>
              </a:path>
              <a:path w="2283" h="1365">
                <a:moveTo>
                  <a:pt x="19496" y="967"/>
                </a:moveTo>
                <a:cubicBezTo>
                  <a:pt x="19562" y="946"/>
                  <a:pt x="19628" y="932"/>
                  <a:pt x="19695" y="918"/>
                </a:cubicBezTo>
              </a:path>
              <a:path w="2283" h="1365">
                <a:moveTo>
                  <a:pt x="20662" y="422"/>
                </a:moveTo>
                <a:cubicBezTo>
                  <a:pt x="20537" y="431"/>
                  <a:pt x="20418" y="446"/>
                  <a:pt x="20290" y="446"/>
                </a:cubicBezTo>
                <a:cubicBezTo>
                  <a:pt x="20187" y="446"/>
                  <a:pt x="20195" y="492"/>
                  <a:pt x="20191" y="595"/>
                </a:cubicBezTo>
                <a:cubicBezTo>
                  <a:pt x="20191" y="671"/>
                  <a:pt x="20191" y="697"/>
                  <a:pt x="20166" y="744"/>
                </a:cubicBezTo>
                <a:cubicBezTo>
                  <a:pt x="20224" y="787"/>
                  <a:pt x="20251" y="750"/>
                  <a:pt x="20315" y="719"/>
                </a:cubicBezTo>
                <a:cubicBezTo>
                  <a:pt x="20397" y="679"/>
                  <a:pt x="20449" y="647"/>
                  <a:pt x="20538" y="695"/>
                </a:cubicBezTo>
                <a:cubicBezTo>
                  <a:pt x="20647" y="753"/>
                  <a:pt x="20708" y="820"/>
                  <a:pt x="20662" y="943"/>
                </a:cubicBezTo>
                <a:cubicBezTo>
                  <a:pt x="20613" y="1075"/>
                  <a:pt x="20470" y="1130"/>
                  <a:pt x="20340" y="1166"/>
                </a:cubicBezTo>
                <a:cubicBezTo>
                  <a:pt x="20319" y="1172"/>
                  <a:pt x="20286" y="1166"/>
                  <a:pt x="20265" y="1166"/>
                </a:cubicBezTo>
              </a:path>
              <a:path w="2283" h="1365">
                <a:moveTo>
                  <a:pt x="19794" y="546"/>
                </a:moveTo>
                <a:cubicBezTo>
                  <a:pt x="19851" y="517"/>
                  <a:pt x="19924" y="501"/>
                  <a:pt x="19993" y="496"/>
                </a:cubicBezTo>
                <a:cubicBezTo>
                  <a:pt x="20001" y="496"/>
                  <a:pt x="20009" y="496"/>
                  <a:pt x="20017" y="496"/>
                </a:cubicBezTo>
              </a:path>
              <a:path w="2283" h="1365">
                <a:moveTo>
                  <a:pt x="18926" y="298"/>
                </a:moveTo>
                <a:cubicBezTo>
                  <a:pt x="18974" y="451"/>
                  <a:pt x="18997" y="583"/>
                  <a:pt x="19000" y="744"/>
                </a:cubicBezTo>
                <a:cubicBezTo>
                  <a:pt x="19003" y="932"/>
                  <a:pt x="19006" y="1105"/>
                  <a:pt x="19000" y="1290"/>
                </a:cubicBezTo>
                <a:cubicBezTo>
                  <a:pt x="18997" y="1372"/>
                  <a:pt x="19000" y="1456"/>
                  <a:pt x="19000" y="1538"/>
                </a:cubicBezTo>
                <a:cubicBezTo>
                  <a:pt x="19101" y="1532"/>
                  <a:pt x="19199" y="1528"/>
                  <a:pt x="19298" y="1513"/>
                </a:cubicBezTo>
                <a:cubicBezTo>
                  <a:pt x="19481" y="1485"/>
                  <a:pt x="19660" y="1451"/>
                  <a:pt x="19844" y="1439"/>
                </a:cubicBezTo>
                <a:cubicBezTo>
                  <a:pt x="19980" y="1430"/>
                  <a:pt x="20106" y="1459"/>
                  <a:pt x="20241" y="1463"/>
                </a:cubicBezTo>
                <a:cubicBezTo>
                  <a:pt x="20490" y="1470"/>
                  <a:pt x="20745" y="1468"/>
                  <a:pt x="20985" y="1439"/>
                </a:cubicBezTo>
                <a:cubicBezTo>
                  <a:pt x="21017" y="1435"/>
                  <a:pt x="21051" y="1441"/>
                  <a:pt x="21084" y="1439"/>
                </a:cubicBezTo>
                <a:cubicBezTo>
                  <a:pt x="21066" y="1368"/>
                  <a:pt x="21042" y="1289"/>
                  <a:pt x="21034" y="1215"/>
                </a:cubicBezTo>
                <a:cubicBezTo>
                  <a:pt x="21018" y="1069"/>
                  <a:pt x="21024" y="910"/>
                  <a:pt x="21010" y="769"/>
                </a:cubicBezTo>
                <a:cubicBezTo>
                  <a:pt x="21004" y="706"/>
                  <a:pt x="20989" y="620"/>
                  <a:pt x="20985" y="571"/>
                </a:cubicBezTo>
                <a:cubicBezTo>
                  <a:pt x="20978" y="494"/>
                  <a:pt x="20968" y="421"/>
                  <a:pt x="20960" y="347"/>
                </a:cubicBezTo>
                <a:cubicBezTo>
                  <a:pt x="20956" y="306"/>
                  <a:pt x="20963" y="264"/>
                  <a:pt x="20960" y="223"/>
                </a:cubicBezTo>
                <a:cubicBezTo>
                  <a:pt x="20905" y="218"/>
                  <a:pt x="20902" y="205"/>
                  <a:pt x="20861" y="223"/>
                </a:cubicBezTo>
                <a:cubicBezTo>
                  <a:pt x="20819" y="241"/>
                  <a:pt x="20776" y="279"/>
                  <a:pt x="20737" y="298"/>
                </a:cubicBezTo>
                <a:cubicBezTo>
                  <a:pt x="20657" y="338"/>
                  <a:pt x="20553" y="344"/>
                  <a:pt x="20464" y="347"/>
                </a:cubicBezTo>
                <a:cubicBezTo>
                  <a:pt x="20346" y="351"/>
                  <a:pt x="20254" y="329"/>
                  <a:pt x="20141" y="298"/>
                </a:cubicBezTo>
                <a:cubicBezTo>
                  <a:pt x="19971" y="252"/>
                  <a:pt x="19823" y="198"/>
                  <a:pt x="19645" y="198"/>
                </a:cubicBezTo>
                <a:cubicBezTo>
                  <a:pt x="19502" y="198"/>
                  <a:pt x="19334" y="166"/>
                  <a:pt x="19199" y="174"/>
                </a:cubicBezTo>
                <a:cubicBezTo>
                  <a:pt x="19129" y="178"/>
                  <a:pt x="19036" y="168"/>
                  <a:pt x="18976" y="174"/>
                </a:cubicBezTo>
                <a:cubicBezTo>
                  <a:pt x="18945" y="177"/>
                  <a:pt x="18846" y="173"/>
                  <a:pt x="18827" y="198"/>
                </a:cubicBezTo>
                <a:cubicBezTo>
                  <a:pt x="18812" y="218"/>
                  <a:pt x="18813" y="274"/>
                  <a:pt x="18802" y="2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51120" y="2670120"/>
            <a:ext cx="1000080" cy="374760"/>
          </a:xfrm>
          <a:custGeom>
            <a:avLst/>
            <a:gdLst/>
            <a:ahLst/>
            <a:rect l="l" t="t" r="r" b="b"/>
            <a:pathLst>
              <a:path w="2779" h="1042">
                <a:moveTo>
                  <a:pt x="7913" y="7565"/>
                </a:moveTo>
                <a:cubicBezTo>
                  <a:pt x="7899" y="7606"/>
                  <a:pt x="7819" y="7714"/>
                  <a:pt x="7789" y="7764"/>
                </a:cubicBezTo>
                <a:cubicBezTo>
                  <a:pt x="7674" y="7956"/>
                  <a:pt x="7606" y="8143"/>
                  <a:pt x="7689" y="8359"/>
                </a:cubicBezTo>
                <a:cubicBezTo>
                  <a:pt x="7740" y="8493"/>
                  <a:pt x="7857" y="8451"/>
                  <a:pt x="7962" y="8434"/>
                </a:cubicBezTo>
              </a:path>
              <a:path w="2779" h="1042">
                <a:moveTo>
                  <a:pt x="8285" y="7938"/>
                </a:moveTo>
                <a:cubicBezTo>
                  <a:pt x="8319" y="8047"/>
                  <a:pt x="8328" y="8156"/>
                  <a:pt x="8359" y="8260"/>
                </a:cubicBezTo>
              </a:path>
              <a:path w="2779" h="1042">
                <a:moveTo>
                  <a:pt x="7913" y="7863"/>
                </a:moveTo>
                <a:cubicBezTo>
                  <a:pt x="8040" y="7863"/>
                  <a:pt x="8159" y="7846"/>
                  <a:pt x="8285" y="7838"/>
                </a:cubicBezTo>
                <a:cubicBezTo>
                  <a:pt x="8434" y="7829"/>
                  <a:pt x="8535" y="7805"/>
                  <a:pt x="8607" y="7913"/>
                </a:cubicBezTo>
              </a:path>
              <a:path w="2779" h="1042">
                <a:moveTo>
                  <a:pt x="8285" y="8434"/>
                </a:moveTo>
                <a:cubicBezTo>
                  <a:pt x="8446" y="8386"/>
                  <a:pt x="8596" y="8312"/>
                  <a:pt x="8756" y="8260"/>
                </a:cubicBezTo>
                <a:cubicBezTo>
                  <a:pt x="8789" y="8252"/>
                  <a:pt x="8822" y="8243"/>
                  <a:pt x="8855" y="8235"/>
                </a:cubicBezTo>
              </a:path>
              <a:path w="2779" h="1042">
                <a:moveTo>
                  <a:pt x="8880" y="8235"/>
                </a:moveTo>
                <a:cubicBezTo>
                  <a:pt x="8923" y="8235"/>
                  <a:pt x="8948" y="8229"/>
                  <a:pt x="8979" y="8210"/>
                </a:cubicBezTo>
              </a:path>
              <a:path w="2779" h="1042">
                <a:moveTo>
                  <a:pt x="9401" y="7838"/>
                </a:moveTo>
                <a:cubicBezTo>
                  <a:pt x="9260" y="7826"/>
                  <a:pt x="9192" y="7889"/>
                  <a:pt x="9128" y="8037"/>
                </a:cubicBezTo>
                <a:cubicBezTo>
                  <a:pt x="9064" y="8183"/>
                  <a:pt x="9130" y="8339"/>
                  <a:pt x="9302" y="8310"/>
                </a:cubicBezTo>
                <a:cubicBezTo>
                  <a:pt x="9461" y="8283"/>
                  <a:pt x="9648" y="8135"/>
                  <a:pt x="9575" y="7962"/>
                </a:cubicBezTo>
                <a:cubicBezTo>
                  <a:pt x="9524" y="7912"/>
                  <a:pt x="9506" y="7896"/>
                  <a:pt x="9451" y="7913"/>
                </a:cubicBezTo>
              </a:path>
              <a:path w="2779" h="1042">
                <a:moveTo>
                  <a:pt x="9872" y="8111"/>
                </a:moveTo>
                <a:lnTo>
                  <a:pt x="9872" y="8111"/>
                </a:lnTo>
              </a:path>
              <a:path w="2779" h="1042">
                <a:moveTo>
                  <a:pt x="9823" y="7417"/>
                </a:moveTo>
                <a:cubicBezTo>
                  <a:pt x="10040" y="7499"/>
                  <a:pt x="10371" y="7610"/>
                  <a:pt x="10418" y="7888"/>
                </a:cubicBezTo>
                <a:cubicBezTo>
                  <a:pt x="10447" y="8063"/>
                  <a:pt x="10337" y="8253"/>
                  <a:pt x="10220" y="83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348080" y="2705040"/>
            <a:ext cx="1152720" cy="617760"/>
          </a:xfrm>
          <a:custGeom>
            <a:avLst/>
            <a:gdLst/>
            <a:ahLst/>
            <a:rect l="l" t="t" r="r" b="b"/>
            <a:pathLst>
              <a:path w="3201" h="1712">
                <a:moveTo>
                  <a:pt x="12080" y="7665"/>
                </a:moveTo>
                <a:cubicBezTo>
                  <a:pt x="12188" y="7719"/>
                  <a:pt x="12288" y="7848"/>
                  <a:pt x="12378" y="7938"/>
                </a:cubicBezTo>
                <a:cubicBezTo>
                  <a:pt x="12447" y="8007"/>
                  <a:pt x="12503" y="8091"/>
                  <a:pt x="12601" y="8111"/>
                </a:cubicBezTo>
              </a:path>
              <a:path w="3201" h="1712">
                <a:moveTo>
                  <a:pt x="12576" y="7665"/>
                </a:moveTo>
                <a:cubicBezTo>
                  <a:pt x="12481" y="7825"/>
                  <a:pt x="12371" y="7975"/>
                  <a:pt x="12278" y="8136"/>
                </a:cubicBezTo>
                <a:cubicBezTo>
                  <a:pt x="12231" y="8217"/>
                  <a:pt x="12219" y="8215"/>
                  <a:pt x="12204" y="8260"/>
                </a:cubicBezTo>
              </a:path>
              <a:path w="3201" h="1712">
                <a:moveTo>
                  <a:pt x="13072" y="7938"/>
                </a:moveTo>
                <a:cubicBezTo>
                  <a:pt x="13226" y="7894"/>
                  <a:pt x="13411" y="7854"/>
                  <a:pt x="13568" y="7838"/>
                </a:cubicBezTo>
                <a:cubicBezTo>
                  <a:pt x="13716" y="7823"/>
                  <a:pt x="13847" y="7826"/>
                  <a:pt x="13990" y="7838"/>
                </a:cubicBezTo>
                <a:cubicBezTo>
                  <a:pt x="13998" y="7838"/>
                  <a:pt x="14007" y="7838"/>
                  <a:pt x="14015" y="7838"/>
                </a:cubicBezTo>
              </a:path>
              <a:path w="3201" h="1712">
                <a:moveTo>
                  <a:pt x="13494" y="7516"/>
                </a:moveTo>
                <a:cubicBezTo>
                  <a:pt x="13605" y="7532"/>
                  <a:pt x="13706" y="7593"/>
                  <a:pt x="13816" y="7640"/>
                </a:cubicBezTo>
                <a:cubicBezTo>
                  <a:pt x="13899" y="7675"/>
                  <a:pt x="14111" y="7711"/>
                  <a:pt x="14163" y="7789"/>
                </a:cubicBezTo>
                <a:cubicBezTo>
                  <a:pt x="14163" y="7797"/>
                  <a:pt x="14163" y="7805"/>
                  <a:pt x="14163" y="7813"/>
                </a:cubicBezTo>
                <a:cubicBezTo>
                  <a:pt x="14077" y="7937"/>
                  <a:pt x="13957" y="8039"/>
                  <a:pt x="13866" y="8161"/>
                </a:cubicBezTo>
                <a:cubicBezTo>
                  <a:pt x="13858" y="8177"/>
                  <a:pt x="13849" y="8194"/>
                  <a:pt x="13841" y="8210"/>
                </a:cubicBezTo>
              </a:path>
              <a:path w="3201" h="1712">
                <a:moveTo>
                  <a:pt x="14635" y="7888"/>
                </a:moveTo>
                <a:cubicBezTo>
                  <a:pt x="14758" y="7888"/>
                  <a:pt x="14861" y="7882"/>
                  <a:pt x="14982" y="7888"/>
                </a:cubicBezTo>
                <a:cubicBezTo>
                  <a:pt x="15081" y="7893"/>
                  <a:pt x="15181" y="7888"/>
                  <a:pt x="15280" y="7888"/>
                </a:cubicBezTo>
              </a:path>
              <a:path w="3201" h="1712">
                <a:moveTo>
                  <a:pt x="14759" y="7565"/>
                </a:moveTo>
                <a:cubicBezTo>
                  <a:pt x="14775" y="7598"/>
                  <a:pt x="14792" y="7632"/>
                  <a:pt x="14808" y="7665"/>
                </a:cubicBezTo>
              </a:path>
              <a:path w="3201" h="1712">
                <a:moveTo>
                  <a:pt x="14932" y="8260"/>
                </a:moveTo>
                <a:cubicBezTo>
                  <a:pt x="14976" y="8260"/>
                  <a:pt x="14972" y="8261"/>
                  <a:pt x="15007" y="8235"/>
                </a:cubicBezTo>
              </a:path>
              <a:path w="3201" h="1712">
                <a:moveTo>
                  <a:pt x="12353" y="8905"/>
                </a:moveTo>
                <a:cubicBezTo>
                  <a:pt x="12493" y="8892"/>
                  <a:pt x="12634" y="8867"/>
                  <a:pt x="12774" y="8855"/>
                </a:cubicBezTo>
                <a:cubicBezTo>
                  <a:pt x="12816" y="8851"/>
                  <a:pt x="12891" y="8855"/>
                  <a:pt x="12849" y="8855"/>
                </a:cubicBezTo>
              </a:path>
              <a:path w="3201" h="1712">
                <a:moveTo>
                  <a:pt x="12477" y="8632"/>
                </a:moveTo>
                <a:cubicBezTo>
                  <a:pt x="12485" y="8640"/>
                  <a:pt x="12494" y="8649"/>
                  <a:pt x="12502" y="8657"/>
                </a:cubicBezTo>
              </a:path>
              <a:path w="3201" h="1712">
                <a:moveTo>
                  <a:pt x="12551" y="9227"/>
                </a:moveTo>
                <a:cubicBezTo>
                  <a:pt x="12624" y="9227"/>
                  <a:pt x="12588" y="9233"/>
                  <a:pt x="12650" y="9153"/>
                </a:cubicBezTo>
              </a:path>
              <a:path w="3201" h="1712">
                <a:moveTo>
                  <a:pt x="13072" y="8855"/>
                </a:moveTo>
                <a:cubicBezTo>
                  <a:pt x="13225" y="8870"/>
                  <a:pt x="13362" y="8858"/>
                  <a:pt x="13519" y="8855"/>
                </a:cubicBezTo>
                <a:cubicBezTo>
                  <a:pt x="13651" y="8852"/>
                  <a:pt x="13783" y="8855"/>
                  <a:pt x="13915" y="8855"/>
                </a:cubicBezTo>
              </a:path>
              <a:path w="3201" h="1712">
                <a:moveTo>
                  <a:pt x="13444" y="8632"/>
                </a:moveTo>
                <a:cubicBezTo>
                  <a:pt x="13569" y="8632"/>
                  <a:pt x="13670" y="8676"/>
                  <a:pt x="13791" y="8706"/>
                </a:cubicBezTo>
                <a:cubicBezTo>
                  <a:pt x="13876" y="8727"/>
                  <a:pt x="14088" y="8731"/>
                  <a:pt x="13990" y="8880"/>
                </a:cubicBezTo>
                <a:cubicBezTo>
                  <a:pt x="13935" y="8963"/>
                  <a:pt x="13839" y="9050"/>
                  <a:pt x="13767" y="9103"/>
                </a:cubicBezTo>
                <a:cubicBezTo>
                  <a:pt x="13744" y="9126"/>
                  <a:pt x="13736" y="9137"/>
                  <a:pt x="13742" y="9103"/>
                </a:cubicBezTo>
              </a:path>
              <a:path w="3201" h="1712">
                <a:moveTo>
                  <a:pt x="14238" y="8657"/>
                </a:moveTo>
                <a:cubicBezTo>
                  <a:pt x="14238" y="8649"/>
                  <a:pt x="14238" y="8640"/>
                  <a:pt x="14238" y="8632"/>
                </a:cubicBezTo>
                <a:cubicBezTo>
                  <a:pt x="14310" y="8668"/>
                  <a:pt x="14406" y="8773"/>
                  <a:pt x="14486" y="8830"/>
                </a:cubicBezTo>
                <a:cubicBezTo>
                  <a:pt x="14551" y="8876"/>
                  <a:pt x="14579" y="9061"/>
                  <a:pt x="14635" y="9004"/>
                </a:cubicBezTo>
                <a:cubicBezTo>
                  <a:pt x="14635" y="8987"/>
                  <a:pt x="14635" y="8971"/>
                  <a:pt x="14635" y="8954"/>
                </a:cubicBezTo>
              </a:path>
              <a:path w="3201" h="1712">
                <a:moveTo>
                  <a:pt x="14536" y="8582"/>
                </a:moveTo>
                <a:cubicBezTo>
                  <a:pt x="14482" y="8690"/>
                  <a:pt x="14367" y="8802"/>
                  <a:pt x="14288" y="8905"/>
                </a:cubicBezTo>
                <a:cubicBezTo>
                  <a:pt x="14231" y="8980"/>
                  <a:pt x="14227" y="8992"/>
                  <a:pt x="14188" y="90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43160" y="4197240"/>
            <a:ext cx="893880" cy="660600"/>
          </a:xfrm>
          <a:custGeom>
            <a:avLst/>
            <a:gdLst/>
            <a:ahLst/>
            <a:rect l="l" t="t" r="r" b="b"/>
            <a:pathLst>
              <a:path w="2482" h="1837">
                <a:moveTo>
                  <a:pt x="9029" y="12378"/>
                </a:moveTo>
                <a:cubicBezTo>
                  <a:pt x="9148" y="12451"/>
                  <a:pt x="9188" y="12569"/>
                  <a:pt x="9277" y="12675"/>
                </a:cubicBezTo>
                <a:cubicBezTo>
                  <a:pt x="9319" y="12725"/>
                  <a:pt x="9387" y="12781"/>
                  <a:pt x="9401" y="12824"/>
                </a:cubicBezTo>
              </a:path>
              <a:path w="2482" h="1837">
                <a:moveTo>
                  <a:pt x="9451" y="12179"/>
                </a:moveTo>
                <a:cubicBezTo>
                  <a:pt x="9451" y="12342"/>
                  <a:pt x="9435" y="12516"/>
                  <a:pt x="9401" y="12675"/>
                </a:cubicBezTo>
                <a:cubicBezTo>
                  <a:pt x="9363" y="12855"/>
                  <a:pt x="9322" y="13048"/>
                  <a:pt x="9277" y="13221"/>
                </a:cubicBezTo>
                <a:cubicBezTo>
                  <a:pt x="9269" y="13238"/>
                  <a:pt x="9260" y="13254"/>
                  <a:pt x="9252" y="13271"/>
                </a:cubicBezTo>
              </a:path>
              <a:path w="2482" h="1837">
                <a:moveTo>
                  <a:pt x="9773" y="12502"/>
                </a:moveTo>
                <a:cubicBezTo>
                  <a:pt x="9715" y="12502"/>
                  <a:pt x="9849" y="12457"/>
                  <a:pt x="9872" y="12452"/>
                </a:cubicBezTo>
                <a:cubicBezTo>
                  <a:pt x="9926" y="12440"/>
                  <a:pt x="9936" y="12429"/>
                  <a:pt x="9947" y="12452"/>
                </a:cubicBezTo>
              </a:path>
              <a:path w="2482" h="1837">
                <a:moveTo>
                  <a:pt x="9699" y="12700"/>
                </a:moveTo>
                <a:cubicBezTo>
                  <a:pt x="9792" y="12691"/>
                  <a:pt x="9879" y="12657"/>
                  <a:pt x="9971" y="12650"/>
                </a:cubicBezTo>
                <a:cubicBezTo>
                  <a:pt x="9979" y="12650"/>
                  <a:pt x="9988" y="12650"/>
                  <a:pt x="9996" y="12650"/>
                </a:cubicBezTo>
              </a:path>
              <a:path w="2482" h="1837">
                <a:moveTo>
                  <a:pt x="10393" y="12278"/>
                </a:moveTo>
                <a:cubicBezTo>
                  <a:pt x="10393" y="12232"/>
                  <a:pt x="10387" y="12214"/>
                  <a:pt x="10418" y="12179"/>
                </a:cubicBezTo>
                <a:cubicBezTo>
                  <a:pt x="10460" y="12132"/>
                  <a:pt x="10507" y="12048"/>
                  <a:pt x="10567" y="12030"/>
                </a:cubicBezTo>
                <a:cubicBezTo>
                  <a:pt x="10613" y="12016"/>
                  <a:pt x="10643" y="12012"/>
                  <a:pt x="10691" y="12005"/>
                </a:cubicBezTo>
                <a:cubicBezTo>
                  <a:pt x="10728" y="12080"/>
                  <a:pt x="10740" y="12121"/>
                  <a:pt x="10740" y="12204"/>
                </a:cubicBezTo>
                <a:cubicBezTo>
                  <a:pt x="10740" y="12316"/>
                  <a:pt x="10691" y="12372"/>
                  <a:pt x="10616" y="12452"/>
                </a:cubicBezTo>
                <a:cubicBezTo>
                  <a:pt x="10552" y="12520"/>
                  <a:pt x="10484" y="12584"/>
                  <a:pt x="10418" y="12650"/>
                </a:cubicBezTo>
                <a:cubicBezTo>
                  <a:pt x="10339" y="12729"/>
                  <a:pt x="10268" y="12805"/>
                  <a:pt x="10220" y="12898"/>
                </a:cubicBezTo>
                <a:cubicBezTo>
                  <a:pt x="10198" y="12942"/>
                  <a:pt x="10195" y="12954"/>
                  <a:pt x="10170" y="12973"/>
                </a:cubicBezTo>
                <a:cubicBezTo>
                  <a:pt x="10170" y="13012"/>
                  <a:pt x="10210" y="12910"/>
                  <a:pt x="10244" y="12874"/>
                </a:cubicBezTo>
                <a:cubicBezTo>
                  <a:pt x="10271" y="12846"/>
                  <a:pt x="10341" y="12770"/>
                  <a:pt x="10393" y="12799"/>
                </a:cubicBezTo>
                <a:cubicBezTo>
                  <a:pt x="10435" y="12823"/>
                  <a:pt x="10459" y="12912"/>
                  <a:pt x="10492" y="12948"/>
                </a:cubicBezTo>
                <a:cubicBezTo>
                  <a:pt x="10561" y="13023"/>
                  <a:pt x="10661" y="12990"/>
                  <a:pt x="10740" y="12948"/>
                </a:cubicBezTo>
                <a:cubicBezTo>
                  <a:pt x="10748" y="12940"/>
                  <a:pt x="10757" y="12931"/>
                  <a:pt x="10765" y="12923"/>
                </a:cubicBezTo>
              </a:path>
              <a:path w="2482" h="1837">
                <a:moveTo>
                  <a:pt x="8731" y="11832"/>
                </a:moveTo>
                <a:cubicBezTo>
                  <a:pt x="8778" y="11859"/>
                  <a:pt x="8750" y="11767"/>
                  <a:pt x="8781" y="11881"/>
                </a:cubicBezTo>
                <a:cubicBezTo>
                  <a:pt x="8803" y="11963"/>
                  <a:pt x="8825" y="12067"/>
                  <a:pt x="8830" y="12154"/>
                </a:cubicBezTo>
                <a:cubicBezTo>
                  <a:pt x="8851" y="12496"/>
                  <a:pt x="8838" y="12862"/>
                  <a:pt x="8806" y="13196"/>
                </a:cubicBezTo>
                <a:cubicBezTo>
                  <a:pt x="8802" y="13237"/>
                  <a:pt x="8836" y="13254"/>
                  <a:pt x="8830" y="13295"/>
                </a:cubicBezTo>
                <a:cubicBezTo>
                  <a:pt x="8824" y="13333"/>
                  <a:pt x="8794" y="13324"/>
                  <a:pt x="8781" y="13370"/>
                </a:cubicBezTo>
                <a:cubicBezTo>
                  <a:pt x="8781" y="13395"/>
                  <a:pt x="8781" y="13403"/>
                  <a:pt x="8781" y="13419"/>
                </a:cubicBezTo>
                <a:cubicBezTo>
                  <a:pt x="8831" y="13431"/>
                  <a:pt x="8881" y="13459"/>
                  <a:pt x="8930" y="13469"/>
                </a:cubicBezTo>
                <a:cubicBezTo>
                  <a:pt x="9020" y="13488"/>
                  <a:pt x="9108" y="13494"/>
                  <a:pt x="9203" y="13494"/>
                </a:cubicBezTo>
                <a:cubicBezTo>
                  <a:pt x="9349" y="13494"/>
                  <a:pt x="9483" y="13485"/>
                  <a:pt x="9624" y="13469"/>
                </a:cubicBezTo>
                <a:cubicBezTo>
                  <a:pt x="9724" y="13458"/>
                  <a:pt x="9824" y="13466"/>
                  <a:pt x="9922" y="13444"/>
                </a:cubicBezTo>
                <a:cubicBezTo>
                  <a:pt x="10061" y="13413"/>
                  <a:pt x="10224" y="13386"/>
                  <a:pt x="10368" y="13370"/>
                </a:cubicBezTo>
                <a:cubicBezTo>
                  <a:pt x="10499" y="13356"/>
                  <a:pt x="10612" y="13329"/>
                  <a:pt x="10740" y="13295"/>
                </a:cubicBezTo>
                <a:cubicBezTo>
                  <a:pt x="10826" y="13272"/>
                  <a:pt x="10928" y="13232"/>
                  <a:pt x="11013" y="13221"/>
                </a:cubicBezTo>
                <a:cubicBezTo>
                  <a:pt x="11064" y="13214"/>
                  <a:pt x="11066" y="13234"/>
                  <a:pt x="11088" y="13196"/>
                </a:cubicBezTo>
                <a:cubicBezTo>
                  <a:pt x="11122" y="13137"/>
                  <a:pt x="11100" y="13039"/>
                  <a:pt x="11112" y="12973"/>
                </a:cubicBezTo>
                <a:cubicBezTo>
                  <a:pt x="11125" y="12901"/>
                  <a:pt x="11142" y="12821"/>
                  <a:pt x="11162" y="12750"/>
                </a:cubicBezTo>
                <a:cubicBezTo>
                  <a:pt x="11179" y="12689"/>
                  <a:pt x="11204" y="12615"/>
                  <a:pt x="11212" y="12551"/>
                </a:cubicBezTo>
                <a:cubicBezTo>
                  <a:pt x="11237" y="12349"/>
                  <a:pt x="11209" y="12128"/>
                  <a:pt x="11187" y="11931"/>
                </a:cubicBezTo>
                <a:cubicBezTo>
                  <a:pt x="11179" y="11861"/>
                  <a:pt x="11169" y="11875"/>
                  <a:pt x="11162" y="11832"/>
                </a:cubicBezTo>
                <a:cubicBezTo>
                  <a:pt x="11157" y="11799"/>
                  <a:pt x="11143" y="11790"/>
                  <a:pt x="11137" y="11757"/>
                </a:cubicBezTo>
                <a:cubicBezTo>
                  <a:pt x="11131" y="11723"/>
                  <a:pt x="11114" y="11689"/>
                  <a:pt x="11112" y="11683"/>
                </a:cubicBezTo>
                <a:cubicBezTo>
                  <a:pt x="11112" y="11675"/>
                  <a:pt x="11112" y="11666"/>
                  <a:pt x="11112" y="11658"/>
                </a:cubicBezTo>
                <a:cubicBezTo>
                  <a:pt x="11040" y="11663"/>
                  <a:pt x="10986" y="11681"/>
                  <a:pt x="10914" y="11683"/>
                </a:cubicBezTo>
                <a:cubicBezTo>
                  <a:pt x="10689" y="11689"/>
                  <a:pt x="10464" y="11683"/>
                  <a:pt x="10244" y="11658"/>
                </a:cubicBezTo>
                <a:cubicBezTo>
                  <a:pt x="10123" y="11644"/>
                  <a:pt x="10012" y="11672"/>
                  <a:pt x="9897" y="11683"/>
                </a:cubicBezTo>
                <a:cubicBezTo>
                  <a:pt x="9790" y="11693"/>
                  <a:pt x="9681" y="11704"/>
                  <a:pt x="9575" y="11708"/>
                </a:cubicBezTo>
                <a:cubicBezTo>
                  <a:pt x="9472" y="11712"/>
                  <a:pt x="9377" y="11736"/>
                  <a:pt x="9277" y="11757"/>
                </a:cubicBezTo>
                <a:cubicBezTo>
                  <a:pt x="9221" y="11769"/>
                  <a:pt x="9159" y="11769"/>
                  <a:pt x="9103" y="11782"/>
                </a:cubicBezTo>
                <a:cubicBezTo>
                  <a:pt x="9040" y="11796"/>
                  <a:pt x="8967" y="11814"/>
                  <a:pt x="8905" y="11832"/>
                </a:cubicBezTo>
                <a:cubicBezTo>
                  <a:pt x="8887" y="11837"/>
                  <a:pt x="8820" y="11847"/>
                  <a:pt x="8806" y="11857"/>
                </a:cubicBezTo>
                <a:cubicBezTo>
                  <a:pt x="8773" y="11857"/>
                  <a:pt x="8765" y="11865"/>
                  <a:pt x="8781" y="119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30840" y="3527280"/>
            <a:ext cx="571320" cy="465120"/>
          </a:xfrm>
          <a:custGeom>
            <a:avLst/>
            <a:gdLst/>
            <a:ahLst/>
            <a:rect l="l" t="t" r="r" b="b"/>
            <a:pathLst>
              <a:path w="1589" h="1291">
                <a:moveTo>
                  <a:pt x="14139" y="10021"/>
                </a:moveTo>
                <a:cubicBezTo>
                  <a:pt x="14073" y="10120"/>
                  <a:pt x="14095" y="10051"/>
                  <a:pt x="14139" y="10021"/>
                </a:cubicBezTo>
                <a:cubicBezTo>
                  <a:pt x="14291" y="9919"/>
                  <a:pt x="14445" y="9969"/>
                  <a:pt x="14461" y="10170"/>
                </a:cubicBezTo>
                <a:cubicBezTo>
                  <a:pt x="14479" y="10399"/>
                  <a:pt x="14239" y="10612"/>
                  <a:pt x="14015" y="10592"/>
                </a:cubicBezTo>
                <a:cubicBezTo>
                  <a:pt x="13998" y="10575"/>
                  <a:pt x="13982" y="10559"/>
                  <a:pt x="13965" y="10542"/>
                </a:cubicBezTo>
                <a:cubicBezTo>
                  <a:pt x="13994" y="10397"/>
                  <a:pt x="14058" y="10309"/>
                  <a:pt x="14238" y="10368"/>
                </a:cubicBezTo>
                <a:cubicBezTo>
                  <a:pt x="14307" y="10391"/>
                  <a:pt x="14322" y="10444"/>
                  <a:pt x="14362" y="10492"/>
                </a:cubicBezTo>
              </a:path>
              <a:path w="1589" h="1291">
                <a:moveTo>
                  <a:pt x="13841" y="10864"/>
                </a:moveTo>
                <a:cubicBezTo>
                  <a:pt x="14083" y="10945"/>
                  <a:pt x="14279" y="10893"/>
                  <a:pt x="14511" y="10765"/>
                </a:cubicBezTo>
                <a:cubicBezTo>
                  <a:pt x="14709" y="10656"/>
                  <a:pt x="15024" y="10436"/>
                  <a:pt x="15007" y="10170"/>
                </a:cubicBezTo>
                <a:cubicBezTo>
                  <a:pt x="14990" y="9905"/>
                  <a:pt x="14644" y="9807"/>
                  <a:pt x="14436" y="9798"/>
                </a:cubicBezTo>
                <a:cubicBezTo>
                  <a:pt x="14040" y="9781"/>
                  <a:pt x="13731" y="9929"/>
                  <a:pt x="13543" y="10269"/>
                </a:cubicBezTo>
                <a:cubicBezTo>
                  <a:pt x="13433" y="10468"/>
                  <a:pt x="13291" y="10941"/>
                  <a:pt x="13593" y="11063"/>
                </a:cubicBezTo>
                <a:cubicBezTo>
                  <a:pt x="13827" y="11089"/>
                  <a:pt x="13913" y="11094"/>
                  <a:pt x="14064" y="110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75640" y="4705200"/>
            <a:ext cx="393480" cy="268560"/>
          </a:xfrm>
          <a:custGeom>
            <a:avLst/>
            <a:gdLst/>
            <a:ahLst/>
            <a:rect l="l" t="t" r="r" b="b"/>
            <a:pathLst>
              <a:path w="1092" h="745">
                <a:moveTo>
                  <a:pt x="19100" y="13122"/>
                </a:moveTo>
                <a:cubicBezTo>
                  <a:pt x="19211" y="13122"/>
                  <a:pt x="19313" y="13139"/>
                  <a:pt x="19422" y="13146"/>
                </a:cubicBezTo>
                <a:cubicBezTo>
                  <a:pt x="19593" y="13158"/>
                  <a:pt x="19752" y="13134"/>
                  <a:pt x="19918" y="13097"/>
                </a:cubicBezTo>
                <a:cubicBezTo>
                  <a:pt x="20013" y="13076"/>
                  <a:pt x="20095" y="13072"/>
                  <a:pt x="20191" y="13072"/>
                </a:cubicBezTo>
              </a:path>
              <a:path w="1092" h="745">
                <a:moveTo>
                  <a:pt x="19248" y="13444"/>
                </a:moveTo>
                <a:cubicBezTo>
                  <a:pt x="19281" y="13444"/>
                  <a:pt x="19298" y="13444"/>
                  <a:pt x="19323" y="13444"/>
                </a:cubicBezTo>
              </a:path>
              <a:path w="1092" h="745">
                <a:moveTo>
                  <a:pt x="19720" y="13345"/>
                </a:moveTo>
                <a:cubicBezTo>
                  <a:pt x="19783" y="13345"/>
                  <a:pt x="19828" y="13323"/>
                  <a:pt x="19893" y="13320"/>
                </a:cubicBezTo>
                <a:cubicBezTo>
                  <a:pt x="19952" y="13317"/>
                  <a:pt x="19997" y="13304"/>
                  <a:pt x="20042" y="13271"/>
                </a:cubicBezTo>
                <a:cubicBezTo>
                  <a:pt x="20042" y="13373"/>
                  <a:pt x="20002" y="13473"/>
                  <a:pt x="19968" y="13568"/>
                </a:cubicBezTo>
                <a:cubicBezTo>
                  <a:pt x="19938" y="13651"/>
                  <a:pt x="19904" y="13735"/>
                  <a:pt x="19869" y="138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19840" y="4402080"/>
            <a:ext cx="598320" cy="625680"/>
          </a:xfrm>
          <a:custGeom>
            <a:avLst/>
            <a:gdLst/>
            <a:ahLst/>
            <a:rect l="l" t="t" r="r" b="b"/>
            <a:pathLst>
              <a:path w="1662" h="1737">
                <a:moveTo>
                  <a:pt x="16694" y="13196"/>
                </a:moveTo>
                <a:cubicBezTo>
                  <a:pt x="16739" y="13196"/>
                  <a:pt x="16753" y="13175"/>
                  <a:pt x="16793" y="13171"/>
                </a:cubicBezTo>
                <a:cubicBezTo>
                  <a:pt x="16865" y="13163"/>
                  <a:pt x="16922" y="13162"/>
                  <a:pt x="16991" y="13146"/>
                </a:cubicBezTo>
                <a:cubicBezTo>
                  <a:pt x="17057" y="13131"/>
                  <a:pt x="17150" y="13130"/>
                  <a:pt x="17214" y="13122"/>
                </a:cubicBezTo>
                <a:cubicBezTo>
                  <a:pt x="17394" y="13099"/>
                  <a:pt x="17621" y="13114"/>
                  <a:pt x="17785" y="13146"/>
                </a:cubicBezTo>
                <a:cubicBezTo>
                  <a:pt x="17842" y="13157"/>
                  <a:pt x="17877" y="13180"/>
                  <a:pt x="17934" y="13171"/>
                </a:cubicBezTo>
                <a:cubicBezTo>
                  <a:pt x="17983" y="13163"/>
                  <a:pt x="18006" y="13146"/>
                  <a:pt x="18058" y="13146"/>
                </a:cubicBezTo>
                <a:cubicBezTo>
                  <a:pt x="18065" y="13146"/>
                  <a:pt x="18148" y="13146"/>
                  <a:pt x="18083" y="13146"/>
                </a:cubicBezTo>
              </a:path>
              <a:path w="1662" h="1737">
                <a:moveTo>
                  <a:pt x="16768" y="13618"/>
                </a:moveTo>
                <a:cubicBezTo>
                  <a:pt x="16700" y="13618"/>
                  <a:pt x="16808" y="13621"/>
                  <a:pt x="16818" y="13618"/>
                </a:cubicBezTo>
                <a:cubicBezTo>
                  <a:pt x="16924" y="13590"/>
                  <a:pt x="17038" y="13570"/>
                  <a:pt x="17140" y="13543"/>
                </a:cubicBezTo>
                <a:cubicBezTo>
                  <a:pt x="17184" y="13522"/>
                  <a:pt x="17196" y="13519"/>
                  <a:pt x="17214" y="13494"/>
                </a:cubicBezTo>
                <a:cubicBezTo>
                  <a:pt x="17204" y="13579"/>
                  <a:pt x="17159" y="13668"/>
                  <a:pt x="17115" y="13742"/>
                </a:cubicBezTo>
                <a:cubicBezTo>
                  <a:pt x="17087" y="13789"/>
                  <a:pt x="17066" y="13782"/>
                  <a:pt x="17066" y="13841"/>
                </a:cubicBezTo>
                <a:cubicBezTo>
                  <a:pt x="17066" y="13882"/>
                  <a:pt x="17066" y="13924"/>
                  <a:pt x="17066" y="13965"/>
                </a:cubicBezTo>
              </a:path>
              <a:path w="1662" h="1737">
                <a:moveTo>
                  <a:pt x="16446" y="13742"/>
                </a:moveTo>
                <a:cubicBezTo>
                  <a:pt x="16499" y="13751"/>
                  <a:pt x="16596" y="13769"/>
                  <a:pt x="16644" y="13791"/>
                </a:cubicBezTo>
                <a:cubicBezTo>
                  <a:pt x="16702" y="13818"/>
                  <a:pt x="16688" y="13810"/>
                  <a:pt x="16669" y="13866"/>
                </a:cubicBezTo>
              </a:path>
              <a:path w="1662" h="1737">
                <a:moveTo>
                  <a:pt x="16892" y="12229"/>
                </a:moveTo>
                <a:cubicBezTo>
                  <a:pt x="16874" y="12247"/>
                  <a:pt x="16862" y="12275"/>
                  <a:pt x="16842" y="12303"/>
                </a:cubicBezTo>
                <a:cubicBezTo>
                  <a:pt x="16814" y="12341"/>
                  <a:pt x="16818" y="12342"/>
                  <a:pt x="16818" y="12427"/>
                </a:cubicBezTo>
                <a:cubicBezTo>
                  <a:pt x="16818" y="12595"/>
                  <a:pt x="16835" y="12756"/>
                  <a:pt x="16842" y="12923"/>
                </a:cubicBezTo>
                <a:cubicBezTo>
                  <a:pt x="16853" y="13169"/>
                  <a:pt x="16791" y="13401"/>
                  <a:pt x="16768" y="13643"/>
                </a:cubicBezTo>
                <a:cubicBezTo>
                  <a:pt x="16761" y="13718"/>
                  <a:pt x="16752" y="13771"/>
                  <a:pt x="16743" y="13841"/>
                </a:cubicBezTo>
                <a:cubicBezTo>
                  <a:pt x="16762" y="13698"/>
                  <a:pt x="16808" y="13562"/>
                  <a:pt x="16842" y="13419"/>
                </a:cubicBezTo>
                <a:cubicBezTo>
                  <a:pt x="16902" y="13168"/>
                  <a:pt x="16970" y="12860"/>
                  <a:pt x="16966" y="12601"/>
                </a:cubicBezTo>
                <a:cubicBezTo>
                  <a:pt x="16965" y="12527"/>
                  <a:pt x="16946" y="12432"/>
                  <a:pt x="16942" y="12353"/>
                </a:cubicBezTo>
                <a:cubicBezTo>
                  <a:pt x="16908" y="12511"/>
                  <a:pt x="16926" y="12701"/>
                  <a:pt x="16917" y="12874"/>
                </a:cubicBezTo>
                <a:cubicBezTo>
                  <a:pt x="16901" y="13188"/>
                  <a:pt x="16860" y="13507"/>
                  <a:pt x="16818" y="13816"/>
                </a:cubicBezTo>
                <a:cubicBezTo>
                  <a:pt x="16800" y="13907"/>
                  <a:pt x="16791" y="13914"/>
                  <a:pt x="16793" y="13965"/>
                </a:cubicBezTo>
                <a:cubicBezTo>
                  <a:pt x="16802" y="13848"/>
                  <a:pt x="16809" y="13736"/>
                  <a:pt x="16818" y="13618"/>
                </a:cubicBezTo>
                <a:cubicBezTo>
                  <a:pt x="16850" y="13205"/>
                  <a:pt x="16908" y="12792"/>
                  <a:pt x="16917" y="12378"/>
                </a:cubicBezTo>
                <a:cubicBezTo>
                  <a:pt x="16921" y="12216"/>
                  <a:pt x="16909" y="12320"/>
                  <a:pt x="16942" y="12328"/>
                </a:cubicBezTo>
                <a:cubicBezTo>
                  <a:pt x="16950" y="12328"/>
                  <a:pt x="16958" y="12328"/>
                  <a:pt x="16966" y="123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32080" y="5749920"/>
            <a:ext cx="1117800" cy="563400"/>
          </a:xfrm>
          <a:custGeom>
            <a:avLst/>
            <a:gdLst/>
            <a:ahLst/>
            <a:rect l="l" t="t" r="r" b="b"/>
            <a:pathLst>
              <a:path w="3102" h="1564">
                <a:moveTo>
                  <a:pt x="9327" y="16619"/>
                </a:moveTo>
                <a:cubicBezTo>
                  <a:pt x="9475" y="16722"/>
                  <a:pt x="9607" y="16804"/>
                  <a:pt x="9723" y="16942"/>
                </a:cubicBezTo>
                <a:cubicBezTo>
                  <a:pt x="9726" y="16945"/>
                  <a:pt x="9900" y="17151"/>
                  <a:pt x="9897" y="17165"/>
                </a:cubicBezTo>
                <a:cubicBezTo>
                  <a:pt x="9889" y="17165"/>
                  <a:pt x="9880" y="17165"/>
                  <a:pt x="9872" y="17165"/>
                </a:cubicBezTo>
              </a:path>
              <a:path w="3102" h="1564">
                <a:moveTo>
                  <a:pt x="9773" y="16495"/>
                </a:moveTo>
                <a:cubicBezTo>
                  <a:pt x="9773" y="16653"/>
                  <a:pt x="9762" y="16812"/>
                  <a:pt x="9723" y="16966"/>
                </a:cubicBezTo>
                <a:cubicBezTo>
                  <a:pt x="9718" y="16985"/>
                  <a:pt x="9607" y="17258"/>
                  <a:pt x="9624" y="17239"/>
                </a:cubicBezTo>
                <a:cubicBezTo>
                  <a:pt x="9632" y="17223"/>
                  <a:pt x="9641" y="17206"/>
                  <a:pt x="9649" y="17190"/>
                </a:cubicBezTo>
              </a:path>
              <a:path w="3102" h="1564">
                <a:moveTo>
                  <a:pt x="10244" y="16694"/>
                </a:moveTo>
                <a:cubicBezTo>
                  <a:pt x="10340" y="16694"/>
                  <a:pt x="10425" y="16679"/>
                  <a:pt x="10517" y="16669"/>
                </a:cubicBezTo>
                <a:cubicBezTo>
                  <a:pt x="10575" y="16669"/>
                  <a:pt x="10583" y="16669"/>
                  <a:pt x="10616" y="16669"/>
                </a:cubicBezTo>
              </a:path>
              <a:path w="3102" h="1564">
                <a:moveTo>
                  <a:pt x="10294" y="16917"/>
                </a:moveTo>
                <a:cubicBezTo>
                  <a:pt x="10375" y="16917"/>
                  <a:pt x="10526" y="16932"/>
                  <a:pt x="10592" y="16917"/>
                </a:cubicBezTo>
                <a:cubicBezTo>
                  <a:pt x="10615" y="16912"/>
                  <a:pt x="10560" y="16898"/>
                  <a:pt x="10616" y="16917"/>
                </a:cubicBezTo>
              </a:path>
              <a:path w="3102" h="1564">
                <a:moveTo>
                  <a:pt x="11782" y="16371"/>
                </a:moveTo>
                <a:cubicBezTo>
                  <a:pt x="11760" y="16304"/>
                  <a:pt x="11666" y="16366"/>
                  <a:pt x="11609" y="16371"/>
                </a:cubicBezTo>
                <a:cubicBezTo>
                  <a:pt x="11488" y="16382"/>
                  <a:pt x="11359" y="16371"/>
                  <a:pt x="11237" y="16371"/>
                </a:cubicBezTo>
                <a:cubicBezTo>
                  <a:pt x="11237" y="16468"/>
                  <a:pt x="11234" y="16551"/>
                  <a:pt x="11261" y="16644"/>
                </a:cubicBezTo>
                <a:cubicBezTo>
                  <a:pt x="11278" y="16703"/>
                  <a:pt x="11288" y="16739"/>
                  <a:pt x="11311" y="16793"/>
                </a:cubicBezTo>
                <a:cubicBezTo>
                  <a:pt x="11373" y="16768"/>
                  <a:pt x="11413" y="16685"/>
                  <a:pt x="11485" y="16669"/>
                </a:cubicBezTo>
                <a:cubicBezTo>
                  <a:pt x="11597" y="16645"/>
                  <a:pt x="11729" y="16698"/>
                  <a:pt x="11782" y="16793"/>
                </a:cubicBezTo>
                <a:cubicBezTo>
                  <a:pt x="11864" y="16939"/>
                  <a:pt x="11823" y="17032"/>
                  <a:pt x="11683" y="17115"/>
                </a:cubicBezTo>
                <a:cubicBezTo>
                  <a:pt x="11583" y="17174"/>
                  <a:pt x="11397" y="17188"/>
                  <a:pt x="11286" y="17165"/>
                </a:cubicBezTo>
                <a:cubicBezTo>
                  <a:pt x="11238" y="17155"/>
                  <a:pt x="11203" y="17132"/>
                  <a:pt x="11237" y="17115"/>
                </a:cubicBezTo>
              </a:path>
              <a:path w="3102" h="1564">
                <a:moveTo>
                  <a:pt x="8979" y="16446"/>
                </a:moveTo>
                <a:cubicBezTo>
                  <a:pt x="9002" y="16422"/>
                  <a:pt x="9001" y="16338"/>
                  <a:pt x="9004" y="16371"/>
                </a:cubicBezTo>
                <a:cubicBezTo>
                  <a:pt x="9023" y="16578"/>
                  <a:pt x="9029" y="16781"/>
                  <a:pt x="9029" y="16991"/>
                </a:cubicBezTo>
                <a:cubicBezTo>
                  <a:pt x="9029" y="17143"/>
                  <a:pt x="9054" y="17286"/>
                  <a:pt x="9054" y="17438"/>
                </a:cubicBezTo>
                <a:cubicBezTo>
                  <a:pt x="9054" y="17463"/>
                  <a:pt x="9054" y="17487"/>
                  <a:pt x="9054" y="17512"/>
                </a:cubicBezTo>
                <a:cubicBezTo>
                  <a:pt x="9142" y="17512"/>
                  <a:pt x="9218" y="17495"/>
                  <a:pt x="9302" y="17487"/>
                </a:cubicBezTo>
                <a:cubicBezTo>
                  <a:pt x="9470" y="17471"/>
                  <a:pt x="9633" y="17499"/>
                  <a:pt x="9798" y="17512"/>
                </a:cubicBezTo>
                <a:cubicBezTo>
                  <a:pt x="9987" y="17527"/>
                  <a:pt x="10180" y="17524"/>
                  <a:pt x="10368" y="17537"/>
                </a:cubicBezTo>
                <a:cubicBezTo>
                  <a:pt x="10601" y="17553"/>
                  <a:pt x="10835" y="17531"/>
                  <a:pt x="11063" y="17512"/>
                </a:cubicBezTo>
                <a:cubicBezTo>
                  <a:pt x="11267" y="17495"/>
                  <a:pt x="11489" y="17551"/>
                  <a:pt x="11683" y="17537"/>
                </a:cubicBezTo>
                <a:cubicBezTo>
                  <a:pt x="11727" y="17534"/>
                  <a:pt x="11799" y="17514"/>
                  <a:pt x="11857" y="17512"/>
                </a:cubicBezTo>
                <a:cubicBezTo>
                  <a:pt x="11923" y="17510"/>
                  <a:pt x="11953" y="17524"/>
                  <a:pt x="12005" y="17537"/>
                </a:cubicBezTo>
                <a:cubicBezTo>
                  <a:pt x="12010" y="17477"/>
                  <a:pt x="12024" y="17422"/>
                  <a:pt x="12030" y="17363"/>
                </a:cubicBezTo>
                <a:cubicBezTo>
                  <a:pt x="12051" y="17159"/>
                  <a:pt x="12038" y="16945"/>
                  <a:pt x="12055" y="16743"/>
                </a:cubicBezTo>
                <a:cubicBezTo>
                  <a:pt x="12070" y="16571"/>
                  <a:pt x="12065" y="16388"/>
                  <a:pt x="12080" y="16222"/>
                </a:cubicBezTo>
                <a:cubicBezTo>
                  <a:pt x="12087" y="16141"/>
                  <a:pt x="12080" y="16055"/>
                  <a:pt x="12080" y="15974"/>
                </a:cubicBezTo>
                <a:cubicBezTo>
                  <a:pt x="11999" y="15979"/>
                  <a:pt x="11910" y="16011"/>
                  <a:pt x="11832" y="15999"/>
                </a:cubicBezTo>
                <a:cubicBezTo>
                  <a:pt x="11746" y="15986"/>
                  <a:pt x="11673" y="15974"/>
                  <a:pt x="11584" y="15974"/>
                </a:cubicBezTo>
                <a:cubicBezTo>
                  <a:pt x="11471" y="15974"/>
                  <a:pt x="11370" y="15987"/>
                  <a:pt x="11261" y="15999"/>
                </a:cubicBezTo>
                <a:cubicBezTo>
                  <a:pt x="10933" y="16036"/>
                  <a:pt x="10568" y="16007"/>
                  <a:pt x="10244" y="15974"/>
                </a:cubicBezTo>
                <a:cubicBezTo>
                  <a:pt x="10046" y="15954"/>
                  <a:pt x="9816" y="15959"/>
                  <a:pt x="9624" y="15999"/>
                </a:cubicBezTo>
                <a:cubicBezTo>
                  <a:pt x="9550" y="16014"/>
                  <a:pt x="9478" y="16022"/>
                  <a:pt x="9401" y="16024"/>
                </a:cubicBezTo>
                <a:cubicBezTo>
                  <a:pt x="9329" y="16026"/>
                  <a:pt x="9263" y="16024"/>
                  <a:pt x="9203" y="16024"/>
                </a:cubicBezTo>
                <a:cubicBezTo>
                  <a:pt x="9126" y="16024"/>
                  <a:pt x="9046" y="16013"/>
                  <a:pt x="9004" y="15999"/>
                </a:cubicBezTo>
                <a:cubicBezTo>
                  <a:pt x="9004" y="16135"/>
                  <a:pt x="9019" y="16265"/>
                  <a:pt x="9029" y="16396"/>
                </a:cubicBezTo>
                <a:cubicBezTo>
                  <a:pt x="9032" y="16429"/>
                  <a:pt x="9058" y="16576"/>
                  <a:pt x="9054" y="16594"/>
                </a:cubicBezTo>
                <a:cubicBezTo>
                  <a:pt x="9054" y="16641"/>
                  <a:pt x="9042" y="16667"/>
                  <a:pt x="9004" y="166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48120" y="4848120"/>
            <a:ext cx="393840" cy="465120"/>
          </a:xfrm>
          <a:custGeom>
            <a:avLst/>
            <a:gdLst/>
            <a:ahLst/>
            <a:rect l="l" t="t" r="r" b="b"/>
            <a:pathLst>
              <a:path w="1092" h="1291">
                <a:moveTo>
                  <a:pt x="13791" y="13891"/>
                </a:moveTo>
                <a:cubicBezTo>
                  <a:pt x="13837" y="13965"/>
                  <a:pt x="13795" y="14049"/>
                  <a:pt x="13791" y="14139"/>
                </a:cubicBezTo>
                <a:cubicBezTo>
                  <a:pt x="13791" y="14155"/>
                  <a:pt x="13791" y="14172"/>
                  <a:pt x="13791" y="14188"/>
                </a:cubicBezTo>
                <a:cubicBezTo>
                  <a:pt x="13912" y="14142"/>
                  <a:pt x="14033" y="14092"/>
                  <a:pt x="14139" y="14015"/>
                </a:cubicBezTo>
                <a:cubicBezTo>
                  <a:pt x="14147" y="14007"/>
                  <a:pt x="14155" y="13998"/>
                  <a:pt x="14163" y="13990"/>
                </a:cubicBezTo>
              </a:path>
              <a:path w="1092" h="1291">
                <a:moveTo>
                  <a:pt x="14139" y="13717"/>
                </a:moveTo>
                <a:cubicBezTo>
                  <a:pt x="14139" y="13887"/>
                  <a:pt x="14139" y="14251"/>
                  <a:pt x="14139" y="14337"/>
                </a:cubicBezTo>
              </a:path>
              <a:path w="1092" h="1291">
                <a:moveTo>
                  <a:pt x="13692" y="14635"/>
                </a:moveTo>
                <a:cubicBezTo>
                  <a:pt x="13871" y="14718"/>
                  <a:pt x="14086" y="14747"/>
                  <a:pt x="14263" y="14610"/>
                </a:cubicBezTo>
                <a:cubicBezTo>
                  <a:pt x="14497" y="14428"/>
                  <a:pt x="14627" y="14105"/>
                  <a:pt x="14536" y="13816"/>
                </a:cubicBezTo>
                <a:cubicBezTo>
                  <a:pt x="14430" y="13481"/>
                  <a:pt x="14116" y="13389"/>
                  <a:pt x="13816" y="13543"/>
                </a:cubicBezTo>
                <a:cubicBezTo>
                  <a:pt x="13464" y="13723"/>
                  <a:pt x="13392" y="14206"/>
                  <a:pt x="13494" y="14560"/>
                </a:cubicBezTo>
                <a:cubicBezTo>
                  <a:pt x="13566" y="14810"/>
                  <a:pt x="13737" y="14736"/>
                  <a:pt x="13915" y="147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92840" y="5392800"/>
            <a:ext cx="743040" cy="1198440"/>
          </a:xfrm>
          <a:custGeom>
            <a:avLst/>
            <a:gdLst/>
            <a:ahLst/>
            <a:rect l="l" t="t" r="r" b="b"/>
            <a:pathLst>
              <a:path w="2060" h="3325">
                <a:moveTo>
                  <a:pt x="16470" y="16818"/>
                </a:moveTo>
                <a:cubicBezTo>
                  <a:pt x="16594" y="16879"/>
                  <a:pt x="16662" y="17002"/>
                  <a:pt x="16743" y="17115"/>
                </a:cubicBezTo>
                <a:cubicBezTo>
                  <a:pt x="16793" y="17184"/>
                  <a:pt x="16842" y="17237"/>
                  <a:pt x="16867" y="17314"/>
                </a:cubicBezTo>
              </a:path>
              <a:path w="2060" h="3325">
                <a:moveTo>
                  <a:pt x="16991" y="16743"/>
                </a:moveTo>
                <a:cubicBezTo>
                  <a:pt x="16960" y="16914"/>
                  <a:pt x="16918" y="17086"/>
                  <a:pt x="16892" y="17264"/>
                </a:cubicBezTo>
                <a:cubicBezTo>
                  <a:pt x="16873" y="17393"/>
                  <a:pt x="16853" y="17511"/>
                  <a:pt x="16818" y="17636"/>
                </a:cubicBezTo>
              </a:path>
              <a:path w="2060" h="3325">
                <a:moveTo>
                  <a:pt x="16371" y="17636"/>
                </a:moveTo>
                <a:cubicBezTo>
                  <a:pt x="16570" y="17607"/>
                  <a:pt x="16764" y="17611"/>
                  <a:pt x="16966" y="17611"/>
                </a:cubicBezTo>
                <a:cubicBezTo>
                  <a:pt x="17050" y="17611"/>
                  <a:pt x="17070" y="17622"/>
                  <a:pt x="17140" y="17636"/>
                </a:cubicBezTo>
              </a:path>
              <a:path w="2060" h="3325">
                <a:moveTo>
                  <a:pt x="16619" y="17959"/>
                </a:moveTo>
                <a:cubicBezTo>
                  <a:pt x="16654" y="17871"/>
                  <a:pt x="16748" y="17851"/>
                  <a:pt x="16842" y="17835"/>
                </a:cubicBezTo>
                <a:cubicBezTo>
                  <a:pt x="16859" y="17835"/>
                  <a:pt x="16875" y="17835"/>
                  <a:pt x="16892" y="17835"/>
                </a:cubicBezTo>
                <a:cubicBezTo>
                  <a:pt x="16953" y="17895"/>
                  <a:pt x="16934" y="17947"/>
                  <a:pt x="16892" y="18033"/>
                </a:cubicBezTo>
                <a:cubicBezTo>
                  <a:pt x="16846" y="18127"/>
                  <a:pt x="16765" y="18167"/>
                  <a:pt x="16694" y="18231"/>
                </a:cubicBezTo>
                <a:cubicBezTo>
                  <a:pt x="16658" y="18263"/>
                  <a:pt x="16623" y="18296"/>
                  <a:pt x="16594" y="18306"/>
                </a:cubicBezTo>
                <a:cubicBezTo>
                  <a:pt x="16694" y="18286"/>
                  <a:pt x="16793" y="18237"/>
                  <a:pt x="16892" y="18207"/>
                </a:cubicBezTo>
                <a:cubicBezTo>
                  <a:pt x="16953" y="18188"/>
                  <a:pt x="17084" y="18169"/>
                  <a:pt x="17090" y="18157"/>
                </a:cubicBezTo>
              </a:path>
              <a:path w="2060" h="3325">
                <a:moveTo>
                  <a:pt x="16991" y="15180"/>
                </a:moveTo>
                <a:cubicBezTo>
                  <a:pt x="17057" y="15231"/>
                  <a:pt x="17347" y="15555"/>
                  <a:pt x="17438" y="15652"/>
                </a:cubicBezTo>
                <a:cubicBezTo>
                  <a:pt x="17715" y="15948"/>
                  <a:pt x="17966" y="16205"/>
                  <a:pt x="18306" y="16421"/>
                </a:cubicBezTo>
                <a:cubicBezTo>
                  <a:pt x="18355" y="16452"/>
                  <a:pt x="18406" y="16478"/>
                  <a:pt x="18430" y="16495"/>
                </a:cubicBezTo>
              </a:path>
              <a:path w="2060" h="3325">
                <a:moveTo>
                  <a:pt x="18306" y="14982"/>
                </a:moveTo>
                <a:cubicBezTo>
                  <a:pt x="18131" y="15157"/>
                  <a:pt x="17997" y="15364"/>
                  <a:pt x="17835" y="15553"/>
                </a:cubicBezTo>
                <a:cubicBezTo>
                  <a:pt x="17679" y="15736"/>
                  <a:pt x="17511" y="15933"/>
                  <a:pt x="17314" y="16073"/>
                </a:cubicBezTo>
                <a:cubicBezTo>
                  <a:pt x="17282" y="16096"/>
                  <a:pt x="17227" y="16149"/>
                  <a:pt x="17239" y="16197"/>
                </a:cubicBezTo>
                <a:cubicBezTo>
                  <a:pt x="17247" y="16197"/>
                  <a:pt x="17256" y="16197"/>
                  <a:pt x="17264" y="161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26120" y="5670720"/>
            <a:ext cx="98640" cy="115560"/>
          </a:xfrm>
          <a:custGeom>
            <a:avLst/>
            <a:gdLst/>
            <a:ahLst/>
            <a:rect l="l" t="t" r="r" b="b"/>
            <a:pathLst>
              <a:path w="274" h="323">
                <a:moveTo>
                  <a:pt x="17190" y="15801"/>
                </a:moveTo>
                <a:cubicBezTo>
                  <a:pt x="17190" y="15776"/>
                  <a:pt x="17190" y="15768"/>
                  <a:pt x="17190" y="15751"/>
                </a:cubicBezTo>
                <a:cubicBezTo>
                  <a:pt x="17190" y="15853"/>
                  <a:pt x="17181" y="15929"/>
                  <a:pt x="17190" y="16024"/>
                </a:cubicBezTo>
                <a:cubicBezTo>
                  <a:pt x="17190" y="16040"/>
                  <a:pt x="17190" y="16057"/>
                  <a:pt x="17190" y="16073"/>
                </a:cubicBezTo>
              </a:path>
              <a:path w="274" h="323">
                <a:moveTo>
                  <a:pt x="17016" y="15974"/>
                </a:moveTo>
                <a:cubicBezTo>
                  <a:pt x="17103" y="15974"/>
                  <a:pt x="17178" y="15954"/>
                  <a:pt x="17264" y="15949"/>
                </a:cubicBezTo>
                <a:cubicBezTo>
                  <a:pt x="17289" y="15949"/>
                  <a:pt x="17297" y="15949"/>
                  <a:pt x="17289" y="159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57960" y="5680080"/>
            <a:ext cx="250920" cy="142920"/>
          </a:xfrm>
          <a:custGeom>
            <a:avLst/>
            <a:gdLst/>
            <a:ahLst/>
            <a:rect l="l" t="t" r="r" b="b"/>
            <a:pathLst>
              <a:path w="695" h="398">
                <a:moveTo>
                  <a:pt x="17661" y="15776"/>
                </a:moveTo>
                <a:cubicBezTo>
                  <a:pt x="17714" y="15907"/>
                  <a:pt x="17708" y="15988"/>
                  <a:pt x="17686" y="16123"/>
                </a:cubicBezTo>
                <a:cubicBezTo>
                  <a:pt x="17686" y="16148"/>
                  <a:pt x="17686" y="16156"/>
                  <a:pt x="17686" y="16123"/>
                </a:cubicBezTo>
              </a:path>
              <a:path w="695" h="398">
                <a:moveTo>
                  <a:pt x="17983" y="15825"/>
                </a:moveTo>
                <a:cubicBezTo>
                  <a:pt x="18027" y="15797"/>
                  <a:pt x="18027" y="15910"/>
                  <a:pt x="18033" y="15974"/>
                </a:cubicBezTo>
                <a:cubicBezTo>
                  <a:pt x="18040" y="16048"/>
                  <a:pt x="18043" y="16227"/>
                  <a:pt x="18182" y="16173"/>
                </a:cubicBezTo>
                <a:cubicBezTo>
                  <a:pt x="18262" y="16142"/>
                  <a:pt x="18337" y="16047"/>
                  <a:pt x="18355" y="15974"/>
                </a:cubicBezTo>
                <a:cubicBezTo>
                  <a:pt x="18265" y="15985"/>
                  <a:pt x="18208" y="16025"/>
                  <a:pt x="18182" y="16123"/>
                </a:cubicBezTo>
                <a:cubicBezTo>
                  <a:pt x="18182" y="16140"/>
                  <a:pt x="18182" y="16156"/>
                  <a:pt x="18182" y="161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966000" y="5653080"/>
            <a:ext cx="455400" cy="142920"/>
          </a:xfrm>
          <a:custGeom>
            <a:avLst/>
            <a:gdLst/>
            <a:ahLst/>
            <a:rect l="l" t="t" r="r" b="b"/>
            <a:pathLst>
              <a:path w="1266" h="398">
                <a:moveTo>
                  <a:pt x="19372" y="15701"/>
                </a:moveTo>
                <a:cubicBezTo>
                  <a:pt x="19395" y="15799"/>
                  <a:pt x="19415" y="15899"/>
                  <a:pt x="19422" y="15999"/>
                </a:cubicBezTo>
                <a:cubicBezTo>
                  <a:pt x="19422" y="16007"/>
                  <a:pt x="19422" y="16016"/>
                  <a:pt x="19422" y="16024"/>
                </a:cubicBezTo>
              </a:path>
              <a:path w="1266" h="398">
                <a:moveTo>
                  <a:pt x="19348" y="15949"/>
                </a:moveTo>
                <a:cubicBezTo>
                  <a:pt x="19473" y="15926"/>
                  <a:pt x="19578" y="15944"/>
                  <a:pt x="19695" y="15925"/>
                </a:cubicBezTo>
              </a:path>
              <a:path w="1266" h="398">
                <a:moveTo>
                  <a:pt x="19893" y="15776"/>
                </a:moveTo>
                <a:cubicBezTo>
                  <a:pt x="19893" y="15875"/>
                  <a:pt x="19893" y="15974"/>
                  <a:pt x="19893" y="16073"/>
                </a:cubicBezTo>
              </a:path>
              <a:path w="1266" h="398">
                <a:moveTo>
                  <a:pt x="20191" y="15726"/>
                </a:moveTo>
                <a:cubicBezTo>
                  <a:pt x="20201" y="15843"/>
                  <a:pt x="20204" y="15934"/>
                  <a:pt x="20216" y="16049"/>
                </a:cubicBezTo>
                <a:cubicBezTo>
                  <a:pt x="20216" y="16077"/>
                  <a:pt x="20219" y="16087"/>
                  <a:pt x="20241" y="16098"/>
                </a:cubicBezTo>
                <a:cubicBezTo>
                  <a:pt x="20341" y="16087"/>
                  <a:pt x="20483" y="16067"/>
                  <a:pt x="20563" y="15999"/>
                </a:cubicBezTo>
                <a:cubicBezTo>
                  <a:pt x="20580" y="15974"/>
                  <a:pt x="20596" y="15950"/>
                  <a:pt x="20613" y="15925"/>
                </a:cubicBezTo>
                <a:cubicBezTo>
                  <a:pt x="20544" y="15947"/>
                  <a:pt x="20456" y="16016"/>
                  <a:pt x="20414" y="16073"/>
                </a:cubicBezTo>
                <a:cubicBezTo>
                  <a:pt x="20414" y="16081"/>
                  <a:pt x="20414" y="16090"/>
                  <a:pt x="20414" y="160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46800" y="5938920"/>
            <a:ext cx="2063520" cy="54000"/>
          </a:xfrm>
          <a:custGeom>
            <a:avLst/>
            <a:gdLst/>
            <a:ahLst/>
            <a:rect l="l" t="t" r="r" b="b"/>
            <a:pathLst>
              <a:path w="5731" h="150">
                <a:moveTo>
                  <a:pt x="15131" y="16570"/>
                </a:moveTo>
                <a:cubicBezTo>
                  <a:pt x="15209" y="16589"/>
                  <a:pt x="15296" y="16621"/>
                  <a:pt x="15379" y="16619"/>
                </a:cubicBezTo>
                <a:cubicBezTo>
                  <a:pt x="15455" y="16617"/>
                  <a:pt x="15522" y="16596"/>
                  <a:pt x="15602" y="16594"/>
                </a:cubicBezTo>
                <a:cubicBezTo>
                  <a:pt x="15699" y="16592"/>
                  <a:pt x="15781" y="16612"/>
                  <a:pt x="15875" y="16619"/>
                </a:cubicBezTo>
                <a:cubicBezTo>
                  <a:pt x="15934" y="16623"/>
                  <a:pt x="15996" y="16640"/>
                  <a:pt x="16049" y="16644"/>
                </a:cubicBezTo>
                <a:cubicBezTo>
                  <a:pt x="16162" y="16653"/>
                  <a:pt x="16264" y="16627"/>
                  <a:pt x="16371" y="16619"/>
                </a:cubicBezTo>
                <a:cubicBezTo>
                  <a:pt x="16451" y="16613"/>
                  <a:pt x="16515" y="16600"/>
                  <a:pt x="16594" y="16594"/>
                </a:cubicBezTo>
                <a:cubicBezTo>
                  <a:pt x="16671" y="16588"/>
                  <a:pt x="16742" y="16575"/>
                  <a:pt x="16818" y="16570"/>
                </a:cubicBezTo>
                <a:cubicBezTo>
                  <a:pt x="16898" y="16565"/>
                  <a:pt x="17000" y="16550"/>
                  <a:pt x="17066" y="16545"/>
                </a:cubicBezTo>
                <a:cubicBezTo>
                  <a:pt x="17153" y="16538"/>
                  <a:pt x="17264" y="16576"/>
                  <a:pt x="17338" y="16570"/>
                </a:cubicBezTo>
                <a:cubicBezTo>
                  <a:pt x="17346" y="16562"/>
                  <a:pt x="17355" y="16553"/>
                  <a:pt x="17363" y="16545"/>
                </a:cubicBezTo>
                <a:cubicBezTo>
                  <a:pt x="17406" y="16552"/>
                  <a:pt x="17453" y="16568"/>
                  <a:pt x="17512" y="16570"/>
                </a:cubicBezTo>
                <a:cubicBezTo>
                  <a:pt x="17699" y="16576"/>
                  <a:pt x="17937" y="16603"/>
                  <a:pt x="18107" y="16594"/>
                </a:cubicBezTo>
                <a:cubicBezTo>
                  <a:pt x="18170" y="16591"/>
                  <a:pt x="18263" y="16579"/>
                  <a:pt x="18331" y="16570"/>
                </a:cubicBezTo>
                <a:cubicBezTo>
                  <a:pt x="18409" y="16559"/>
                  <a:pt x="18474" y="16547"/>
                  <a:pt x="18554" y="16545"/>
                </a:cubicBezTo>
                <a:cubicBezTo>
                  <a:pt x="18703" y="16541"/>
                  <a:pt x="18866" y="16531"/>
                  <a:pt x="19000" y="16520"/>
                </a:cubicBezTo>
                <a:cubicBezTo>
                  <a:pt x="19085" y="16513"/>
                  <a:pt x="19231" y="16492"/>
                  <a:pt x="19298" y="16495"/>
                </a:cubicBezTo>
                <a:cubicBezTo>
                  <a:pt x="19372" y="16499"/>
                  <a:pt x="19443" y="16518"/>
                  <a:pt x="19521" y="16520"/>
                </a:cubicBezTo>
                <a:cubicBezTo>
                  <a:pt x="19704" y="16524"/>
                  <a:pt x="19892" y="16532"/>
                  <a:pt x="20067" y="16545"/>
                </a:cubicBezTo>
                <a:cubicBezTo>
                  <a:pt x="20279" y="16560"/>
                  <a:pt x="20514" y="16553"/>
                  <a:pt x="20712" y="16570"/>
                </a:cubicBezTo>
                <a:cubicBezTo>
                  <a:pt x="20763" y="16574"/>
                  <a:pt x="20800" y="16548"/>
                  <a:pt x="20836" y="16545"/>
                </a:cubicBezTo>
                <a:cubicBezTo>
                  <a:pt x="20844" y="16545"/>
                  <a:pt x="20853" y="16545"/>
                  <a:pt x="20861" y="165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72160" y="6197760"/>
            <a:ext cx="152640" cy="125280"/>
          </a:xfrm>
          <a:custGeom>
            <a:avLst/>
            <a:gdLst/>
            <a:ahLst/>
            <a:rect l="l" t="t" r="r" b="b"/>
            <a:pathLst>
              <a:path w="423" h="349">
                <a:moveTo>
                  <a:pt x="18256" y="17239"/>
                </a:moveTo>
                <a:cubicBezTo>
                  <a:pt x="18271" y="17193"/>
                  <a:pt x="18376" y="17205"/>
                  <a:pt x="18430" y="17214"/>
                </a:cubicBezTo>
                <a:cubicBezTo>
                  <a:pt x="18509" y="17226"/>
                  <a:pt x="18573" y="17239"/>
                  <a:pt x="18653" y="17239"/>
                </a:cubicBezTo>
              </a:path>
              <a:path w="423" h="349">
                <a:moveTo>
                  <a:pt x="18306" y="17562"/>
                </a:moveTo>
                <a:cubicBezTo>
                  <a:pt x="18418" y="17562"/>
                  <a:pt x="18520" y="17555"/>
                  <a:pt x="18628" y="17537"/>
                </a:cubicBezTo>
                <a:cubicBezTo>
                  <a:pt x="18669" y="17530"/>
                  <a:pt x="18668" y="17532"/>
                  <a:pt x="18678" y="175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912000" y="6054840"/>
            <a:ext cx="27000" cy="249120"/>
          </a:xfrm>
          <a:custGeom>
            <a:avLst/>
            <a:gdLst/>
            <a:ahLst/>
            <a:rect l="l" t="t" r="r" b="b"/>
            <a:pathLst>
              <a:path w="75" h="695">
                <a:moveTo>
                  <a:pt x="19199" y="16818"/>
                </a:moveTo>
                <a:cubicBezTo>
                  <a:pt x="19258" y="16837"/>
                  <a:pt x="19270" y="17067"/>
                  <a:pt x="19273" y="17115"/>
                </a:cubicBezTo>
                <a:cubicBezTo>
                  <a:pt x="19282" y="17246"/>
                  <a:pt x="19273" y="17381"/>
                  <a:pt x="19273" y="175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89840" y="6018120"/>
            <a:ext cx="152280" cy="260280"/>
          </a:xfrm>
          <a:custGeom>
            <a:avLst/>
            <a:gdLst/>
            <a:ahLst/>
            <a:rect l="l" t="t" r="r" b="b"/>
            <a:pathLst>
              <a:path w="423" h="721">
                <a:moveTo>
                  <a:pt x="20117" y="16718"/>
                </a:moveTo>
                <a:cubicBezTo>
                  <a:pt x="19980" y="16787"/>
                  <a:pt x="19905" y="16847"/>
                  <a:pt x="19794" y="16942"/>
                </a:cubicBezTo>
                <a:cubicBezTo>
                  <a:pt x="19729" y="16985"/>
                  <a:pt x="19709" y="16991"/>
                  <a:pt x="19695" y="17041"/>
                </a:cubicBezTo>
                <a:cubicBezTo>
                  <a:pt x="19785" y="17105"/>
                  <a:pt x="19943" y="17113"/>
                  <a:pt x="20017" y="17190"/>
                </a:cubicBezTo>
                <a:cubicBezTo>
                  <a:pt x="20125" y="17303"/>
                  <a:pt x="19940" y="17402"/>
                  <a:pt x="19869" y="17438"/>
                </a:cubicBezTo>
                <a:cubicBezTo>
                  <a:pt x="19847" y="17248"/>
                  <a:pt x="19902" y="17123"/>
                  <a:pt x="19968" y="16942"/>
                </a:cubicBezTo>
                <a:cubicBezTo>
                  <a:pt x="19987" y="16884"/>
                  <a:pt x="19996" y="16877"/>
                  <a:pt x="19993" y="168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05240" y="6081840"/>
            <a:ext cx="2162520" cy="731880"/>
          </a:xfrm>
          <a:custGeom>
            <a:avLst/>
            <a:gdLst/>
            <a:ahLst/>
            <a:rect l="l" t="t" r="r" b="b"/>
            <a:pathLst>
              <a:path w="6004" h="2035">
                <a:moveTo>
                  <a:pt x="15701" y="17413"/>
                </a:moveTo>
                <a:cubicBezTo>
                  <a:pt x="15632" y="17437"/>
                  <a:pt x="15751" y="17558"/>
                  <a:pt x="15776" y="17587"/>
                </a:cubicBezTo>
                <a:cubicBezTo>
                  <a:pt x="15847" y="17669"/>
                  <a:pt x="15917" y="17744"/>
                  <a:pt x="15974" y="17835"/>
                </a:cubicBezTo>
              </a:path>
              <a:path w="6004" h="2035">
                <a:moveTo>
                  <a:pt x="16024" y="17338"/>
                </a:moveTo>
                <a:cubicBezTo>
                  <a:pt x="15994" y="17413"/>
                  <a:pt x="15927" y="17540"/>
                  <a:pt x="15875" y="17611"/>
                </a:cubicBezTo>
                <a:cubicBezTo>
                  <a:pt x="15824" y="17681"/>
                  <a:pt x="15778" y="17704"/>
                  <a:pt x="15751" y="17785"/>
                </a:cubicBezTo>
              </a:path>
              <a:path w="6004" h="2035">
                <a:moveTo>
                  <a:pt x="14734" y="17090"/>
                </a:moveTo>
                <a:cubicBezTo>
                  <a:pt x="14744" y="17052"/>
                  <a:pt x="14758" y="17022"/>
                  <a:pt x="14784" y="16991"/>
                </a:cubicBezTo>
                <a:cubicBezTo>
                  <a:pt x="14832" y="16936"/>
                  <a:pt x="14869" y="16920"/>
                  <a:pt x="14932" y="16892"/>
                </a:cubicBezTo>
                <a:cubicBezTo>
                  <a:pt x="14985" y="16958"/>
                  <a:pt x="14998" y="17028"/>
                  <a:pt x="14982" y="17115"/>
                </a:cubicBezTo>
                <a:cubicBezTo>
                  <a:pt x="14962" y="17220"/>
                  <a:pt x="14913" y="17281"/>
                  <a:pt x="14858" y="17363"/>
                </a:cubicBezTo>
                <a:cubicBezTo>
                  <a:pt x="14823" y="17416"/>
                  <a:pt x="14788" y="17503"/>
                  <a:pt x="14734" y="17537"/>
                </a:cubicBezTo>
                <a:cubicBezTo>
                  <a:pt x="14702" y="17558"/>
                  <a:pt x="14696" y="17541"/>
                  <a:pt x="14684" y="17587"/>
                </a:cubicBezTo>
                <a:cubicBezTo>
                  <a:pt x="14684" y="17533"/>
                  <a:pt x="14685" y="17513"/>
                  <a:pt x="14709" y="17462"/>
                </a:cubicBezTo>
                <a:cubicBezTo>
                  <a:pt x="14717" y="17445"/>
                  <a:pt x="14772" y="17373"/>
                  <a:pt x="14808" y="17413"/>
                </a:cubicBezTo>
                <a:cubicBezTo>
                  <a:pt x="14864" y="17475"/>
                  <a:pt x="14858" y="17540"/>
                  <a:pt x="14957" y="17562"/>
                </a:cubicBezTo>
                <a:cubicBezTo>
                  <a:pt x="15020" y="17576"/>
                  <a:pt x="15055" y="17525"/>
                  <a:pt x="15106" y="17512"/>
                </a:cubicBezTo>
              </a:path>
              <a:path w="6004" h="2035">
                <a:moveTo>
                  <a:pt x="14461" y="17041"/>
                </a:moveTo>
                <a:cubicBezTo>
                  <a:pt x="14507" y="17067"/>
                  <a:pt x="14535" y="17082"/>
                  <a:pt x="14585" y="17115"/>
                </a:cubicBezTo>
                <a:cubicBezTo>
                  <a:pt x="14641" y="17153"/>
                  <a:pt x="14692" y="17205"/>
                  <a:pt x="14759" y="17239"/>
                </a:cubicBezTo>
                <a:cubicBezTo>
                  <a:pt x="14822" y="17271"/>
                  <a:pt x="14850" y="17295"/>
                  <a:pt x="14908" y="17338"/>
                </a:cubicBezTo>
                <a:cubicBezTo>
                  <a:pt x="14954" y="17373"/>
                  <a:pt x="15008" y="17406"/>
                  <a:pt x="15056" y="17438"/>
                </a:cubicBezTo>
                <a:cubicBezTo>
                  <a:pt x="15106" y="17471"/>
                  <a:pt x="15155" y="17504"/>
                  <a:pt x="15205" y="17537"/>
                </a:cubicBezTo>
                <a:cubicBezTo>
                  <a:pt x="15281" y="17588"/>
                  <a:pt x="15352" y="17640"/>
                  <a:pt x="15429" y="17686"/>
                </a:cubicBezTo>
                <a:cubicBezTo>
                  <a:pt x="15508" y="17733"/>
                  <a:pt x="15602" y="17763"/>
                  <a:pt x="15677" y="17810"/>
                </a:cubicBezTo>
                <a:cubicBezTo>
                  <a:pt x="15756" y="17859"/>
                  <a:pt x="15826" y="17907"/>
                  <a:pt x="15900" y="17959"/>
                </a:cubicBezTo>
                <a:cubicBezTo>
                  <a:pt x="15962" y="18003"/>
                  <a:pt x="16034" y="18017"/>
                  <a:pt x="16098" y="18058"/>
                </a:cubicBezTo>
                <a:cubicBezTo>
                  <a:pt x="16154" y="18094"/>
                  <a:pt x="16180" y="18109"/>
                  <a:pt x="16247" y="18132"/>
                </a:cubicBezTo>
                <a:cubicBezTo>
                  <a:pt x="16301" y="18151"/>
                  <a:pt x="16361" y="18183"/>
                  <a:pt x="16421" y="18207"/>
                </a:cubicBezTo>
                <a:cubicBezTo>
                  <a:pt x="16474" y="18228"/>
                  <a:pt x="16537" y="18262"/>
                  <a:pt x="16594" y="18281"/>
                </a:cubicBezTo>
                <a:cubicBezTo>
                  <a:pt x="16646" y="18299"/>
                  <a:pt x="16709" y="18314"/>
                  <a:pt x="16768" y="18331"/>
                </a:cubicBezTo>
                <a:cubicBezTo>
                  <a:pt x="16823" y="18347"/>
                  <a:pt x="16862" y="18386"/>
                  <a:pt x="16892" y="18405"/>
                </a:cubicBezTo>
                <a:cubicBezTo>
                  <a:pt x="16903" y="18412"/>
                  <a:pt x="16957" y="18420"/>
                  <a:pt x="16966" y="18430"/>
                </a:cubicBezTo>
                <a:cubicBezTo>
                  <a:pt x="16966" y="18438"/>
                  <a:pt x="16966" y="18447"/>
                  <a:pt x="16966" y="18455"/>
                </a:cubicBezTo>
              </a:path>
              <a:path w="6004" h="2035">
                <a:moveTo>
                  <a:pt x="17636" y="18331"/>
                </a:moveTo>
                <a:cubicBezTo>
                  <a:pt x="17636" y="18306"/>
                  <a:pt x="17636" y="18281"/>
                  <a:pt x="17636" y="18256"/>
                </a:cubicBezTo>
                <a:cubicBezTo>
                  <a:pt x="17678" y="18357"/>
                  <a:pt x="17725" y="18448"/>
                  <a:pt x="17760" y="18554"/>
                </a:cubicBezTo>
                <a:cubicBezTo>
                  <a:pt x="17784" y="18624"/>
                  <a:pt x="17789" y="18632"/>
                  <a:pt x="17835" y="18678"/>
                </a:cubicBezTo>
              </a:path>
              <a:path w="6004" h="2035">
                <a:moveTo>
                  <a:pt x="18033" y="18182"/>
                </a:moveTo>
                <a:cubicBezTo>
                  <a:pt x="17981" y="18324"/>
                  <a:pt x="17950" y="18481"/>
                  <a:pt x="17909" y="18628"/>
                </a:cubicBezTo>
                <a:cubicBezTo>
                  <a:pt x="17896" y="18675"/>
                  <a:pt x="17782" y="18885"/>
                  <a:pt x="17810" y="18926"/>
                </a:cubicBezTo>
                <a:cubicBezTo>
                  <a:pt x="17818" y="18926"/>
                  <a:pt x="17827" y="18926"/>
                  <a:pt x="17835" y="18926"/>
                </a:cubicBezTo>
              </a:path>
              <a:path w="6004" h="2035">
                <a:moveTo>
                  <a:pt x="18455" y="18380"/>
                </a:moveTo>
                <a:cubicBezTo>
                  <a:pt x="18521" y="18380"/>
                  <a:pt x="18575" y="18370"/>
                  <a:pt x="18628" y="18355"/>
                </a:cubicBezTo>
                <a:cubicBezTo>
                  <a:pt x="18636" y="18355"/>
                  <a:pt x="18645" y="18355"/>
                  <a:pt x="18653" y="18355"/>
                </a:cubicBezTo>
              </a:path>
              <a:path w="6004" h="2035">
                <a:moveTo>
                  <a:pt x="18430" y="18529"/>
                </a:moveTo>
                <a:cubicBezTo>
                  <a:pt x="18438" y="18537"/>
                  <a:pt x="18447" y="18546"/>
                  <a:pt x="18455" y="18554"/>
                </a:cubicBezTo>
                <a:cubicBezTo>
                  <a:pt x="18512" y="18525"/>
                  <a:pt x="18607" y="18517"/>
                  <a:pt x="18678" y="18504"/>
                </a:cubicBezTo>
                <a:cubicBezTo>
                  <a:pt x="18703" y="18504"/>
                  <a:pt x="18711" y="18504"/>
                  <a:pt x="18728" y="18504"/>
                </a:cubicBezTo>
              </a:path>
              <a:path w="6004" h="2035">
                <a:moveTo>
                  <a:pt x="19174" y="18008"/>
                </a:moveTo>
                <a:cubicBezTo>
                  <a:pt x="19244" y="17952"/>
                  <a:pt x="19283" y="17918"/>
                  <a:pt x="19372" y="17909"/>
                </a:cubicBezTo>
                <a:cubicBezTo>
                  <a:pt x="19417" y="17909"/>
                  <a:pt x="19430" y="17906"/>
                  <a:pt x="19447" y="17934"/>
                </a:cubicBezTo>
                <a:cubicBezTo>
                  <a:pt x="19437" y="18058"/>
                  <a:pt x="19416" y="18141"/>
                  <a:pt x="19298" y="18207"/>
                </a:cubicBezTo>
                <a:cubicBezTo>
                  <a:pt x="19290" y="18207"/>
                  <a:pt x="19281" y="18207"/>
                  <a:pt x="19273" y="18207"/>
                </a:cubicBezTo>
                <a:cubicBezTo>
                  <a:pt x="19357" y="18198"/>
                  <a:pt x="19458" y="18146"/>
                  <a:pt x="19496" y="18256"/>
                </a:cubicBezTo>
                <a:cubicBezTo>
                  <a:pt x="19534" y="18366"/>
                  <a:pt x="19354" y="18462"/>
                  <a:pt x="19273" y="18479"/>
                </a:cubicBezTo>
                <a:cubicBezTo>
                  <a:pt x="19237" y="18487"/>
                  <a:pt x="19075" y="18498"/>
                  <a:pt x="19124" y="18405"/>
                </a:cubicBezTo>
                <a:cubicBezTo>
                  <a:pt x="19141" y="18388"/>
                  <a:pt x="19157" y="18372"/>
                  <a:pt x="19174" y="18355"/>
                </a:cubicBezTo>
              </a:path>
              <a:path w="6004" h="2035">
                <a:moveTo>
                  <a:pt x="19819" y="17934"/>
                </a:moveTo>
                <a:cubicBezTo>
                  <a:pt x="19819" y="18031"/>
                  <a:pt x="19810" y="18136"/>
                  <a:pt x="19794" y="18231"/>
                </a:cubicBezTo>
                <a:cubicBezTo>
                  <a:pt x="19777" y="18332"/>
                  <a:pt x="19755" y="18423"/>
                  <a:pt x="19844" y="18479"/>
                </a:cubicBezTo>
                <a:cubicBezTo>
                  <a:pt x="19942" y="18541"/>
                  <a:pt x="20068" y="18441"/>
                  <a:pt x="20117" y="18355"/>
                </a:cubicBezTo>
                <a:cubicBezTo>
                  <a:pt x="20137" y="18295"/>
                  <a:pt x="20155" y="18280"/>
                  <a:pt x="20117" y="18256"/>
                </a:cubicBezTo>
                <a:cubicBezTo>
                  <a:pt x="19992" y="18270"/>
                  <a:pt x="19950" y="18296"/>
                  <a:pt x="19893" y="18405"/>
                </a:cubicBezTo>
                <a:cubicBezTo>
                  <a:pt x="19885" y="18422"/>
                  <a:pt x="19877" y="18438"/>
                  <a:pt x="19869" y="18455"/>
                </a:cubicBezTo>
              </a:path>
              <a:path w="6004" h="2035">
                <a:moveTo>
                  <a:pt x="17289" y="17959"/>
                </a:moveTo>
                <a:cubicBezTo>
                  <a:pt x="17289" y="18033"/>
                  <a:pt x="17289" y="18058"/>
                  <a:pt x="17289" y="18132"/>
                </a:cubicBezTo>
                <a:cubicBezTo>
                  <a:pt x="17289" y="18304"/>
                  <a:pt x="17275" y="18486"/>
                  <a:pt x="17239" y="18653"/>
                </a:cubicBezTo>
                <a:cubicBezTo>
                  <a:pt x="17221" y="18737"/>
                  <a:pt x="17219" y="18794"/>
                  <a:pt x="17214" y="18876"/>
                </a:cubicBezTo>
                <a:cubicBezTo>
                  <a:pt x="17415" y="18876"/>
                  <a:pt x="17617" y="18884"/>
                  <a:pt x="17810" y="18901"/>
                </a:cubicBezTo>
                <a:cubicBezTo>
                  <a:pt x="18297" y="18943"/>
                  <a:pt x="18845" y="18917"/>
                  <a:pt x="19323" y="18876"/>
                </a:cubicBezTo>
                <a:cubicBezTo>
                  <a:pt x="19377" y="18871"/>
                  <a:pt x="19444" y="18876"/>
                  <a:pt x="19496" y="18876"/>
                </a:cubicBezTo>
                <a:cubicBezTo>
                  <a:pt x="19528" y="18876"/>
                  <a:pt x="19587" y="18876"/>
                  <a:pt x="19645" y="18876"/>
                </a:cubicBezTo>
                <a:cubicBezTo>
                  <a:pt x="19684" y="18876"/>
                  <a:pt x="19758" y="18876"/>
                  <a:pt x="19819" y="18876"/>
                </a:cubicBezTo>
                <a:cubicBezTo>
                  <a:pt x="19879" y="18876"/>
                  <a:pt x="19948" y="18856"/>
                  <a:pt x="19993" y="18852"/>
                </a:cubicBezTo>
                <a:cubicBezTo>
                  <a:pt x="20059" y="18847"/>
                  <a:pt x="20137" y="18833"/>
                  <a:pt x="20191" y="18827"/>
                </a:cubicBezTo>
                <a:cubicBezTo>
                  <a:pt x="20252" y="18820"/>
                  <a:pt x="20286" y="18839"/>
                  <a:pt x="20315" y="18802"/>
                </a:cubicBezTo>
                <a:cubicBezTo>
                  <a:pt x="20344" y="18765"/>
                  <a:pt x="20352" y="18721"/>
                  <a:pt x="20365" y="18678"/>
                </a:cubicBezTo>
                <a:cubicBezTo>
                  <a:pt x="20381" y="18622"/>
                  <a:pt x="20398" y="18559"/>
                  <a:pt x="20414" y="18504"/>
                </a:cubicBezTo>
                <a:cubicBezTo>
                  <a:pt x="20435" y="18430"/>
                  <a:pt x="20456" y="18358"/>
                  <a:pt x="20464" y="18281"/>
                </a:cubicBezTo>
                <a:cubicBezTo>
                  <a:pt x="20476" y="18162"/>
                  <a:pt x="20449" y="18044"/>
                  <a:pt x="20439" y="17934"/>
                </a:cubicBezTo>
                <a:cubicBezTo>
                  <a:pt x="20433" y="17869"/>
                  <a:pt x="20439" y="17801"/>
                  <a:pt x="20439" y="17735"/>
                </a:cubicBezTo>
                <a:cubicBezTo>
                  <a:pt x="20403" y="17732"/>
                  <a:pt x="20366" y="17714"/>
                  <a:pt x="20340" y="17711"/>
                </a:cubicBezTo>
                <a:cubicBezTo>
                  <a:pt x="20253" y="17701"/>
                  <a:pt x="20166" y="17713"/>
                  <a:pt x="20092" y="17735"/>
                </a:cubicBezTo>
                <a:cubicBezTo>
                  <a:pt x="20061" y="17744"/>
                  <a:pt x="20029" y="17751"/>
                  <a:pt x="19993" y="17760"/>
                </a:cubicBezTo>
                <a:cubicBezTo>
                  <a:pt x="19946" y="17772"/>
                  <a:pt x="19932" y="17797"/>
                  <a:pt x="19869" y="17785"/>
                </a:cubicBezTo>
                <a:cubicBezTo>
                  <a:pt x="19869" y="17785"/>
                  <a:pt x="19828" y="17761"/>
                  <a:pt x="19794" y="17760"/>
                </a:cubicBezTo>
                <a:cubicBezTo>
                  <a:pt x="19733" y="17758"/>
                  <a:pt x="19676" y="17740"/>
                  <a:pt x="19621" y="17735"/>
                </a:cubicBezTo>
                <a:cubicBezTo>
                  <a:pt x="19561" y="17730"/>
                  <a:pt x="19502" y="17717"/>
                  <a:pt x="19447" y="17711"/>
                </a:cubicBezTo>
                <a:cubicBezTo>
                  <a:pt x="19368" y="17703"/>
                  <a:pt x="19305" y="17689"/>
                  <a:pt x="19224" y="17686"/>
                </a:cubicBezTo>
                <a:cubicBezTo>
                  <a:pt x="19175" y="17684"/>
                  <a:pt x="19164" y="17673"/>
                  <a:pt x="19124" y="17661"/>
                </a:cubicBezTo>
                <a:cubicBezTo>
                  <a:pt x="19059" y="17641"/>
                  <a:pt x="18999" y="17631"/>
                  <a:pt x="18926" y="17611"/>
                </a:cubicBezTo>
                <a:cubicBezTo>
                  <a:pt x="18860" y="17593"/>
                  <a:pt x="18792" y="17581"/>
                  <a:pt x="18728" y="17562"/>
                </a:cubicBezTo>
                <a:cubicBezTo>
                  <a:pt x="18652" y="17540"/>
                  <a:pt x="18579" y="17499"/>
                  <a:pt x="18504" y="17487"/>
                </a:cubicBezTo>
                <a:cubicBezTo>
                  <a:pt x="18427" y="17475"/>
                  <a:pt x="18360" y="17464"/>
                  <a:pt x="18281" y="17462"/>
                </a:cubicBezTo>
                <a:cubicBezTo>
                  <a:pt x="18200" y="17460"/>
                  <a:pt x="18138" y="17440"/>
                  <a:pt x="18058" y="17438"/>
                </a:cubicBezTo>
                <a:cubicBezTo>
                  <a:pt x="17972" y="17436"/>
                  <a:pt x="17889" y="17429"/>
                  <a:pt x="17810" y="17462"/>
                </a:cubicBezTo>
                <a:cubicBezTo>
                  <a:pt x="17745" y="17489"/>
                  <a:pt x="17728" y="17541"/>
                  <a:pt x="17686" y="17587"/>
                </a:cubicBezTo>
                <a:cubicBezTo>
                  <a:pt x="17653" y="17624"/>
                  <a:pt x="17646" y="17666"/>
                  <a:pt x="17611" y="17711"/>
                </a:cubicBezTo>
                <a:cubicBezTo>
                  <a:pt x="17574" y="17759"/>
                  <a:pt x="17529" y="17778"/>
                  <a:pt x="17487" y="17810"/>
                </a:cubicBezTo>
                <a:cubicBezTo>
                  <a:pt x="17481" y="17815"/>
                  <a:pt x="17440" y="17859"/>
                  <a:pt x="17413" y="17859"/>
                </a:cubicBezTo>
                <a:cubicBezTo>
                  <a:pt x="17315" y="17859"/>
                  <a:pt x="17352" y="17845"/>
                  <a:pt x="17289" y="17859"/>
                </a:cubicBezTo>
              </a:path>
              <a:path w="6004" h="2035">
                <a:moveTo>
                  <a:pt x="14461" y="17810"/>
                </a:moveTo>
                <a:cubicBezTo>
                  <a:pt x="14562" y="17729"/>
                  <a:pt x="14662" y="17749"/>
                  <a:pt x="14784" y="17735"/>
                </a:cubicBezTo>
                <a:cubicBezTo>
                  <a:pt x="14943" y="17716"/>
                  <a:pt x="15125" y="17725"/>
                  <a:pt x="15280" y="17686"/>
                </a:cubicBezTo>
                <a:cubicBezTo>
                  <a:pt x="15320" y="17666"/>
                  <a:pt x="15336" y="17647"/>
                  <a:pt x="15329" y="17686"/>
                </a:cubicBezTo>
              </a:path>
              <a:path w="6004" h="2035">
                <a:moveTo>
                  <a:pt x="14808" y="17859"/>
                </a:moveTo>
                <a:cubicBezTo>
                  <a:pt x="14867" y="17898"/>
                  <a:pt x="14856" y="18072"/>
                  <a:pt x="14858" y="18157"/>
                </a:cubicBezTo>
                <a:cubicBezTo>
                  <a:pt x="14858" y="18264"/>
                  <a:pt x="14858" y="18289"/>
                  <a:pt x="14858" y="183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4840" y="3589200"/>
            <a:ext cx="277920" cy="358920"/>
          </a:xfrm>
          <a:custGeom>
            <a:avLst/>
            <a:gdLst/>
            <a:ahLst/>
            <a:rect l="l" t="t" r="r" b="b"/>
            <a:pathLst>
              <a:path w="769" h="994">
                <a:moveTo>
                  <a:pt x="695" y="10120"/>
                </a:moveTo>
                <a:cubicBezTo>
                  <a:pt x="798" y="10172"/>
                  <a:pt x="933" y="10269"/>
                  <a:pt x="967" y="10393"/>
                </a:cubicBezTo>
                <a:cubicBezTo>
                  <a:pt x="967" y="10426"/>
                  <a:pt x="967" y="10459"/>
                  <a:pt x="967" y="10492"/>
                </a:cubicBezTo>
              </a:path>
              <a:path w="769" h="994">
                <a:moveTo>
                  <a:pt x="794" y="10691"/>
                </a:moveTo>
                <a:cubicBezTo>
                  <a:pt x="931" y="10800"/>
                  <a:pt x="1042" y="10821"/>
                  <a:pt x="1191" y="10691"/>
                </a:cubicBezTo>
                <a:cubicBezTo>
                  <a:pt x="1357" y="10546"/>
                  <a:pt x="1404" y="10275"/>
                  <a:pt x="1265" y="10096"/>
                </a:cubicBezTo>
                <a:cubicBezTo>
                  <a:pt x="1088" y="9869"/>
                  <a:pt x="794" y="9964"/>
                  <a:pt x="645" y="10170"/>
                </a:cubicBezTo>
                <a:cubicBezTo>
                  <a:pt x="460" y="10426"/>
                  <a:pt x="634" y="10764"/>
                  <a:pt x="868" y="10914"/>
                </a:cubicBezTo>
                <a:cubicBezTo>
                  <a:pt x="1007" y="10961"/>
                  <a:pt x="1047" y="10979"/>
                  <a:pt x="1141" y="109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3956040"/>
            <a:ext cx="2919600" cy="2795760"/>
          </a:xfrm>
          <a:custGeom>
            <a:avLst/>
            <a:gdLst/>
            <a:ahLst/>
            <a:rect l="l" t="t" r="r" b="b"/>
            <a:pathLst>
              <a:path w="8112" h="7765">
                <a:moveTo>
                  <a:pt x="3646" y="18479"/>
                </a:moveTo>
                <a:cubicBezTo>
                  <a:pt x="3646" y="18487"/>
                  <a:pt x="3646" y="18496"/>
                  <a:pt x="3646" y="18504"/>
                </a:cubicBezTo>
              </a:path>
              <a:path w="8112" h="7765">
                <a:moveTo>
                  <a:pt x="3473" y="18752"/>
                </a:moveTo>
                <a:cubicBezTo>
                  <a:pt x="3497" y="18752"/>
                  <a:pt x="3505" y="18752"/>
                  <a:pt x="3497" y="18728"/>
                </a:cubicBezTo>
              </a:path>
              <a:path w="8112" h="7765">
                <a:moveTo>
                  <a:pt x="2356" y="12179"/>
                </a:moveTo>
                <a:cubicBezTo>
                  <a:pt x="2360" y="12181"/>
                  <a:pt x="2406" y="12226"/>
                  <a:pt x="2431" y="12229"/>
                </a:cubicBezTo>
                <a:cubicBezTo>
                  <a:pt x="2504" y="12239"/>
                  <a:pt x="2571" y="12209"/>
                  <a:pt x="2629" y="12204"/>
                </a:cubicBezTo>
                <a:cubicBezTo>
                  <a:pt x="2946" y="12176"/>
                  <a:pt x="3289" y="12203"/>
                  <a:pt x="3597" y="12229"/>
                </a:cubicBezTo>
                <a:cubicBezTo>
                  <a:pt x="3660" y="12234"/>
                  <a:pt x="3746" y="12250"/>
                  <a:pt x="3795" y="12254"/>
                </a:cubicBezTo>
                <a:cubicBezTo>
                  <a:pt x="4041" y="12272"/>
                  <a:pt x="4310" y="12248"/>
                  <a:pt x="4539" y="12229"/>
                </a:cubicBezTo>
                <a:cubicBezTo>
                  <a:pt x="4646" y="12220"/>
                  <a:pt x="4762" y="12212"/>
                  <a:pt x="4862" y="12204"/>
                </a:cubicBezTo>
                <a:cubicBezTo>
                  <a:pt x="4953" y="12197"/>
                  <a:pt x="5051" y="12186"/>
                  <a:pt x="5135" y="12179"/>
                </a:cubicBezTo>
                <a:cubicBezTo>
                  <a:pt x="5518" y="12149"/>
                  <a:pt x="5923" y="12181"/>
                  <a:pt x="6300" y="12204"/>
                </a:cubicBezTo>
                <a:cubicBezTo>
                  <a:pt x="6409" y="12211"/>
                  <a:pt x="6518" y="12220"/>
                  <a:pt x="6623" y="12229"/>
                </a:cubicBezTo>
                <a:cubicBezTo>
                  <a:pt x="6745" y="12239"/>
                  <a:pt x="6931" y="12261"/>
                  <a:pt x="7045" y="12254"/>
                </a:cubicBezTo>
                <a:cubicBezTo>
                  <a:pt x="7130" y="12249"/>
                  <a:pt x="7200" y="12254"/>
                  <a:pt x="7293" y="12254"/>
                </a:cubicBezTo>
                <a:cubicBezTo>
                  <a:pt x="7317" y="12254"/>
                  <a:pt x="7326" y="12254"/>
                  <a:pt x="7342" y="12254"/>
                </a:cubicBezTo>
              </a:path>
              <a:path w="8112" h="7765">
                <a:moveTo>
                  <a:pt x="3349" y="11112"/>
                </a:moveTo>
                <a:cubicBezTo>
                  <a:pt x="3402" y="11157"/>
                  <a:pt x="3407" y="11181"/>
                  <a:pt x="3448" y="11237"/>
                </a:cubicBezTo>
                <a:cubicBezTo>
                  <a:pt x="3569" y="11403"/>
                  <a:pt x="3706" y="11558"/>
                  <a:pt x="3845" y="11708"/>
                </a:cubicBezTo>
                <a:cubicBezTo>
                  <a:pt x="3916" y="11785"/>
                  <a:pt x="4075" y="11919"/>
                  <a:pt x="4118" y="12005"/>
                </a:cubicBezTo>
                <a:cubicBezTo>
                  <a:pt x="4138" y="12045"/>
                  <a:pt x="4116" y="12029"/>
                  <a:pt x="4142" y="12055"/>
                </a:cubicBezTo>
              </a:path>
              <a:path w="8112" h="7765">
                <a:moveTo>
                  <a:pt x="4366" y="11013"/>
                </a:moveTo>
                <a:cubicBezTo>
                  <a:pt x="4366" y="10988"/>
                  <a:pt x="4366" y="10980"/>
                  <a:pt x="4390" y="10988"/>
                </a:cubicBezTo>
                <a:cubicBezTo>
                  <a:pt x="4301" y="11050"/>
                  <a:pt x="4206" y="11134"/>
                  <a:pt x="4118" y="11212"/>
                </a:cubicBezTo>
                <a:cubicBezTo>
                  <a:pt x="3932" y="11376"/>
                  <a:pt x="3772" y="11558"/>
                  <a:pt x="3597" y="11733"/>
                </a:cubicBezTo>
                <a:cubicBezTo>
                  <a:pt x="3536" y="11794"/>
                  <a:pt x="3471" y="11881"/>
                  <a:pt x="3423" y="11931"/>
                </a:cubicBezTo>
                <a:cubicBezTo>
                  <a:pt x="3369" y="11988"/>
                  <a:pt x="3312" y="12041"/>
                  <a:pt x="3274" y="12105"/>
                </a:cubicBezTo>
                <a:cubicBezTo>
                  <a:pt x="3253" y="12140"/>
                  <a:pt x="3242" y="12157"/>
                  <a:pt x="3225" y="12179"/>
                </a:cubicBezTo>
              </a:path>
              <a:path w="8112" h="7765">
                <a:moveTo>
                  <a:pt x="3373" y="12576"/>
                </a:moveTo>
                <a:cubicBezTo>
                  <a:pt x="3424" y="12576"/>
                  <a:pt x="3326" y="12540"/>
                  <a:pt x="3299" y="12526"/>
                </a:cubicBezTo>
                <a:cubicBezTo>
                  <a:pt x="3226" y="12488"/>
                  <a:pt x="3183" y="12477"/>
                  <a:pt x="3101" y="12477"/>
                </a:cubicBezTo>
                <a:cubicBezTo>
                  <a:pt x="3044" y="12477"/>
                  <a:pt x="3023" y="12487"/>
                  <a:pt x="2977" y="12502"/>
                </a:cubicBezTo>
                <a:cubicBezTo>
                  <a:pt x="2928" y="12519"/>
                  <a:pt x="2906" y="12540"/>
                  <a:pt x="2902" y="12601"/>
                </a:cubicBezTo>
                <a:cubicBezTo>
                  <a:pt x="2897" y="12681"/>
                  <a:pt x="2926" y="12722"/>
                  <a:pt x="3001" y="12725"/>
                </a:cubicBezTo>
                <a:cubicBezTo>
                  <a:pt x="3107" y="12730"/>
                  <a:pt x="3170" y="12687"/>
                  <a:pt x="3249" y="12626"/>
                </a:cubicBezTo>
                <a:cubicBezTo>
                  <a:pt x="3278" y="12604"/>
                  <a:pt x="3291" y="12574"/>
                  <a:pt x="3299" y="12551"/>
                </a:cubicBezTo>
                <a:cubicBezTo>
                  <a:pt x="3336" y="12563"/>
                  <a:pt x="3342" y="12674"/>
                  <a:pt x="3349" y="12725"/>
                </a:cubicBezTo>
                <a:cubicBezTo>
                  <a:pt x="3359" y="12796"/>
                  <a:pt x="3349" y="12876"/>
                  <a:pt x="3349" y="12948"/>
                </a:cubicBezTo>
              </a:path>
              <a:path w="8112" h="7765">
                <a:moveTo>
                  <a:pt x="3646" y="12774"/>
                </a:moveTo>
                <a:cubicBezTo>
                  <a:pt x="3654" y="12774"/>
                  <a:pt x="3663" y="12774"/>
                  <a:pt x="3671" y="12774"/>
                </a:cubicBezTo>
                <a:cubicBezTo>
                  <a:pt x="3686" y="12848"/>
                  <a:pt x="3718" y="12851"/>
                  <a:pt x="3770" y="12898"/>
                </a:cubicBezTo>
                <a:cubicBezTo>
                  <a:pt x="3807" y="12932"/>
                  <a:pt x="3821" y="12998"/>
                  <a:pt x="3845" y="13022"/>
                </a:cubicBezTo>
                <a:cubicBezTo>
                  <a:pt x="3853" y="13022"/>
                  <a:pt x="3862" y="13022"/>
                  <a:pt x="3870" y="13022"/>
                </a:cubicBezTo>
              </a:path>
              <a:path w="8112" h="7765">
                <a:moveTo>
                  <a:pt x="3994" y="12799"/>
                </a:moveTo>
                <a:cubicBezTo>
                  <a:pt x="3994" y="12864"/>
                  <a:pt x="3990" y="12912"/>
                  <a:pt x="3969" y="12973"/>
                </a:cubicBezTo>
                <a:cubicBezTo>
                  <a:pt x="3936" y="13072"/>
                  <a:pt x="3899" y="13166"/>
                  <a:pt x="3894" y="13271"/>
                </a:cubicBezTo>
                <a:cubicBezTo>
                  <a:pt x="3891" y="13321"/>
                  <a:pt x="3912" y="13380"/>
                  <a:pt x="3870" y="13395"/>
                </a:cubicBezTo>
              </a:path>
              <a:path w="8112" h="7765">
                <a:moveTo>
                  <a:pt x="4688" y="12725"/>
                </a:moveTo>
                <a:cubicBezTo>
                  <a:pt x="4680" y="12725"/>
                  <a:pt x="4671" y="12725"/>
                  <a:pt x="4663" y="12725"/>
                </a:cubicBezTo>
                <a:cubicBezTo>
                  <a:pt x="4704" y="12725"/>
                  <a:pt x="4746" y="12725"/>
                  <a:pt x="4787" y="12725"/>
                </a:cubicBezTo>
              </a:path>
              <a:path w="8112" h="7765">
                <a:moveTo>
                  <a:pt x="4713" y="12849"/>
                </a:moveTo>
                <a:cubicBezTo>
                  <a:pt x="4738" y="12849"/>
                  <a:pt x="4762" y="12849"/>
                  <a:pt x="4787" y="12849"/>
                </a:cubicBezTo>
              </a:path>
              <a:path w="8112" h="7765">
                <a:moveTo>
                  <a:pt x="5432" y="12378"/>
                </a:moveTo>
                <a:cubicBezTo>
                  <a:pt x="5432" y="12303"/>
                  <a:pt x="5412" y="12476"/>
                  <a:pt x="5407" y="12551"/>
                </a:cubicBezTo>
                <a:cubicBezTo>
                  <a:pt x="5398" y="12671"/>
                  <a:pt x="5400" y="12780"/>
                  <a:pt x="5383" y="12898"/>
                </a:cubicBezTo>
              </a:path>
              <a:path w="8112" h="7765">
                <a:moveTo>
                  <a:pt x="6052" y="12502"/>
                </a:moveTo>
                <a:cubicBezTo>
                  <a:pt x="6007" y="12465"/>
                  <a:pt x="5944" y="12413"/>
                  <a:pt x="5879" y="12427"/>
                </a:cubicBezTo>
                <a:cubicBezTo>
                  <a:pt x="5817" y="12441"/>
                  <a:pt x="5729" y="12478"/>
                  <a:pt x="5705" y="12526"/>
                </a:cubicBezTo>
                <a:cubicBezTo>
                  <a:pt x="5666" y="12603"/>
                  <a:pt x="5678" y="12632"/>
                  <a:pt x="5755" y="12675"/>
                </a:cubicBezTo>
                <a:cubicBezTo>
                  <a:pt x="5844" y="12724"/>
                  <a:pt x="5958" y="12751"/>
                  <a:pt x="6003" y="12849"/>
                </a:cubicBezTo>
                <a:cubicBezTo>
                  <a:pt x="6045" y="12940"/>
                  <a:pt x="5893" y="12947"/>
                  <a:pt x="5854" y="12948"/>
                </a:cubicBezTo>
                <a:cubicBezTo>
                  <a:pt x="5774" y="12951"/>
                  <a:pt x="5787" y="12937"/>
                  <a:pt x="5730" y="12923"/>
                </a:cubicBezTo>
                <a:cubicBezTo>
                  <a:pt x="5730" y="12831"/>
                  <a:pt x="5737" y="12854"/>
                  <a:pt x="5804" y="12799"/>
                </a:cubicBezTo>
                <a:cubicBezTo>
                  <a:pt x="5852" y="12760"/>
                  <a:pt x="5942" y="12724"/>
                  <a:pt x="5978" y="12675"/>
                </a:cubicBezTo>
                <a:cubicBezTo>
                  <a:pt x="6038" y="12592"/>
                  <a:pt x="5998" y="12601"/>
                  <a:pt x="5953" y="12576"/>
                </a:cubicBezTo>
                <a:cubicBezTo>
                  <a:pt x="5945" y="12568"/>
                  <a:pt x="5936" y="12559"/>
                  <a:pt x="5928" y="12551"/>
                </a:cubicBezTo>
              </a:path>
              <a:path w="8112" h="7765">
                <a:moveTo>
                  <a:pt x="2977" y="13171"/>
                </a:moveTo>
                <a:cubicBezTo>
                  <a:pt x="3049" y="13171"/>
                  <a:pt x="3116" y="13157"/>
                  <a:pt x="3175" y="13146"/>
                </a:cubicBezTo>
                <a:cubicBezTo>
                  <a:pt x="3254" y="13131"/>
                  <a:pt x="3326" y="13143"/>
                  <a:pt x="3398" y="13122"/>
                </a:cubicBezTo>
                <a:cubicBezTo>
                  <a:pt x="3434" y="13112"/>
                  <a:pt x="3465" y="13108"/>
                  <a:pt x="3497" y="13097"/>
                </a:cubicBezTo>
                <a:cubicBezTo>
                  <a:pt x="3662" y="13041"/>
                  <a:pt x="3943" y="13097"/>
                  <a:pt x="4118" y="13097"/>
                </a:cubicBezTo>
              </a:path>
              <a:path w="8112" h="7765">
                <a:moveTo>
                  <a:pt x="5085" y="13171"/>
                </a:moveTo>
                <a:cubicBezTo>
                  <a:pt x="5164" y="13158"/>
                  <a:pt x="5225" y="13146"/>
                  <a:pt x="5308" y="13146"/>
                </a:cubicBezTo>
                <a:cubicBezTo>
                  <a:pt x="5469" y="13146"/>
                  <a:pt x="5622" y="13142"/>
                  <a:pt x="5779" y="13122"/>
                </a:cubicBezTo>
                <a:cubicBezTo>
                  <a:pt x="5933" y="13103"/>
                  <a:pt x="6109" y="13157"/>
                  <a:pt x="6251" y="13146"/>
                </a:cubicBezTo>
                <a:cubicBezTo>
                  <a:pt x="6329" y="13140"/>
                  <a:pt x="6370" y="13119"/>
                  <a:pt x="6424" y="13146"/>
                </a:cubicBezTo>
              </a:path>
              <a:path w="8112" h="7765">
                <a:moveTo>
                  <a:pt x="3522" y="13395"/>
                </a:moveTo>
                <a:cubicBezTo>
                  <a:pt x="3482" y="13382"/>
                  <a:pt x="3466" y="13350"/>
                  <a:pt x="3398" y="13345"/>
                </a:cubicBezTo>
                <a:cubicBezTo>
                  <a:pt x="3346" y="13341"/>
                  <a:pt x="3311" y="13337"/>
                  <a:pt x="3274" y="13370"/>
                </a:cubicBezTo>
                <a:cubicBezTo>
                  <a:pt x="3222" y="13417"/>
                  <a:pt x="3215" y="13373"/>
                  <a:pt x="3175" y="13444"/>
                </a:cubicBezTo>
                <a:cubicBezTo>
                  <a:pt x="3144" y="13499"/>
                  <a:pt x="3150" y="13532"/>
                  <a:pt x="3150" y="13593"/>
                </a:cubicBezTo>
                <a:cubicBezTo>
                  <a:pt x="3150" y="13656"/>
                  <a:pt x="3230" y="13643"/>
                  <a:pt x="3274" y="13643"/>
                </a:cubicBezTo>
                <a:cubicBezTo>
                  <a:pt x="3331" y="13643"/>
                  <a:pt x="3376" y="13603"/>
                  <a:pt x="3423" y="13568"/>
                </a:cubicBezTo>
                <a:cubicBezTo>
                  <a:pt x="3465" y="13537"/>
                  <a:pt x="3473" y="13518"/>
                  <a:pt x="3473" y="13469"/>
                </a:cubicBezTo>
                <a:cubicBezTo>
                  <a:pt x="3473" y="13426"/>
                  <a:pt x="3472" y="13429"/>
                  <a:pt x="3497" y="13395"/>
                </a:cubicBezTo>
                <a:cubicBezTo>
                  <a:pt x="3484" y="13492"/>
                  <a:pt x="3434" y="13585"/>
                  <a:pt x="3423" y="13692"/>
                </a:cubicBezTo>
                <a:cubicBezTo>
                  <a:pt x="3416" y="13762"/>
                  <a:pt x="3398" y="13823"/>
                  <a:pt x="3398" y="13891"/>
                </a:cubicBezTo>
                <a:cubicBezTo>
                  <a:pt x="3398" y="13927"/>
                  <a:pt x="3379" y="13949"/>
                  <a:pt x="3373" y="13990"/>
                </a:cubicBezTo>
              </a:path>
              <a:path w="8112" h="7765">
                <a:moveTo>
                  <a:pt x="5928" y="13395"/>
                </a:moveTo>
                <a:cubicBezTo>
                  <a:pt x="5936" y="13403"/>
                  <a:pt x="5945" y="13411"/>
                  <a:pt x="5953" y="13419"/>
                </a:cubicBezTo>
                <a:cubicBezTo>
                  <a:pt x="5948" y="13404"/>
                  <a:pt x="5929" y="13358"/>
                  <a:pt x="5904" y="13345"/>
                </a:cubicBezTo>
                <a:cubicBezTo>
                  <a:pt x="5861" y="13323"/>
                  <a:pt x="5809" y="13324"/>
                  <a:pt x="5779" y="13320"/>
                </a:cubicBezTo>
                <a:cubicBezTo>
                  <a:pt x="5750" y="13316"/>
                  <a:pt x="5670" y="13323"/>
                  <a:pt x="5655" y="13345"/>
                </a:cubicBezTo>
                <a:cubicBezTo>
                  <a:pt x="5621" y="13396"/>
                  <a:pt x="5611" y="13338"/>
                  <a:pt x="5581" y="13444"/>
                </a:cubicBezTo>
                <a:cubicBezTo>
                  <a:pt x="5568" y="13490"/>
                  <a:pt x="5580" y="13555"/>
                  <a:pt x="5606" y="13593"/>
                </a:cubicBezTo>
                <a:cubicBezTo>
                  <a:pt x="5637" y="13640"/>
                  <a:pt x="5715" y="13607"/>
                  <a:pt x="5755" y="13593"/>
                </a:cubicBezTo>
                <a:cubicBezTo>
                  <a:pt x="5804" y="13575"/>
                  <a:pt x="5829" y="13526"/>
                  <a:pt x="5854" y="13494"/>
                </a:cubicBezTo>
                <a:cubicBezTo>
                  <a:pt x="5879" y="13463"/>
                  <a:pt x="5880" y="13451"/>
                  <a:pt x="5904" y="13419"/>
                </a:cubicBezTo>
                <a:cubicBezTo>
                  <a:pt x="5904" y="13342"/>
                  <a:pt x="5872" y="13518"/>
                  <a:pt x="5854" y="13593"/>
                </a:cubicBezTo>
                <a:cubicBezTo>
                  <a:pt x="5834" y="13677"/>
                  <a:pt x="5797" y="13818"/>
                  <a:pt x="5779" y="13866"/>
                </a:cubicBezTo>
                <a:cubicBezTo>
                  <a:pt x="5779" y="13891"/>
                  <a:pt x="5779" y="13899"/>
                  <a:pt x="5804" y="13891"/>
                </a:cubicBezTo>
              </a:path>
              <a:path w="8112" h="7765">
                <a:moveTo>
                  <a:pt x="3150" y="12328"/>
                </a:moveTo>
                <a:cubicBezTo>
                  <a:pt x="3199" y="12377"/>
                  <a:pt x="3165" y="12408"/>
                  <a:pt x="3175" y="12477"/>
                </a:cubicBezTo>
                <a:cubicBezTo>
                  <a:pt x="3199" y="12641"/>
                  <a:pt x="3221" y="12806"/>
                  <a:pt x="3225" y="12973"/>
                </a:cubicBezTo>
                <a:cubicBezTo>
                  <a:pt x="3231" y="13211"/>
                  <a:pt x="3238" y="13463"/>
                  <a:pt x="3200" y="13692"/>
                </a:cubicBezTo>
                <a:cubicBezTo>
                  <a:pt x="3183" y="13793"/>
                  <a:pt x="3200" y="13912"/>
                  <a:pt x="3200" y="14015"/>
                </a:cubicBezTo>
                <a:cubicBezTo>
                  <a:pt x="3218" y="13961"/>
                  <a:pt x="3225" y="13974"/>
                  <a:pt x="3225" y="13841"/>
                </a:cubicBezTo>
                <a:cubicBezTo>
                  <a:pt x="3225" y="13428"/>
                  <a:pt x="3267" y="12978"/>
                  <a:pt x="3200" y="12576"/>
                </a:cubicBezTo>
                <a:cubicBezTo>
                  <a:pt x="3195" y="12545"/>
                  <a:pt x="3200" y="12508"/>
                  <a:pt x="3200" y="12477"/>
                </a:cubicBezTo>
              </a:path>
              <a:path w="8112" h="7765">
                <a:moveTo>
                  <a:pt x="3820" y="14932"/>
                </a:moveTo>
                <a:cubicBezTo>
                  <a:pt x="3820" y="14868"/>
                  <a:pt x="3797" y="15065"/>
                  <a:pt x="3795" y="15081"/>
                </a:cubicBezTo>
                <a:cubicBezTo>
                  <a:pt x="3788" y="15145"/>
                  <a:pt x="3795" y="15215"/>
                  <a:pt x="3795" y="15280"/>
                </a:cubicBezTo>
              </a:path>
              <a:path w="8112" h="7765">
                <a:moveTo>
                  <a:pt x="3621" y="15180"/>
                </a:moveTo>
                <a:cubicBezTo>
                  <a:pt x="3720" y="15180"/>
                  <a:pt x="3820" y="15180"/>
                  <a:pt x="3919" y="15180"/>
                </a:cubicBezTo>
              </a:path>
              <a:path w="8112" h="7765">
                <a:moveTo>
                  <a:pt x="4415" y="15081"/>
                </a:moveTo>
                <a:cubicBezTo>
                  <a:pt x="4415" y="15012"/>
                  <a:pt x="4440" y="15174"/>
                  <a:pt x="4440" y="15180"/>
                </a:cubicBezTo>
                <a:cubicBezTo>
                  <a:pt x="4443" y="15268"/>
                  <a:pt x="4448" y="15327"/>
                  <a:pt x="4415" y="15404"/>
                </a:cubicBezTo>
              </a:path>
              <a:path w="8112" h="7765">
                <a:moveTo>
                  <a:pt x="4738" y="15106"/>
                </a:moveTo>
                <a:cubicBezTo>
                  <a:pt x="4725" y="15183"/>
                  <a:pt x="4713" y="15249"/>
                  <a:pt x="4713" y="15329"/>
                </a:cubicBezTo>
                <a:cubicBezTo>
                  <a:pt x="4798" y="15340"/>
                  <a:pt x="4848" y="15334"/>
                  <a:pt x="4936" y="15329"/>
                </a:cubicBezTo>
                <a:cubicBezTo>
                  <a:pt x="4978" y="15329"/>
                  <a:pt x="4986" y="15329"/>
                  <a:pt x="5011" y="15329"/>
                </a:cubicBezTo>
              </a:path>
              <a:path w="8112" h="7765">
                <a:moveTo>
                  <a:pt x="5035" y="15032"/>
                </a:moveTo>
                <a:cubicBezTo>
                  <a:pt x="5010" y="15171"/>
                  <a:pt x="5012" y="15316"/>
                  <a:pt x="4986" y="15453"/>
                </a:cubicBezTo>
                <a:cubicBezTo>
                  <a:pt x="4966" y="15514"/>
                  <a:pt x="4968" y="15529"/>
                  <a:pt x="4936" y="15553"/>
                </a:cubicBezTo>
              </a:path>
              <a:path w="8112" h="7765">
                <a:moveTo>
                  <a:pt x="6102" y="15131"/>
                </a:moveTo>
                <a:cubicBezTo>
                  <a:pt x="6086" y="15084"/>
                  <a:pt x="6068" y="15128"/>
                  <a:pt x="6052" y="15081"/>
                </a:cubicBezTo>
                <a:cubicBezTo>
                  <a:pt x="6052" y="15161"/>
                  <a:pt x="6079" y="15319"/>
                  <a:pt x="6028" y="15354"/>
                </a:cubicBezTo>
              </a:path>
              <a:path w="8112" h="7765">
                <a:moveTo>
                  <a:pt x="5953" y="15329"/>
                </a:moveTo>
                <a:cubicBezTo>
                  <a:pt x="6043" y="15329"/>
                  <a:pt x="6113" y="15321"/>
                  <a:pt x="6201" y="15304"/>
                </a:cubicBezTo>
              </a:path>
              <a:path w="8112" h="7765">
                <a:moveTo>
                  <a:pt x="6449" y="15106"/>
                </a:moveTo>
                <a:cubicBezTo>
                  <a:pt x="6483" y="15218"/>
                  <a:pt x="6509" y="15357"/>
                  <a:pt x="6524" y="15478"/>
                </a:cubicBezTo>
                <a:cubicBezTo>
                  <a:pt x="6524" y="15536"/>
                  <a:pt x="6507" y="15561"/>
                  <a:pt x="6548" y="15553"/>
                </a:cubicBezTo>
              </a:path>
              <a:path w="8112" h="7765">
                <a:moveTo>
                  <a:pt x="6871" y="15081"/>
                </a:moveTo>
                <a:cubicBezTo>
                  <a:pt x="6862" y="15160"/>
                  <a:pt x="6827" y="15226"/>
                  <a:pt x="6821" y="15304"/>
                </a:cubicBezTo>
                <a:cubicBezTo>
                  <a:pt x="6815" y="15381"/>
                  <a:pt x="7005" y="15361"/>
                  <a:pt x="7045" y="15354"/>
                </a:cubicBezTo>
                <a:cubicBezTo>
                  <a:pt x="7130" y="15340"/>
                  <a:pt x="7147" y="15335"/>
                  <a:pt x="7193" y="15280"/>
                </a:cubicBezTo>
              </a:path>
              <a:path w="8112" h="7765">
                <a:moveTo>
                  <a:pt x="7144" y="14982"/>
                </a:moveTo>
                <a:cubicBezTo>
                  <a:pt x="7114" y="15159"/>
                  <a:pt x="7131" y="15358"/>
                  <a:pt x="7094" y="15528"/>
                </a:cubicBezTo>
                <a:cubicBezTo>
                  <a:pt x="7086" y="15536"/>
                  <a:pt x="7077" y="15545"/>
                  <a:pt x="7069" y="15553"/>
                </a:cubicBezTo>
              </a:path>
              <a:path w="8112" h="7765">
                <a:moveTo>
                  <a:pt x="2828" y="15900"/>
                </a:moveTo>
                <a:cubicBezTo>
                  <a:pt x="2897" y="15893"/>
                  <a:pt x="2991" y="15877"/>
                  <a:pt x="3076" y="15875"/>
                </a:cubicBezTo>
                <a:cubicBezTo>
                  <a:pt x="3273" y="15871"/>
                  <a:pt x="3476" y="15902"/>
                  <a:pt x="3671" y="15925"/>
                </a:cubicBezTo>
                <a:cubicBezTo>
                  <a:pt x="3928" y="15955"/>
                  <a:pt x="4184" y="15965"/>
                  <a:pt x="4440" y="15999"/>
                </a:cubicBezTo>
                <a:cubicBezTo>
                  <a:pt x="4628" y="16024"/>
                  <a:pt x="4820" y="16090"/>
                  <a:pt x="5011" y="16073"/>
                </a:cubicBezTo>
                <a:cubicBezTo>
                  <a:pt x="5149" y="16061"/>
                  <a:pt x="5293" y="16039"/>
                  <a:pt x="5432" y="16024"/>
                </a:cubicBezTo>
                <a:cubicBezTo>
                  <a:pt x="5624" y="16003"/>
                  <a:pt x="5786" y="16037"/>
                  <a:pt x="5978" y="16049"/>
                </a:cubicBezTo>
                <a:cubicBezTo>
                  <a:pt x="6173" y="16061"/>
                  <a:pt x="6357" y="16128"/>
                  <a:pt x="6548" y="16148"/>
                </a:cubicBezTo>
                <a:cubicBezTo>
                  <a:pt x="6756" y="16169"/>
                  <a:pt x="6958" y="16231"/>
                  <a:pt x="7169" y="16247"/>
                </a:cubicBezTo>
                <a:cubicBezTo>
                  <a:pt x="7392" y="16264"/>
                  <a:pt x="7615" y="16305"/>
                  <a:pt x="7838" y="16321"/>
                </a:cubicBezTo>
                <a:cubicBezTo>
                  <a:pt x="7982" y="16331"/>
                  <a:pt x="8118" y="16351"/>
                  <a:pt x="8260" y="16371"/>
                </a:cubicBezTo>
                <a:cubicBezTo>
                  <a:pt x="8268" y="16371"/>
                  <a:pt x="8277" y="16371"/>
                  <a:pt x="8285" y="16371"/>
                </a:cubicBezTo>
              </a:path>
              <a:path w="8112" h="7765">
                <a:moveTo>
                  <a:pt x="3894" y="14188"/>
                </a:moveTo>
                <a:cubicBezTo>
                  <a:pt x="3941" y="14282"/>
                  <a:pt x="3997" y="14369"/>
                  <a:pt x="4043" y="14461"/>
                </a:cubicBezTo>
                <a:cubicBezTo>
                  <a:pt x="4187" y="14749"/>
                  <a:pt x="4370" y="14997"/>
                  <a:pt x="4564" y="15255"/>
                </a:cubicBezTo>
                <a:cubicBezTo>
                  <a:pt x="4700" y="15436"/>
                  <a:pt x="4846" y="15605"/>
                  <a:pt x="4961" y="15801"/>
                </a:cubicBezTo>
                <a:cubicBezTo>
                  <a:pt x="4961" y="15829"/>
                  <a:pt x="4964" y="15839"/>
                  <a:pt x="4986" y="15850"/>
                </a:cubicBezTo>
              </a:path>
              <a:path w="8112" h="7765">
                <a:moveTo>
                  <a:pt x="5283" y="14288"/>
                </a:moveTo>
                <a:cubicBezTo>
                  <a:pt x="5243" y="14315"/>
                  <a:pt x="5248" y="14310"/>
                  <a:pt x="5209" y="14337"/>
                </a:cubicBezTo>
                <a:cubicBezTo>
                  <a:pt x="5063" y="14439"/>
                  <a:pt x="4933" y="14579"/>
                  <a:pt x="4812" y="14709"/>
                </a:cubicBezTo>
                <a:cubicBezTo>
                  <a:pt x="4583" y="14957"/>
                  <a:pt x="4334" y="15171"/>
                  <a:pt x="4068" y="15379"/>
                </a:cubicBezTo>
                <a:cubicBezTo>
                  <a:pt x="3989" y="15441"/>
                  <a:pt x="3881" y="15527"/>
                  <a:pt x="3820" y="15577"/>
                </a:cubicBezTo>
                <a:cubicBezTo>
                  <a:pt x="3792" y="15600"/>
                  <a:pt x="3790" y="15595"/>
                  <a:pt x="3770" y="15627"/>
                </a:cubicBezTo>
                <a:cubicBezTo>
                  <a:pt x="3749" y="15661"/>
                  <a:pt x="3714" y="15733"/>
                  <a:pt x="3696" y="15751"/>
                </a:cubicBezTo>
                <a:cubicBezTo>
                  <a:pt x="3688" y="15751"/>
                  <a:pt x="3679" y="15751"/>
                  <a:pt x="3671" y="15751"/>
                </a:cubicBezTo>
              </a:path>
              <a:path w="8112" h="7765">
                <a:moveTo>
                  <a:pt x="4415" y="16594"/>
                </a:moveTo>
                <a:cubicBezTo>
                  <a:pt x="4459" y="16580"/>
                  <a:pt x="4461" y="16566"/>
                  <a:pt x="4539" y="16545"/>
                </a:cubicBezTo>
                <a:cubicBezTo>
                  <a:pt x="4594" y="16530"/>
                  <a:pt x="4717" y="16486"/>
                  <a:pt x="4762" y="16545"/>
                </a:cubicBezTo>
                <a:cubicBezTo>
                  <a:pt x="4813" y="16611"/>
                  <a:pt x="4719" y="16699"/>
                  <a:pt x="4663" y="16743"/>
                </a:cubicBezTo>
                <a:cubicBezTo>
                  <a:pt x="4635" y="16765"/>
                  <a:pt x="4554" y="16837"/>
                  <a:pt x="4589" y="16768"/>
                </a:cubicBezTo>
                <a:cubicBezTo>
                  <a:pt x="4634" y="16768"/>
                  <a:pt x="4754" y="16763"/>
                  <a:pt x="4762" y="16842"/>
                </a:cubicBezTo>
                <a:cubicBezTo>
                  <a:pt x="4774" y="16964"/>
                  <a:pt x="4633" y="17027"/>
                  <a:pt x="4539" y="17041"/>
                </a:cubicBezTo>
                <a:cubicBezTo>
                  <a:pt x="4473" y="17051"/>
                  <a:pt x="4367" y="17031"/>
                  <a:pt x="4341" y="16991"/>
                </a:cubicBezTo>
              </a:path>
              <a:path w="8112" h="7765">
                <a:moveTo>
                  <a:pt x="4862" y="16768"/>
                </a:moveTo>
                <a:cubicBezTo>
                  <a:pt x="4950" y="16768"/>
                  <a:pt x="4952" y="16801"/>
                  <a:pt x="5011" y="16867"/>
                </a:cubicBezTo>
                <a:cubicBezTo>
                  <a:pt x="5064" y="16927"/>
                  <a:pt x="5094" y="16988"/>
                  <a:pt x="5110" y="17066"/>
                </a:cubicBezTo>
              </a:path>
              <a:path w="8112" h="7765">
                <a:moveTo>
                  <a:pt x="5209" y="16669"/>
                </a:moveTo>
                <a:cubicBezTo>
                  <a:pt x="5117" y="16724"/>
                  <a:pt x="5102" y="16819"/>
                  <a:pt x="5060" y="16917"/>
                </a:cubicBezTo>
                <a:cubicBezTo>
                  <a:pt x="5031" y="16984"/>
                  <a:pt x="5000" y="17056"/>
                  <a:pt x="4961" y="17115"/>
                </a:cubicBezTo>
              </a:path>
              <a:path w="8112" h="7765">
                <a:moveTo>
                  <a:pt x="5531" y="16743"/>
                </a:moveTo>
                <a:cubicBezTo>
                  <a:pt x="5531" y="16735"/>
                  <a:pt x="5531" y="16726"/>
                  <a:pt x="5531" y="16718"/>
                </a:cubicBezTo>
                <a:cubicBezTo>
                  <a:pt x="5593" y="16711"/>
                  <a:pt x="5641" y="16694"/>
                  <a:pt x="5705" y="16694"/>
                </a:cubicBezTo>
                <a:cubicBezTo>
                  <a:pt x="5733" y="16694"/>
                  <a:pt x="5744" y="16696"/>
                  <a:pt x="5755" y="16718"/>
                </a:cubicBezTo>
              </a:path>
              <a:path w="8112" h="7765">
                <a:moveTo>
                  <a:pt x="5457" y="16942"/>
                </a:moveTo>
                <a:cubicBezTo>
                  <a:pt x="5544" y="16959"/>
                  <a:pt x="5612" y="16947"/>
                  <a:pt x="5705" y="16942"/>
                </a:cubicBezTo>
                <a:cubicBezTo>
                  <a:pt x="5730" y="16942"/>
                  <a:pt x="5738" y="16942"/>
                  <a:pt x="5755" y="16942"/>
                </a:cubicBezTo>
              </a:path>
              <a:path w="8112" h="7765">
                <a:moveTo>
                  <a:pt x="6176" y="16446"/>
                </a:moveTo>
                <a:cubicBezTo>
                  <a:pt x="6230" y="16445"/>
                  <a:pt x="6224" y="16672"/>
                  <a:pt x="6226" y="16768"/>
                </a:cubicBezTo>
                <a:cubicBezTo>
                  <a:pt x="6228" y="16838"/>
                  <a:pt x="6187" y="16980"/>
                  <a:pt x="6226" y="16942"/>
                </a:cubicBezTo>
              </a:path>
              <a:path w="8112" h="7765">
                <a:moveTo>
                  <a:pt x="6995" y="16520"/>
                </a:moveTo>
                <a:cubicBezTo>
                  <a:pt x="6916" y="16480"/>
                  <a:pt x="6816" y="16495"/>
                  <a:pt x="6722" y="16495"/>
                </a:cubicBezTo>
                <a:cubicBezTo>
                  <a:pt x="6677" y="16495"/>
                  <a:pt x="6664" y="16499"/>
                  <a:pt x="6648" y="16470"/>
                </a:cubicBezTo>
                <a:cubicBezTo>
                  <a:pt x="6648" y="16553"/>
                  <a:pt x="6648" y="16635"/>
                  <a:pt x="6648" y="16718"/>
                </a:cubicBezTo>
                <a:cubicBezTo>
                  <a:pt x="6711" y="16718"/>
                  <a:pt x="6755" y="16696"/>
                  <a:pt x="6821" y="16694"/>
                </a:cubicBezTo>
                <a:cubicBezTo>
                  <a:pt x="6909" y="16691"/>
                  <a:pt x="7072" y="16693"/>
                  <a:pt x="7119" y="16793"/>
                </a:cubicBezTo>
                <a:cubicBezTo>
                  <a:pt x="7169" y="16898"/>
                  <a:pt x="7024" y="16979"/>
                  <a:pt x="6945" y="16991"/>
                </a:cubicBezTo>
                <a:cubicBezTo>
                  <a:pt x="6859" y="17004"/>
                  <a:pt x="6741" y="16982"/>
                  <a:pt x="6672" y="16942"/>
                </a:cubicBezTo>
              </a:path>
              <a:path w="8112" h="7765">
                <a:moveTo>
                  <a:pt x="4266" y="17413"/>
                </a:moveTo>
                <a:cubicBezTo>
                  <a:pt x="4187" y="17385"/>
                  <a:pt x="4342" y="17365"/>
                  <a:pt x="4366" y="17363"/>
                </a:cubicBezTo>
                <a:cubicBezTo>
                  <a:pt x="4573" y="17346"/>
                  <a:pt x="4758" y="17316"/>
                  <a:pt x="4961" y="17264"/>
                </a:cubicBezTo>
                <a:cubicBezTo>
                  <a:pt x="5032" y="17246"/>
                  <a:pt x="5125" y="17193"/>
                  <a:pt x="5159" y="17239"/>
                </a:cubicBezTo>
                <a:cubicBezTo>
                  <a:pt x="5182" y="17262"/>
                  <a:pt x="5190" y="17266"/>
                  <a:pt x="5184" y="17289"/>
                </a:cubicBezTo>
              </a:path>
              <a:path w="8112" h="7765">
                <a:moveTo>
                  <a:pt x="4589" y="17587"/>
                </a:moveTo>
                <a:cubicBezTo>
                  <a:pt x="4603" y="17545"/>
                  <a:pt x="4658" y="17532"/>
                  <a:pt x="4713" y="17512"/>
                </a:cubicBezTo>
                <a:cubicBezTo>
                  <a:pt x="4787" y="17485"/>
                  <a:pt x="4866" y="17476"/>
                  <a:pt x="4887" y="17562"/>
                </a:cubicBezTo>
                <a:cubicBezTo>
                  <a:pt x="4842" y="17633"/>
                  <a:pt x="4808" y="17659"/>
                  <a:pt x="4738" y="17711"/>
                </a:cubicBezTo>
                <a:cubicBezTo>
                  <a:pt x="4803" y="17711"/>
                  <a:pt x="4879" y="17654"/>
                  <a:pt x="4936" y="17711"/>
                </a:cubicBezTo>
                <a:cubicBezTo>
                  <a:pt x="5017" y="17791"/>
                  <a:pt x="4857" y="17920"/>
                  <a:pt x="4787" y="17934"/>
                </a:cubicBezTo>
                <a:cubicBezTo>
                  <a:pt x="4643" y="17962"/>
                  <a:pt x="4659" y="17906"/>
                  <a:pt x="4688" y="17810"/>
                </a:cubicBezTo>
              </a:path>
              <a:path w="8112" h="7765">
                <a:moveTo>
                  <a:pt x="6003" y="17338"/>
                </a:moveTo>
                <a:cubicBezTo>
                  <a:pt x="6132" y="17313"/>
                  <a:pt x="6268" y="17263"/>
                  <a:pt x="6400" y="17239"/>
                </a:cubicBezTo>
                <a:cubicBezTo>
                  <a:pt x="6570" y="17208"/>
                  <a:pt x="6750" y="17152"/>
                  <a:pt x="6921" y="17140"/>
                </a:cubicBezTo>
                <a:cubicBezTo>
                  <a:pt x="6974" y="17136"/>
                  <a:pt x="6935" y="17170"/>
                  <a:pt x="6921" y="17190"/>
                </a:cubicBezTo>
              </a:path>
              <a:path w="8112" h="7765">
                <a:moveTo>
                  <a:pt x="6226" y="17537"/>
                </a:moveTo>
                <a:cubicBezTo>
                  <a:pt x="6323" y="17537"/>
                  <a:pt x="6397" y="17474"/>
                  <a:pt x="6499" y="17462"/>
                </a:cubicBezTo>
                <a:cubicBezTo>
                  <a:pt x="6652" y="17444"/>
                  <a:pt x="6776" y="17490"/>
                  <a:pt x="6623" y="17611"/>
                </a:cubicBezTo>
                <a:cubicBezTo>
                  <a:pt x="6545" y="17663"/>
                  <a:pt x="6516" y="17681"/>
                  <a:pt x="6449" y="17686"/>
                </a:cubicBezTo>
                <a:cubicBezTo>
                  <a:pt x="6424" y="17711"/>
                  <a:pt x="6416" y="17719"/>
                  <a:pt x="6449" y="17686"/>
                </a:cubicBezTo>
                <a:cubicBezTo>
                  <a:pt x="6545" y="17650"/>
                  <a:pt x="6701" y="17578"/>
                  <a:pt x="6772" y="17711"/>
                </a:cubicBezTo>
                <a:cubicBezTo>
                  <a:pt x="6772" y="17727"/>
                  <a:pt x="6772" y="17744"/>
                  <a:pt x="6772" y="17760"/>
                </a:cubicBezTo>
                <a:cubicBezTo>
                  <a:pt x="6674" y="17858"/>
                  <a:pt x="6555" y="17903"/>
                  <a:pt x="6400" y="17884"/>
                </a:cubicBezTo>
                <a:cubicBezTo>
                  <a:pt x="6375" y="17876"/>
                  <a:pt x="6350" y="17867"/>
                  <a:pt x="6325" y="17859"/>
                </a:cubicBezTo>
              </a:path>
              <a:path w="8112" h="7765">
                <a:moveTo>
                  <a:pt x="4539" y="16818"/>
                </a:moveTo>
                <a:cubicBezTo>
                  <a:pt x="4539" y="16810"/>
                  <a:pt x="4539" y="16801"/>
                  <a:pt x="4539" y="16793"/>
                </a:cubicBezTo>
                <a:cubicBezTo>
                  <a:pt x="4524" y="16852"/>
                  <a:pt x="4506" y="16801"/>
                  <a:pt x="4539" y="16942"/>
                </a:cubicBezTo>
                <a:cubicBezTo>
                  <a:pt x="4573" y="17085"/>
                  <a:pt x="4628" y="17218"/>
                  <a:pt x="4663" y="17363"/>
                </a:cubicBezTo>
                <a:cubicBezTo>
                  <a:pt x="4687" y="17461"/>
                  <a:pt x="4698" y="17566"/>
                  <a:pt x="4713" y="17661"/>
                </a:cubicBezTo>
                <a:cubicBezTo>
                  <a:pt x="4722" y="17719"/>
                  <a:pt x="4729" y="17780"/>
                  <a:pt x="4738" y="17835"/>
                </a:cubicBezTo>
                <a:cubicBezTo>
                  <a:pt x="4745" y="17879"/>
                  <a:pt x="4760" y="17971"/>
                  <a:pt x="4762" y="17983"/>
                </a:cubicBezTo>
                <a:cubicBezTo>
                  <a:pt x="4770" y="18029"/>
                  <a:pt x="4762" y="18085"/>
                  <a:pt x="4762" y="18132"/>
                </a:cubicBezTo>
                <a:cubicBezTo>
                  <a:pt x="4755" y="18042"/>
                  <a:pt x="4753" y="17947"/>
                  <a:pt x="4738" y="17859"/>
                </a:cubicBezTo>
                <a:cubicBezTo>
                  <a:pt x="4717" y="17735"/>
                  <a:pt x="4693" y="17613"/>
                  <a:pt x="4688" y="17487"/>
                </a:cubicBezTo>
                <a:cubicBezTo>
                  <a:pt x="4684" y="17383"/>
                  <a:pt x="4674" y="17290"/>
                  <a:pt x="4663" y="17190"/>
                </a:cubicBezTo>
                <a:cubicBezTo>
                  <a:pt x="4655" y="17115"/>
                  <a:pt x="4651" y="17040"/>
                  <a:pt x="4638" y="16966"/>
                </a:cubicBezTo>
                <a:cubicBezTo>
                  <a:pt x="4623" y="16885"/>
                  <a:pt x="4579" y="16813"/>
                  <a:pt x="4564" y="16743"/>
                </a:cubicBezTo>
                <a:cubicBezTo>
                  <a:pt x="4553" y="16690"/>
                  <a:pt x="4564" y="16624"/>
                  <a:pt x="4564" y="16570"/>
                </a:cubicBezTo>
              </a:path>
              <a:path w="8112" h="7765">
                <a:moveTo>
                  <a:pt x="819" y="13915"/>
                </a:moveTo>
                <a:cubicBezTo>
                  <a:pt x="819" y="13840"/>
                  <a:pt x="842" y="13755"/>
                  <a:pt x="918" y="13717"/>
                </a:cubicBezTo>
                <a:cubicBezTo>
                  <a:pt x="934" y="13717"/>
                  <a:pt x="951" y="13717"/>
                  <a:pt x="967" y="13717"/>
                </a:cubicBezTo>
                <a:cubicBezTo>
                  <a:pt x="1004" y="13800"/>
                  <a:pt x="1032" y="13876"/>
                  <a:pt x="1042" y="13965"/>
                </a:cubicBezTo>
                <a:cubicBezTo>
                  <a:pt x="1094" y="13934"/>
                  <a:pt x="1153" y="13929"/>
                  <a:pt x="1166" y="14015"/>
                </a:cubicBezTo>
                <a:cubicBezTo>
                  <a:pt x="1185" y="14145"/>
                  <a:pt x="1149" y="14305"/>
                  <a:pt x="1017" y="14362"/>
                </a:cubicBezTo>
                <a:cubicBezTo>
                  <a:pt x="1000" y="14362"/>
                  <a:pt x="984" y="14362"/>
                  <a:pt x="967" y="14362"/>
                </a:cubicBezTo>
              </a:path>
              <a:path w="8112" h="7765">
                <a:moveTo>
                  <a:pt x="1091" y="14511"/>
                </a:moveTo>
                <a:cubicBezTo>
                  <a:pt x="1284" y="14499"/>
                  <a:pt x="1397" y="14458"/>
                  <a:pt x="1488" y="14263"/>
                </a:cubicBezTo>
                <a:cubicBezTo>
                  <a:pt x="1590" y="14043"/>
                  <a:pt x="1593" y="13751"/>
                  <a:pt x="1463" y="13543"/>
                </a:cubicBezTo>
                <a:cubicBezTo>
                  <a:pt x="1302" y="13285"/>
                  <a:pt x="1033" y="13161"/>
                  <a:pt x="769" y="13345"/>
                </a:cubicBezTo>
                <a:cubicBezTo>
                  <a:pt x="482" y="13545"/>
                  <a:pt x="348" y="13933"/>
                  <a:pt x="471" y="14263"/>
                </a:cubicBezTo>
                <a:cubicBezTo>
                  <a:pt x="555" y="14489"/>
                  <a:pt x="895" y="14983"/>
                  <a:pt x="1215" y="14858"/>
                </a:cubicBezTo>
                <a:cubicBezTo>
                  <a:pt x="1256" y="14817"/>
                  <a:pt x="1298" y="14775"/>
                  <a:pt x="1339" y="14734"/>
                </a:cubicBezTo>
              </a:path>
              <a:path w="8112" h="7765">
                <a:moveTo>
                  <a:pt x="8483" y="17264"/>
                </a:moveTo>
                <a:cubicBezTo>
                  <a:pt x="8508" y="17264"/>
                  <a:pt x="8516" y="17264"/>
                  <a:pt x="8533" y="172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89000" y="4187880"/>
            <a:ext cx="189000" cy="135000"/>
          </a:xfrm>
          <a:custGeom>
            <a:avLst/>
            <a:gdLst/>
            <a:ahLst/>
            <a:rect l="l" t="t" r="r" b="b"/>
            <a:pathLst>
              <a:path w="522" h="373">
                <a:moveTo>
                  <a:pt x="3349" y="11683"/>
                </a:moveTo>
                <a:cubicBezTo>
                  <a:pt x="3314" y="11671"/>
                  <a:pt x="3324" y="11676"/>
                  <a:pt x="3324" y="11633"/>
                </a:cubicBezTo>
                <a:cubicBezTo>
                  <a:pt x="3300" y="11739"/>
                  <a:pt x="3281" y="11847"/>
                  <a:pt x="3274" y="11956"/>
                </a:cubicBezTo>
                <a:cubicBezTo>
                  <a:pt x="3274" y="11981"/>
                  <a:pt x="3274" y="11989"/>
                  <a:pt x="3274" y="12005"/>
                </a:cubicBezTo>
              </a:path>
              <a:path w="522" h="373">
                <a:moveTo>
                  <a:pt x="3026" y="11906"/>
                </a:moveTo>
                <a:cubicBezTo>
                  <a:pt x="3102" y="11906"/>
                  <a:pt x="3175" y="11876"/>
                  <a:pt x="3249" y="11857"/>
                </a:cubicBezTo>
                <a:cubicBezTo>
                  <a:pt x="3336" y="11835"/>
                  <a:pt x="3436" y="11791"/>
                  <a:pt x="3522" y="11782"/>
                </a:cubicBezTo>
                <a:cubicBezTo>
                  <a:pt x="3530" y="11782"/>
                  <a:pt x="3539" y="11782"/>
                  <a:pt x="3547" y="117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01840" y="4187880"/>
            <a:ext cx="117360" cy="196920"/>
          </a:xfrm>
          <a:custGeom>
            <a:avLst/>
            <a:gdLst/>
            <a:ahLst/>
            <a:rect l="l" t="t" r="r" b="b"/>
            <a:pathLst>
              <a:path w="324" h="547">
                <a:moveTo>
                  <a:pt x="3969" y="11633"/>
                </a:moveTo>
                <a:cubicBezTo>
                  <a:pt x="3957" y="11707"/>
                  <a:pt x="3935" y="11771"/>
                  <a:pt x="3894" y="11832"/>
                </a:cubicBezTo>
                <a:cubicBezTo>
                  <a:pt x="4011" y="11849"/>
                  <a:pt x="4078" y="11851"/>
                  <a:pt x="4192" y="11832"/>
                </a:cubicBezTo>
                <a:cubicBezTo>
                  <a:pt x="4200" y="11832"/>
                  <a:pt x="4209" y="11832"/>
                  <a:pt x="4217" y="11832"/>
                </a:cubicBezTo>
              </a:path>
              <a:path w="324" h="547">
                <a:moveTo>
                  <a:pt x="4192" y="11633"/>
                </a:moveTo>
                <a:cubicBezTo>
                  <a:pt x="4192" y="11776"/>
                  <a:pt x="4202" y="11916"/>
                  <a:pt x="4167" y="12055"/>
                </a:cubicBezTo>
                <a:cubicBezTo>
                  <a:pt x="4149" y="12124"/>
                  <a:pt x="4119" y="12147"/>
                  <a:pt x="4167" y="121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11240" y="4241880"/>
            <a:ext cx="108000" cy="81000"/>
          </a:xfrm>
          <a:custGeom>
            <a:avLst/>
            <a:gdLst/>
            <a:ahLst/>
            <a:rect l="l" t="t" r="r" b="b"/>
            <a:pathLst>
              <a:path w="299" h="224">
                <a:moveTo>
                  <a:pt x="5407" y="11807"/>
                </a:moveTo>
                <a:lnTo>
                  <a:pt x="5407" y="11807"/>
                </a:lnTo>
                <a:lnTo>
                  <a:pt x="5407" y="11807"/>
                </a:lnTo>
                <a:lnTo>
                  <a:pt x="5407" y="11782"/>
                </a:lnTo>
                <a:lnTo>
                  <a:pt x="5407" y="11782"/>
                </a:lnTo>
                <a:lnTo>
                  <a:pt x="5407" y="11782"/>
                </a:lnTo>
                <a:lnTo>
                  <a:pt x="5407" y="11857"/>
                </a:lnTo>
                <a:lnTo>
                  <a:pt x="5407" y="11906"/>
                </a:lnTo>
                <a:lnTo>
                  <a:pt x="5407" y="11981"/>
                </a:lnTo>
                <a:lnTo>
                  <a:pt x="5407" y="11981"/>
                </a:lnTo>
                <a:lnTo>
                  <a:pt x="5407" y="12005"/>
                </a:lnTo>
                <a:lnTo>
                  <a:pt x="5407" y="12005"/>
                </a:lnTo>
              </a:path>
              <a:path w="299" h="224">
                <a:moveTo>
                  <a:pt x="5308" y="11981"/>
                </a:moveTo>
                <a:cubicBezTo>
                  <a:pt x="5390" y="11953"/>
                  <a:pt x="5471" y="11929"/>
                  <a:pt x="5556" y="11906"/>
                </a:cubicBezTo>
                <a:cubicBezTo>
                  <a:pt x="5573" y="11898"/>
                  <a:pt x="5589" y="11889"/>
                  <a:pt x="5606" y="118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60720" y="4187880"/>
            <a:ext cx="98280" cy="135000"/>
          </a:xfrm>
          <a:custGeom>
            <a:avLst/>
            <a:gdLst/>
            <a:ahLst/>
            <a:rect l="l" t="t" r="r" b="b"/>
            <a:pathLst>
              <a:path w="274" h="373">
                <a:moveTo>
                  <a:pt x="6028" y="11658"/>
                </a:moveTo>
                <a:cubicBezTo>
                  <a:pt x="6028" y="11700"/>
                  <a:pt x="5991" y="11801"/>
                  <a:pt x="6003" y="11832"/>
                </a:cubicBezTo>
                <a:cubicBezTo>
                  <a:pt x="6027" y="11892"/>
                  <a:pt x="6180" y="11835"/>
                  <a:pt x="6226" y="11832"/>
                </a:cubicBezTo>
                <a:cubicBezTo>
                  <a:pt x="6234" y="11832"/>
                  <a:pt x="6243" y="11832"/>
                  <a:pt x="6251" y="11832"/>
                </a:cubicBezTo>
              </a:path>
              <a:path w="274" h="373">
                <a:moveTo>
                  <a:pt x="6276" y="11633"/>
                </a:moveTo>
                <a:cubicBezTo>
                  <a:pt x="6259" y="11716"/>
                  <a:pt x="6251" y="11791"/>
                  <a:pt x="6251" y="11881"/>
                </a:cubicBezTo>
                <a:cubicBezTo>
                  <a:pt x="6251" y="11947"/>
                  <a:pt x="6251" y="11964"/>
                  <a:pt x="6251" y="120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81800" y="3714840"/>
            <a:ext cx="3098520" cy="669960"/>
          </a:xfrm>
          <a:custGeom>
            <a:avLst/>
            <a:gdLst/>
            <a:ahLst/>
            <a:rect l="l" t="t" r="r" b="b"/>
            <a:pathLst>
              <a:path w="8608" h="1861">
                <a:moveTo>
                  <a:pt x="17587" y="11336"/>
                </a:moveTo>
                <a:cubicBezTo>
                  <a:pt x="17587" y="11311"/>
                  <a:pt x="17587" y="11303"/>
                  <a:pt x="17587" y="11286"/>
                </a:cubicBezTo>
                <a:cubicBezTo>
                  <a:pt x="17587" y="11211"/>
                  <a:pt x="17604" y="11385"/>
                  <a:pt x="17611" y="11460"/>
                </a:cubicBezTo>
                <a:cubicBezTo>
                  <a:pt x="17622" y="11574"/>
                  <a:pt x="17611" y="11693"/>
                  <a:pt x="17611" y="11807"/>
                </a:cubicBezTo>
              </a:path>
              <a:path w="8608" h="1861">
                <a:moveTo>
                  <a:pt x="17388" y="11559"/>
                </a:moveTo>
                <a:cubicBezTo>
                  <a:pt x="17499" y="11573"/>
                  <a:pt x="17593" y="11562"/>
                  <a:pt x="17711" y="11559"/>
                </a:cubicBezTo>
                <a:cubicBezTo>
                  <a:pt x="17785" y="11559"/>
                  <a:pt x="17794" y="11559"/>
                  <a:pt x="17835" y="11559"/>
                </a:cubicBezTo>
              </a:path>
              <a:path w="8608" h="1861">
                <a:moveTo>
                  <a:pt x="18306" y="11336"/>
                </a:moveTo>
                <a:cubicBezTo>
                  <a:pt x="18234" y="11336"/>
                  <a:pt x="18152" y="11347"/>
                  <a:pt x="18083" y="11361"/>
                </a:cubicBezTo>
                <a:cubicBezTo>
                  <a:pt x="17936" y="11392"/>
                  <a:pt x="18004" y="11465"/>
                  <a:pt x="18008" y="11584"/>
                </a:cubicBezTo>
                <a:cubicBezTo>
                  <a:pt x="18008" y="11609"/>
                  <a:pt x="18008" y="11633"/>
                  <a:pt x="18008" y="11658"/>
                </a:cubicBezTo>
                <a:cubicBezTo>
                  <a:pt x="18066" y="11643"/>
                  <a:pt x="18113" y="11593"/>
                  <a:pt x="18182" y="11584"/>
                </a:cubicBezTo>
                <a:cubicBezTo>
                  <a:pt x="18301" y="11569"/>
                  <a:pt x="18391" y="11589"/>
                  <a:pt x="18355" y="11708"/>
                </a:cubicBezTo>
                <a:cubicBezTo>
                  <a:pt x="18320" y="11824"/>
                  <a:pt x="18173" y="11842"/>
                  <a:pt x="18058" y="11857"/>
                </a:cubicBezTo>
                <a:cubicBezTo>
                  <a:pt x="17989" y="11866"/>
                  <a:pt x="17978" y="11865"/>
                  <a:pt x="17934" y="11832"/>
                </a:cubicBezTo>
              </a:path>
              <a:path w="8608" h="1861">
                <a:moveTo>
                  <a:pt x="19521" y="11212"/>
                </a:moveTo>
                <a:cubicBezTo>
                  <a:pt x="19554" y="11342"/>
                  <a:pt x="19571" y="11450"/>
                  <a:pt x="19571" y="11584"/>
                </a:cubicBezTo>
                <a:cubicBezTo>
                  <a:pt x="19571" y="11609"/>
                  <a:pt x="19571" y="11617"/>
                  <a:pt x="19571" y="11633"/>
                </a:cubicBezTo>
              </a:path>
              <a:path w="8608" h="1861">
                <a:moveTo>
                  <a:pt x="19422" y="11485"/>
                </a:moveTo>
                <a:cubicBezTo>
                  <a:pt x="19510" y="11470"/>
                  <a:pt x="19609" y="11454"/>
                  <a:pt x="19695" y="11435"/>
                </a:cubicBezTo>
                <a:cubicBezTo>
                  <a:pt x="19836" y="11405"/>
                  <a:pt x="19724" y="11412"/>
                  <a:pt x="19794" y="11435"/>
                </a:cubicBezTo>
              </a:path>
              <a:path w="8608" h="1861">
                <a:moveTo>
                  <a:pt x="20290" y="11212"/>
                </a:moveTo>
                <a:cubicBezTo>
                  <a:pt x="20183" y="11212"/>
                  <a:pt x="19995" y="11167"/>
                  <a:pt x="19968" y="11261"/>
                </a:cubicBezTo>
                <a:cubicBezTo>
                  <a:pt x="19948" y="11330"/>
                  <a:pt x="19943" y="11365"/>
                  <a:pt x="19943" y="11435"/>
                </a:cubicBezTo>
                <a:cubicBezTo>
                  <a:pt x="19943" y="11443"/>
                  <a:pt x="19943" y="11452"/>
                  <a:pt x="19943" y="11460"/>
                </a:cubicBezTo>
                <a:cubicBezTo>
                  <a:pt x="20038" y="11407"/>
                  <a:pt x="20106" y="11375"/>
                  <a:pt x="20216" y="11410"/>
                </a:cubicBezTo>
                <a:cubicBezTo>
                  <a:pt x="20319" y="11443"/>
                  <a:pt x="20298" y="11581"/>
                  <a:pt x="20216" y="11633"/>
                </a:cubicBezTo>
                <a:cubicBezTo>
                  <a:pt x="20113" y="11698"/>
                  <a:pt x="19928" y="11700"/>
                  <a:pt x="19819" y="11683"/>
                </a:cubicBezTo>
              </a:path>
              <a:path w="8608" h="1861">
                <a:moveTo>
                  <a:pt x="15503" y="12154"/>
                </a:moveTo>
                <a:cubicBezTo>
                  <a:pt x="15597" y="12142"/>
                  <a:pt x="15679" y="12131"/>
                  <a:pt x="15776" y="12129"/>
                </a:cubicBezTo>
                <a:cubicBezTo>
                  <a:pt x="16198" y="12120"/>
                  <a:pt x="16627" y="12131"/>
                  <a:pt x="17041" y="12105"/>
                </a:cubicBezTo>
                <a:cubicBezTo>
                  <a:pt x="17173" y="12097"/>
                  <a:pt x="17312" y="12090"/>
                  <a:pt x="17438" y="12080"/>
                </a:cubicBezTo>
                <a:cubicBezTo>
                  <a:pt x="17535" y="12072"/>
                  <a:pt x="17645" y="12061"/>
                  <a:pt x="17735" y="12055"/>
                </a:cubicBezTo>
                <a:cubicBezTo>
                  <a:pt x="17972" y="12039"/>
                  <a:pt x="18230" y="12092"/>
                  <a:pt x="18455" y="12080"/>
                </a:cubicBezTo>
                <a:cubicBezTo>
                  <a:pt x="18516" y="12077"/>
                  <a:pt x="18585" y="12056"/>
                  <a:pt x="18653" y="12055"/>
                </a:cubicBezTo>
                <a:cubicBezTo>
                  <a:pt x="18763" y="12053"/>
                  <a:pt x="18869" y="12026"/>
                  <a:pt x="18976" y="12030"/>
                </a:cubicBezTo>
                <a:cubicBezTo>
                  <a:pt x="19070" y="12034"/>
                  <a:pt x="19152" y="12053"/>
                  <a:pt x="19248" y="12055"/>
                </a:cubicBezTo>
                <a:cubicBezTo>
                  <a:pt x="19311" y="12057"/>
                  <a:pt x="19363" y="12055"/>
                  <a:pt x="19422" y="12055"/>
                </a:cubicBezTo>
                <a:cubicBezTo>
                  <a:pt x="19557" y="12055"/>
                  <a:pt x="19719" y="12025"/>
                  <a:pt x="19844" y="12030"/>
                </a:cubicBezTo>
                <a:cubicBezTo>
                  <a:pt x="19939" y="12034"/>
                  <a:pt x="20040" y="12053"/>
                  <a:pt x="20141" y="12055"/>
                </a:cubicBezTo>
                <a:cubicBezTo>
                  <a:pt x="20270" y="12057"/>
                  <a:pt x="20385" y="12077"/>
                  <a:pt x="20513" y="12080"/>
                </a:cubicBezTo>
                <a:cubicBezTo>
                  <a:pt x="20629" y="12083"/>
                  <a:pt x="20760" y="12095"/>
                  <a:pt x="20861" y="12105"/>
                </a:cubicBezTo>
                <a:cubicBezTo>
                  <a:pt x="20902" y="12105"/>
                  <a:pt x="20910" y="12105"/>
                  <a:pt x="20935" y="12105"/>
                </a:cubicBezTo>
              </a:path>
              <a:path w="8608" h="1861">
                <a:moveTo>
                  <a:pt x="17289" y="10616"/>
                </a:moveTo>
                <a:cubicBezTo>
                  <a:pt x="17412" y="10778"/>
                  <a:pt x="17571" y="10918"/>
                  <a:pt x="17686" y="11088"/>
                </a:cubicBezTo>
                <a:cubicBezTo>
                  <a:pt x="17821" y="11287"/>
                  <a:pt x="17941" y="11490"/>
                  <a:pt x="18083" y="11683"/>
                </a:cubicBezTo>
                <a:cubicBezTo>
                  <a:pt x="18150" y="11774"/>
                  <a:pt x="18211" y="11899"/>
                  <a:pt x="18331" y="11931"/>
                </a:cubicBezTo>
                <a:cubicBezTo>
                  <a:pt x="18355" y="11931"/>
                  <a:pt x="18364" y="11931"/>
                  <a:pt x="18380" y="11931"/>
                </a:cubicBezTo>
              </a:path>
              <a:path w="8608" h="1861">
                <a:moveTo>
                  <a:pt x="18405" y="10492"/>
                </a:moveTo>
                <a:cubicBezTo>
                  <a:pt x="18414" y="10457"/>
                  <a:pt x="18418" y="10447"/>
                  <a:pt x="18405" y="10393"/>
                </a:cubicBezTo>
                <a:cubicBezTo>
                  <a:pt x="18405" y="10385"/>
                  <a:pt x="18405" y="10376"/>
                  <a:pt x="18405" y="10368"/>
                </a:cubicBezTo>
                <a:cubicBezTo>
                  <a:pt x="18327" y="10455"/>
                  <a:pt x="18292" y="10537"/>
                  <a:pt x="18231" y="10641"/>
                </a:cubicBezTo>
                <a:cubicBezTo>
                  <a:pt x="18059" y="10932"/>
                  <a:pt x="17878" y="11214"/>
                  <a:pt x="17711" y="11509"/>
                </a:cubicBezTo>
                <a:cubicBezTo>
                  <a:pt x="17627" y="11657"/>
                  <a:pt x="17528" y="11792"/>
                  <a:pt x="17438" y="11931"/>
                </a:cubicBezTo>
                <a:cubicBezTo>
                  <a:pt x="17423" y="11955"/>
                  <a:pt x="17447" y="11954"/>
                  <a:pt x="17438" y="11981"/>
                </a:cubicBezTo>
              </a:path>
              <a:path w="8608" h="1861">
                <a:moveTo>
                  <a:pt x="22002" y="10988"/>
                </a:moveTo>
                <a:cubicBezTo>
                  <a:pt x="22002" y="11096"/>
                  <a:pt x="22103" y="11217"/>
                  <a:pt x="22151" y="11311"/>
                </a:cubicBezTo>
                <a:cubicBezTo>
                  <a:pt x="22212" y="11430"/>
                  <a:pt x="22320" y="11541"/>
                  <a:pt x="22374" y="11658"/>
                </a:cubicBezTo>
                <a:cubicBezTo>
                  <a:pt x="22374" y="11666"/>
                  <a:pt x="22374" y="11675"/>
                  <a:pt x="22374" y="11683"/>
                </a:cubicBezTo>
              </a:path>
              <a:path w="8608" h="1861">
                <a:moveTo>
                  <a:pt x="22324" y="10840"/>
                </a:moveTo>
                <a:cubicBezTo>
                  <a:pt x="22295" y="11010"/>
                  <a:pt x="22239" y="11192"/>
                  <a:pt x="22200" y="11361"/>
                </a:cubicBezTo>
                <a:cubicBezTo>
                  <a:pt x="22167" y="11501"/>
                  <a:pt x="22124" y="11623"/>
                  <a:pt x="22076" y="11757"/>
                </a:cubicBezTo>
              </a:path>
              <a:path w="8608" h="1861">
                <a:moveTo>
                  <a:pt x="22572" y="11212"/>
                </a:moveTo>
                <a:cubicBezTo>
                  <a:pt x="22641" y="11212"/>
                  <a:pt x="22701" y="11190"/>
                  <a:pt x="22771" y="11187"/>
                </a:cubicBezTo>
                <a:cubicBezTo>
                  <a:pt x="22787" y="11187"/>
                  <a:pt x="22804" y="11187"/>
                  <a:pt x="22820" y="11187"/>
                </a:cubicBezTo>
              </a:path>
              <a:path w="8608" h="1861">
                <a:moveTo>
                  <a:pt x="22597" y="11460"/>
                </a:moveTo>
                <a:cubicBezTo>
                  <a:pt x="22680" y="11460"/>
                  <a:pt x="22762" y="11460"/>
                  <a:pt x="22845" y="11460"/>
                </a:cubicBezTo>
              </a:path>
              <a:path w="8608" h="1861">
                <a:moveTo>
                  <a:pt x="23292" y="10939"/>
                </a:moveTo>
                <a:cubicBezTo>
                  <a:pt x="23334" y="10910"/>
                  <a:pt x="23338" y="10862"/>
                  <a:pt x="23416" y="10815"/>
                </a:cubicBezTo>
                <a:cubicBezTo>
                  <a:pt x="23468" y="10784"/>
                  <a:pt x="23551" y="10744"/>
                  <a:pt x="23614" y="10765"/>
                </a:cubicBezTo>
                <a:cubicBezTo>
                  <a:pt x="23726" y="10802"/>
                  <a:pt x="23751" y="10871"/>
                  <a:pt x="23738" y="10988"/>
                </a:cubicBezTo>
                <a:cubicBezTo>
                  <a:pt x="23719" y="11155"/>
                  <a:pt x="23597" y="11251"/>
                  <a:pt x="23515" y="11385"/>
                </a:cubicBezTo>
                <a:cubicBezTo>
                  <a:pt x="23454" y="11486"/>
                  <a:pt x="23414" y="11612"/>
                  <a:pt x="23366" y="11708"/>
                </a:cubicBezTo>
                <a:cubicBezTo>
                  <a:pt x="23358" y="11716"/>
                  <a:pt x="23349" y="11725"/>
                  <a:pt x="23341" y="11733"/>
                </a:cubicBezTo>
                <a:cubicBezTo>
                  <a:pt x="23354" y="11666"/>
                  <a:pt x="23404" y="11597"/>
                  <a:pt x="23465" y="11559"/>
                </a:cubicBezTo>
                <a:cubicBezTo>
                  <a:pt x="23519" y="11526"/>
                  <a:pt x="23583" y="11613"/>
                  <a:pt x="23614" y="11633"/>
                </a:cubicBezTo>
                <a:cubicBezTo>
                  <a:pt x="23682" y="11678"/>
                  <a:pt x="23793" y="11671"/>
                  <a:pt x="23862" y="11633"/>
                </a:cubicBezTo>
                <a:cubicBezTo>
                  <a:pt x="23870" y="11625"/>
                  <a:pt x="23879" y="11617"/>
                  <a:pt x="23887" y="11609"/>
                </a:cubicBezTo>
              </a:path>
              <a:path w="8608" h="1861">
                <a:moveTo>
                  <a:pt x="23168" y="11187"/>
                </a:moveTo>
                <a:cubicBezTo>
                  <a:pt x="23263" y="11187"/>
                  <a:pt x="23439" y="11155"/>
                  <a:pt x="23515" y="11212"/>
                </a:cubicBezTo>
              </a:path>
              <a:path w="8608" h="1861">
                <a:moveTo>
                  <a:pt x="21555" y="10765"/>
                </a:moveTo>
                <a:cubicBezTo>
                  <a:pt x="21555" y="10898"/>
                  <a:pt x="21574" y="10979"/>
                  <a:pt x="21580" y="11112"/>
                </a:cubicBezTo>
                <a:cubicBezTo>
                  <a:pt x="21591" y="11378"/>
                  <a:pt x="21589" y="11641"/>
                  <a:pt x="21605" y="11906"/>
                </a:cubicBezTo>
                <a:cubicBezTo>
                  <a:pt x="21610" y="11979"/>
                  <a:pt x="21605" y="12055"/>
                  <a:pt x="21605" y="12129"/>
                </a:cubicBezTo>
                <a:cubicBezTo>
                  <a:pt x="21763" y="12149"/>
                  <a:pt x="21892" y="12137"/>
                  <a:pt x="22051" y="12129"/>
                </a:cubicBezTo>
                <a:cubicBezTo>
                  <a:pt x="22269" y="12118"/>
                  <a:pt x="22481" y="12143"/>
                  <a:pt x="22696" y="12154"/>
                </a:cubicBezTo>
                <a:cubicBezTo>
                  <a:pt x="22902" y="12164"/>
                  <a:pt x="23087" y="12159"/>
                  <a:pt x="23292" y="12154"/>
                </a:cubicBezTo>
                <a:cubicBezTo>
                  <a:pt x="23415" y="12151"/>
                  <a:pt x="23546" y="12131"/>
                  <a:pt x="23664" y="12105"/>
                </a:cubicBezTo>
                <a:cubicBezTo>
                  <a:pt x="23734" y="12089"/>
                  <a:pt x="23788" y="12092"/>
                  <a:pt x="23862" y="12080"/>
                </a:cubicBezTo>
                <a:cubicBezTo>
                  <a:pt x="23916" y="12072"/>
                  <a:pt x="23961" y="12036"/>
                  <a:pt x="24011" y="12030"/>
                </a:cubicBezTo>
                <a:cubicBezTo>
                  <a:pt x="24069" y="12023"/>
                  <a:pt x="24089" y="12041"/>
                  <a:pt x="24110" y="11981"/>
                </a:cubicBezTo>
                <a:cubicBezTo>
                  <a:pt x="24197" y="11727"/>
                  <a:pt x="24104" y="11295"/>
                  <a:pt x="24085" y="11038"/>
                </a:cubicBezTo>
                <a:cubicBezTo>
                  <a:pt x="24071" y="10856"/>
                  <a:pt x="24112" y="10666"/>
                  <a:pt x="24061" y="10492"/>
                </a:cubicBezTo>
                <a:cubicBezTo>
                  <a:pt x="24049" y="10452"/>
                  <a:pt x="24044" y="10429"/>
                  <a:pt x="24011" y="10418"/>
                </a:cubicBezTo>
                <a:cubicBezTo>
                  <a:pt x="23968" y="10404"/>
                  <a:pt x="23855" y="10397"/>
                  <a:pt x="23812" y="10393"/>
                </a:cubicBezTo>
                <a:cubicBezTo>
                  <a:pt x="23719" y="10384"/>
                  <a:pt x="23634" y="10354"/>
                  <a:pt x="23540" y="10344"/>
                </a:cubicBezTo>
                <a:cubicBezTo>
                  <a:pt x="23442" y="10333"/>
                  <a:pt x="23338" y="10328"/>
                  <a:pt x="23242" y="10319"/>
                </a:cubicBezTo>
                <a:cubicBezTo>
                  <a:pt x="23123" y="10308"/>
                  <a:pt x="23007" y="10326"/>
                  <a:pt x="22895" y="10319"/>
                </a:cubicBezTo>
                <a:cubicBezTo>
                  <a:pt x="22583" y="10300"/>
                  <a:pt x="22258" y="10315"/>
                  <a:pt x="21952" y="10344"/>
                </a:cubicBezTo>
                <a:cubicBezTo>
                  <a:pt x="21824" y="10356"/>
                  <a:pt x="21703" y="10403"/>
                  <a:pt x="21580" y="10418"/>
                </a:cubicBezTo>
                <a:cubicBezTo>
                  <a:pt x="21539" y="10423"/>
                  <a:pt x="21497" y="10415"/>
                  <a:pt x="21456" y="10418"/>
                </a:cubicBezTo>
                <a:cubicBezTo>
                  <a:pt x="21442" y="10505"/>
                  <a:pt x="21453" y="10572"/>
                  <a:pt x="21456" y="10666"/>
                </a:cubicBezTo>
                <a:cubicBezTo>
                  <a:pt x="21456" y="10707"/>
                  <a:pt x="21456" y="10715"/>
                  <a:pt x="21456" y="107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902200" y="4464000"/>
            <a:ext cx="554040" cy="206280"/>
          </a:xfrm>
          <a:custGeom>
            <a:avLst/>
            <a:gdLst/>
            <a:ahLst/>
            <a:rect l="l" t="t" r="r" b="b"/>
            <a:pathLst>
              <a:path w="1539" h="572">
                <a:moveTo>
                  <a:pt x="16396" y="12626"/>
                </a:moveTo>
                <a:cubicBezTo>
                  <a:pt x="16457" y="12614"/>
                  <a:pt x="16503" y="12601"/>
                  <a:pt x="16570" y="12601"/>
                </a:cubicBezTo>
                <a:cubicBezTo>
                  <a:pt x="16578" y="12601"/>
                  <a:pt x="16586" y="12601"/>
                  <a:pt x="16594" y="12601"/>
                </a:cubicBezTo>
              </a:path>
              <a:path w="1539" h="572">
                <a:moveTo>
                  <a:pt x="16867" y="12427"/>
                </a:moveTo>
                <a:cubicBezTo>
                  <a:pt x="16883" y="12380"/>
                  <a:pt x="17008" y="12425"/>
                  <a:pt x="17066" y="12427"/>
                </a:cubicBezTo>
                <a:cubicBezTo>
                  <a:pt x="17173" y="12430"/>
                  <a:pt x="17281" y="12427"/>
                  <a:pt x="17388" y="12427"/>
                </a:cubicBezTo>
                <a:cubicBezTo>
                  <a:pt x="17344" y="12524"/>
                  <a:pt x="17311" y="12632"/>
                  <a:pt x="17264" y="12725"/>
                </a:cubicBezTo>
                <a:cubicBezTo>
                  <a:pt x="17230" y="12792"/>
                  <a:pt x="17206" y="12833"/>
                  <a:pt x="17190" y="12898"/>
                </a:cubicBezTo>
              </a:path>
              <a:path w="1539" h="572">
                <a:moveTo>
                  <a:pt x="17636" y="12650"/>
                </a:moveTo>
                <a:cubicBezTo>
                  <a:pt x="17715" y="12666"/>
                  <a:pt x="17754" y="12717"/>
                  <a:pt x="17810" y="12774"/>
                </a:cubicBezTo>
                <a:cubicBezTo>
                  <a:pt x="17861" y="12825"/>
                  <a:pt x="17895" y="12848"/>
                  <a:pt x="17934" y="12898"/>
                </a:cubicBezTo>
              </a:path>
              <a:path w="1539" h="572">
                <a:moveTo>
                  <a:pt x="17934" y="12576"/>
                </a:moveTo>
                <a:cubicBezTo>
                  <a:pt x="17908" y="12652"/>
                  <a:pt x="17851" y="12750"/>
                  <a:pt x="17810" y="12824"/>
                </a:cubicBezTo>
                <a:cubicBezTo>
                  <a:pt x="17777" y="12883"/>
                  <a:pt x="17749" y="12916"/>
                  <a:pt x="17735" y="129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16800" y="4500720"/>
            <a:ext cx="162000" cy="134640"/>
          </a:xfrm>
          <a:custGeom>
            <a:avLst/>
            <a:gdLst/>
            <a:ahLst/>
            <a:rect l="l" t="t" r="r" b="b"/>
            <a:pathLst>
              <a:path w="448" h="373">
                <a:moveTo>
                  <a:pt x="18380" y="12502"/>
                </a:moveTo>
                <a:cubicBezTo>
                  <a:pt x="18454" y="12502"/>
                  <a:pt x="18507" y="12516"/>
                  <a:pt x="18579" y="12526"/>
                </a:cubicBezTo>
                <a:cubicBezTo>
                  <a:pt x="18590" y="12528"/>
                  <a:pt x="18696" y="12542"/>
                  <a:pt x="18703" y="12551"/>
                </a:cubicBezTo>
                <a:cubicBezTo>
                  <a:pt x="18703" y="12559"/>
                  <a:pt x="18703" y="12568"/>
                  <a:pt x="18703" y="12576"/>
                </a:cubicBezTo>
              </a:path>
              <a:path w="448" h="373">
                <a:moveTo>
                  <a:pt x="18529" y="12824"/>
                </a:moveTo>
                <a:cubicBezTo>
                  <a:pt x="18571" y="12856"/>
                  <a:pt x="18648" y="12866"/>
                  <a:pt x="18703" y="12874"/>
                </a:cubicBezTo>
                <a:cubicBezTo>
                  <a:pt x="18742" y="12880"/>
                  <a:pt x="18788" y="12874"/>
                  <a:pt x="18827" y="128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919920" y="4411800"/>
            <a:ext cx="260280" cy="258480"/>
          </a:xfrm>
          <a:custGeom>
            <a:avLst/>
            <a:gdLst/>
            <a:ahLst/>
            <a:rect l="l" t="t" r="r" b="b"/>
            <a:pathLst>
              <a:path w="720" h="720">
                <a:moveTo>
                  <a:pt x="19224" y="12378"/>
                </a:moveTo>
                <a:cubicBezTo>
                  <a:pt x="19224" y="12488"/>
                  <a:pt x="19259" y="12589"/>
                  <a:pt x="19248" y="12700"/>
                </a:cubicBezTo>
                <a:cubicBezTo>
                  <a:pt x="19245" y="12734"/>
                  <a:pt x="19186" y="12916"/>
                  <a:pt x="19224" y="12948"/>
                </a:cubicBezTo>
                <a:cubicBezTo>
                  <a:pt x="19232" y="12948"/>
                  <a:pt x="19240" y="12948"/>
                  <a:pt x="19248" y="12948"/>
                </a:cubicBezTo>
              </a:path>
              <a:path w="720" h="720">
                <a:moveTo>
                  <a:pt x="19546" y="12353"/>
                </a:moveTo>
                <a:cubicBezTo>
                  <a:pt x="19573" y="12406"/>
                  <a:pt x="19615" y="12417"/>
                  <a:pt x="19596" y="12502"/>
                </a:cubicBezTo>
                <a:cubicBezTo>
                  <a:pt x="19581" y="12570"/>
                  <a:pt x="19517" y="12626"/>
                  <a:pt x="19546" y="12626"/>
                </a:cubicBezTo>
                <a:cubicBezTo>
                  <a:pt x="19648" y="12626"/>
                  <a:pt x="19746" y="12573"/>
                  <a:pt x="19844" y="12551"/>
                </a:cubicBezTo>
                <a:cubicBezTo>
                  <a:pt x="19869" y="12551"/>
                  <a:pt x="19877" y="12551"/>
                  <a:pt x="19869" y="12576"/>
                </a:cubicBezTo>
              </a:path>
              <a:path w="720" h="720">
                <a:moveTo>
                  <a:pt x="19943" y="12254"/>
                </a:moveTo>
                <a:cubicBezTo>
                  <a:pt x="19921" y="12350"/>
                  <a:pt x="19943" y="12467"/>
                  <a:pt x="19943" y="12576"/>
                </a:cubicBezTo>
                <a:cubicBezTo>
                  <a:pt x="19943" y="12708"/>
                  <a:pt x="19943" y="12841"/>
                  <a:pt x="19943" y="129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75680" y="6018120"/>
            <a:ext cx="465120" cy="322200"/>
          </a:xfrm>
          <a:custGeom>
            <a:avLst/>
            <a:gdLst/>
            <a:ahLst/>
            <a:rect l="l" t="t" r="r" b="b"/>
            <a:pathLst>
              <a:path w="1291" h="894">
                <a:moveTo>
                  <a:pt x="20489" y="17140"/>
                </a:moveTo>
                <a:cubicBezTo>
                  <a:pt x="20559" y="17226"/>
                  <a:pt x="20611" y="17315"/>
                  <a:pt x="20662" y="17413"/>
                </a:cubicBezTo>
                <a:cubicBezTo>
                  <a:pt x="20682" y="17453"/>
                  <a:pt x="20758" y="17559"/>
                  <a:pt x="20762" y="17587"/>
                </a:cubicBezTo>
                <a:cubicBezTo>
                  <a:pt x="20762" y="17595"/>
                  <a:pt x="20762" y="17603"/>
                  <a:pt x="20762" y="17611"/>
                </a:cubicBezTo>
              </a:path>
              <a:path w="1291" h="894">
                <a:moveTo>
                  <a:pt x="20836" y="17140"/>
                </a:moveTo>
                <a:cubicBezTo>
                  <a:pt x="20752" y="17261"/>
                  <a:pt x="20674" y="17395"/>
                  <a:pt x="20588" y="17512"/>
                </a:cubicBezTo>
                <a:cubicBezTo>
                  <a:pt x="20563" y="17546"/>
                  <a:pt x="20537" y="17603"/>
                  <a:pt x="20513" y="17611"/>
                </a:cubicBezTo>
              </a:path>
              <a:path w="1291" h="894">
                <a:moveTo>
                  <a:pt x="21307" y="16892"/>
                </a:moveTo>
                <a:cubicBezTo>
                  <a:pt x="21307" y="16946"/>
                  <a:pt x="21378" y="16793"/>
                  <a:pt x="21406" y="16768"/>
                </a:cubicBezTo>
                <a:cubicBezTo>
                  <a:pt x="21534" y="16651"/>
                  <a:pt x="21616" y="16748"/>
                  <a:pt x="21605" y="16892"/>
                </a:cubicBezTo>
                <a:cubicBezTo>
                  <a:pt x="21592" y="17062"/>
                  <a:pt x="21501" y="17228"/>
                  <a:pt x="21406" y="17363"/>
                </a:cubicBezTo>
                <a:cubicBezTo>
                  <a:pt x="21345" y="17450"/>
                  <a:pt x="21279" y="17532"/>
                  <a:pt x="21208" y="17611"/>
                </a:cubicBezTo>
                <a:cubicBezTo>
                  <a:pt x="21198" y="17581"/>
                  <a:pt x="21267" y="17463"/>
                  <a:pt x="21332" y="17413"/>
                </a:cubicBezTo>
                <a:cubicBezTo>
                  <a:pt x="21382" y="17374"/>
                  <a:pt x="21461" y="17374"/>
                  <a:pt x="21506" y="17413"/>
                </a:cubicBezTo>
                <a:cubicBezTo>
                  <a:pt x="21594" y="17489"/>
                  <a:pt x="21648" y="17497"/>
                  <a:pt x="21754" y="17438"/>
                </a:cubicBezTo>
                <a:cubicBezTo>
                  <a:pt x="21762" y="17430"/>
                  <a:pt x="21771" y="17421"/>
                  <a:pt x="21779" y="174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9" name="suctio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9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mic Sans MS"/>
              </a:rPr>
              <a:t>Objective:  Students will solve 2-step equations.</a:t>
            </a:r>
            <a:br>
              <a:rPr sz="2800"/>
            </a:br>
            <a:r>
              <a:rPr b="1" lang="en-US" sz="2000" spc="-1" strike="noStrike">
                <a:solidFill>
                  <a:srgbClr val="009900"/>
                </a:solidFill>
                <a:latin typeface="Comic Sans MS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996840" y="838080"/>
          <a:ext cx="235116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6840" y="838080"/>
                    <a:ext cx="23511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1219320" y="1981080"/>
          <a:ext cx="175248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1981080"/>
                    <a:ext cx="17524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1066680" y="3657600"/>
          <a:ext cx="2286000" cy="52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3657600"/>
                    <a:ext cx="228600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1143000" y="4800600"/>
          <a:ext cx="1676520" cy="8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4800600"/>
                    <a:ext cx="167652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in" orient="horz"/>
    <p:sndAc>
      <p:stSnd>
        <p:snd r:embed="rId9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6870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b800"/>
                </a:solidFill>
                <a:latin typeface="Comic Sans MS"/>
              </a:rPr>
              <a:t>Objective:  Students will solve 2-step equations.</a:t>
            </a:r>
            <a:br>
              <a:rPr sz="2000"/>
            </a:br>
            <a:r>
              <a:rPr b="1" lang="en-US" sz="2800" spc="-1" strike="noStrike">
                <a:solidFill>
                  <a:srgbClr val="ffb800"/>
                </a:solidFill>
                <a:latin typeface="Comic Sans MS"/>
              </a:rPr>
              <a:t>Exit Ticket</a:t>
            </a:r>
            <a:r>
              <a:rPr b="1" lang="en-US" sz="2000" spc="-1" strike="noStrike">
                <a:solidFill>
                  <a:srgbClr val="ffb800"/>
                </a:solidFill>
                <a:latin typeface="Comic Sans MS"/>
              </a:rPr>
              <a:t>:  Solve, show work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447920" y="1981080"/>
          <a:ext cx="2628720" cy="6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81080"/>
                    <a:ext cx="262872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1523880" y="3124080"/>
          <a:ext cx="2952720" cy="59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124080"/>
                    <a:ext cx="295272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600200" y="4114800"/>
          <a:ext cx="1676520" cy="100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4114800"/>
                    <a:ext cx="167652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edge/>
    <p:sndAc>
      <p:stSnd>
        <p:snd r:embed="rId7" name="voltag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14600" y="533520"/>
            <a:ext cx="6400800" cy="774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mework: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85800" y="2425320"/>
            <a:ext cx="777240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rse 1:  E-76 Pizzazz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rse 2:  E-75 Pizzazz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5526000"/>
            <a:ext cx="493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est Frida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9T02:17:36Z</dcterms:created>
  <dc:creator>ccps</dc:creator>
  <dc:description/>
  <dc:language>en-US</dc:language>
  <cp:lastModifiedBy>ccps</cp:lastModifiedBy>
  <dcterms:modified xsi:type="dcterms:W3CDTF">2010-04-21T17:43:44Z</dcterms:modified>
  <cp:revision>12</cp:revision>
  <dc:subject/>
  <dc:title>Obj 7.5:  To solve two step equations.</dc:title>
</cp:coreProperties>
</file>